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B65-F51D-4662-BA65-74DDE879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E2C-660E-4643-9F26-031976BF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89D-FABC-4E2F-9B74-2BE720AA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BFC-D5BA-4DD1-A7F9-EF2B787F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A70-2CE1-4181-90F8-410F0AA6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8FB-F149-4F63-8E7D-CBA4229C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50A-E16E-48AD-A9B1-32368388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59B-5F5F-4802-89F8-FEFE60D7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806-2388-431D-ABB4-D9469737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7DC-867A-475A-873F-95065646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04F-AE37-406F-91A3-7AE6756D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870-4ADF-48D4-A153-4871E492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EC53-BFA9-4AA1-A508-8D88B73B7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186516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94640" y="4933800"/>
            <a:ext cx="1857240" cy="135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066680" y="4800600"/>
            <a:ext cx="1170000" cy="1752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934320" y="762120"/>
            <a:ext cx="1387440" cy="190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971800" y="4495680"/>
            <a:ext cx="3124080" cy="208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094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can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oggy dogg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97180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44197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486400" y="2666880"/>
            <a:ext cx="213372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flower that does not want to wor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62920" y="990720"/>
            <a:ext cx="1566720" cy="1676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142704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505320" y="1828800"/>
            <a:ext cx="1863720" cy="99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638680" y="2895480"/>
            <a:ext cx="3124440" cy="1785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20447400">
            <a:off x="1676520" y="411444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4:29:48Z</dcterms:created>
  <dc:creator>lslibrary</dc:creator>
  <dc:description/>
  <dc:language>en-US</dc:language>
  <cp:lastModifiedBy>lslibrary</cp:lastModifiedBy>
  <dcterms:modified xsi:type="dcterms:W3CDTF">2009-04-01T14:27:13Z</dcterms:modified>
  <cp:revision>3</cp:revision>
  <dc:subject/>
  <dc:title>Who is a library thief?</dc:title>
</cp:coreProperties>
</file>