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jpeg" ContentType="image/jpeg"/>
  <Override PartName="/ppt/media/image11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ECBD-5C3F-4984-9160-CFC135A8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EBF2-92ED-40C2-A47E-45D84CE2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F190-FAE1-4642-8C15-886D58FD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B56C-475F-4D3E-8B4B-5D54FC5E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39FB-F4A7-4606-B4D8-B14E563E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1989-A01F-4F1F-AC74-58AF5314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F4C-A0ED-4A0F-B6F3-1522B665A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D5A7-2AFB-4B0D-ACEB-127F6E12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5B39-4083-46E9-BB36-FDD508B7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A56-7B48-4A69-9A31-6522369B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D7A2-2971-4AF6-9A9C-FC73F02B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6D32-1B58-415A-ADC3-D67D2419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6E3D-F428-40A8-BAE3-C0499A7DD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wmf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8120" y="0"/>
            <a:ext cx="1865160" cy="2438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94640" y="4933800"/>
            <a:ext cx="1857240" cy="1359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066680" y="4800600"/>
            <a:ext cx="1170000" cy="1752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934320" y="762120"/>
            <a:ext cx="1387440" cy="19047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971800" y="4495680"/>
            <a:ext cx="3124080" cy="208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09480" y="9144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canin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oggy doggy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2971800" cy="2781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029200" y="441972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114800" y="1523880"/>
            <a:ext cx="1074600" cy="137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486400" y="2666880"/>
            <a:ext cx="213372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flower that does not want to work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62920" y="990720"/>
            <a:ext cx="1566720" cy="16761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1427040" cy="2133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505320" y="1828800"/>
            <a:ext cx="1863720" cy="990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5638680" y="2895480"/>
            <a:ext cx="3124440" cy="1785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rot="20447400">
            <a:off x="1676520" y="411444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4:29:48Z</dcterms:created>
  <dc:creator>lslibrary</dc:creator>
  <dc:description/>
  <dc:language>en-US</dc:language>
  <cp:lastModifiedBy>lslibrary</cp:lastModifiedBy>
  <dcterms:modified xsi:type="dcterms:W3CDTF">2009-04-01T14:27:13Z</dcterms:modified>
  <cp:revision>3</cp:revision>
  <dc:subject/>
  <dc:title>Who is a library thief?</dc:title>
</cp:coreProperties>
</file>