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A52-2E5D-4907-81C5-1737617D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5BC-DE28-449D-A455-5AFA900CE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8566-85AE-4440-AE27-B0F265B75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9B3-5C7A-46BF-9CA0-F3BCD24C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EABB-34D6-4DA9-9815-2F38CA3D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B08A-0A06-4673-AD07-686F2ACB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933-B02C-40B7-ADFA-4ACE7A2C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A784-B5CB-4131-8F1A-99E93BC9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45BC-6CF0-49BE-8F1C-24132BA9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289E-1ED2-4A93-B182-18DB166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816-247D-4286-905A-D9A8EC3A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E70E-9A92-43E3-8214-5902802A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3C15-B91F-40D8-82E4-2FD08C347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186516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94640" y="4933800"/>
            <a:ext cx="1857240" cy="135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117000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762120"/>
            <a:ext cx="1387440" cy="190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971800" y="4495680"/>
            <a:ext cx="3124080" cy="20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oggy dogg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97180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86400" y="2666880"/>
            <a:ext cx="2133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want to wor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5667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14270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38680" y="2895480"/>
            <a:ext cx="3124440" cy="1785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0447400">
            <a:off x="1676520" y="41144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4:29:48Z</dcterms:created>
  <dc:creator>lslibrary</dc:creator>
  <dc:description/>
  <dc:language>en-US</dc:language>
  <cp:lastModifiedBy>lslibrary</cp:lastModifiedBy>
  <dcterms:modified xsi:type="dcterms:W3CDTF">2009-04-01T14:27:13Z</dcterms:modified>
  <cp:revision>3</cp:revision>
  <dc:subject/>
  <dc:title>Who is a library thief?</dc:title>
</cp:coreProperties>
</file>