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9.jpeg" ContentType="image/jpeg"/>
  <Override PartName="/ppt/media/image11.jpeg" ContentType="image/jpeg"/>
  <Override PartName="/ppt/media/image13.wmf" ContentType="image/x-wmf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FE49-5AB7-431B-B7B0-561D843F9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7931-EEDA-47A4-AEFD-DA280A090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9C5B-B1D5-436E-B4F6-13F86E56D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5A26-D04D-4EA1-8EDF-52117EDAC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07FB-22E3-49CC-9D3D-0BC07FF6C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993C-3480-4737-81F0-23DF906A8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32E9-BB8F-4F8F-B213-E539EADAD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4408-E138-4C15-98A9-A8AF8ECC9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F390-8052-45BC-B29D-341C717EF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C4C5-6C13-4140-8F35-CD07F048E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D5F6-295A-42CA-B61C-9DACBDDD2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783E-3150-4086-BDE6-597CF5A7F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6902F-082C-4A68-9DAF-2784BE1F1D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wmf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is a library thief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ook crook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048120" y="0"/>
            <a:ext cx="1865160" cy="24382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794640" y="4933800"/>
            <a:ext cx="1857240" cy="1359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1066680" y="4800600"/>
            <a:ext cx="1170000" cy="17524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6934320" y="762120"/>
            <a:ext cx="1387440" cy="19047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2971800" y="4495680"/>
            <a:ext cx="3124080" cy="20862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609480" y="914400"/>
            <a:ext cx="167652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500"/>
                            </p:stCondLst>
                            <p:childTnLst>
                              <p:par>
                                <p:cTn id="1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o you call a wet canin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soggy doggy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33520" y="2590920"/>
            <a:ext cx="2971800" cy="27813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029200" y="4419720"/>
            <a:ext cx="3657600" cy="24382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4114800" y="1523880"/>
            <a:ext cx="1074600" cy="13716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5486400" y="2666880"/>
            <a:ext cx="2133720" cy="14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0"/>
                            </p:stCondLst>
                            <p:childTnLst>
                              <p:par>
                                <p:cTn id="2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500"/>
                            </p:stCondLst>
                            <p:childTnLst>
                              <p:par>
                                <p:cTn id="3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 you call a flower that does not want to work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162920" y="990720"/>
            <a:ext cx="1566720" cy="16761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57200" y="1143000"/>
            <a:ext cx="1427040" cy="21337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3505320" y="1828800"/>
            <a:ext cx="1863720" cy="990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5638680" y="2895480"/>
            <a:ext cx="3124440" cy="17859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 rot="20447400">
            <a:off x="1676520" y="411444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lazy dais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500"/>
                            </p:stCondLst>
                            <p:childTnLst>
                              <p:par>
                                <p:cTn id="4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5T14:29:48Z</dcterms:created>
  <dc:creator>lslibrary</dc:creator>
  <dc:description/>
  <dc:language>en-US</dc:language>
  <cp:lastModifiedBy>lslibrary</cp:lastModifiedBy>
  <dcterms:modified xsi:type="dcterms:W3CDTF">2009-04-01T14:27:13Z</dcterms:modified>
  <cp:revision>3</cp:revision>
  <dc:subject/>
  <dc:title>Who is a library thief?</dc:title>
</cp:coreProperties>
</file>