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13.wmf" ContentType="image/x-wm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0C9A-37D9-4785-B4F2-9C4407933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8C7B-7E74-4CC1-8FE0-C1F7DDF1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B5C6-DF6D-4CA4-94F3-513268258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7F39-C5FD-4CE7-A620-5331EE433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4240-E235-429E-95FF-C49D2117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35E5-419E-4689-A8D2-A0ECE89E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E709-F991-4A21-A3DF-2B951567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DF75-DA6E-48CD-9223-95A658CB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58F3-EDB9-4685-A28F-1A33AFA5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AC4F-7D54-4D4F-A652-0775AEED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B995-498F-486B-9ACF-162BD2FE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48A9-275C-489F-A4AF-F83F41E9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CEF1-0E7A-435B-A157-EF921C425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wmf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library thie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0"/>
            <a:ext cx="1865160" cy="2438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794640" y="4933800"/>
            <a:ext cx="1857240" cy="1359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066680" y="4800600"/>
            <a:ext cx="1170000" cy="1752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934320" y="762120"/>
            <a:ext cx="1387440" cy="1904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2971800" y="4495680"/>
            <a:ext cx="3124080" cy="2086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09480" y="9144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wet can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oggy doggy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2971800" cy="2781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029200" y="441972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114800" y="1523880"/>
            <a:ext cx="1074600" cy="1371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486400" y="2666880"/>
            <a:ext cx="213372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500"/>
                            </p:stCondLst>
                            <p:childTnLst>
                              <p:par>
                                <p:cTn id="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call a flower that does not want to work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62920" y="990720"/>
            <a:ext cx="1566720" cy="1676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1427040" cy="2133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505320" y="1828800"/>
            <a:ext cx="1863720" cy="990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638680" y="2895480"/>
            <a:ext cx="3124440" cy="1785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rot="20447400">
            <a:off x="1676520" y="411444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azy dai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4:29:48Z</dcterms:created>
  <dc:creator>lslibrary</dc:creator>
  <dc:description/>
  <dc:language>en-US</dc:language>
  <cp:lastModifiedBy>lslibrary</cp:lastModifiedBy>
  <dcterms:modified xsi:type="dcterms:W3CDTF">2009-04-01T14:27:13Z</dcterms:modified>
  <cp:revision>3</cp:revision>
  <dc:subject/>
  <dc:title>Who is a library thief?</dc:title>
</cp:coreProperties>
</file>