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32B5-53EC-4BEF-B7DA-01A0FB1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B56B-3B14-457F-B85C-DD73998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98CA-B372-46FD-845B-B6BFF3B6C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2139-37F8-41DA-BB96-789739E5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533-1B5D-48D6-BBB8-983101B9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44A7-729E-4FF8-A7DB-C42E005C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338-3C10-4D82-BA85-307038A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9B6B-50EC-4FBE-8E64-43746FC5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8F56-6255-4D7D-AA92-03BCFCC5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DF00-0730-4D12-B087-EF7FDEB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8DCB-21EB-45A2-9525-EF7AF5E6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4387-6ACB-450B-90D0-4C3F24DE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AD1C-41AF-49E5-8B49-59B598801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72440" y="2286000"/>
            <a:ext cx="1771560" cy="1066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422440" cy="1623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3581280" y="4648320"/>
            <a:ext cx="1841760" cy="1606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135840" y="3436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118200" y="200160"/>
            <a:ext cx="2217600" cy="19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ats glov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kitties m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1800360" cy="1835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33920" y="4572000"/>
            <a:ext cx="182232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746360" cy="2009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40600" y="4213080"/>
            <a:ext cx="1339920" cy="19782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1447920" y="533520"/>
            <a:ext cx="1844640" cy="1460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076640" y="90360"/>
            <a:ext cx="1889280" cy="1889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380880" y="2743200"/>
            <a:ext cx="259092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ake sho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kery bak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37000" y="179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62120" y="466560"/>
            <a:ext cx="1231920" cy="17938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77760" y="403200"/>
            <a:ext cx="2693880" cy="1920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6531120" y="4005360"/>
            <a:ext cx="2259000" cy="2243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228600" y="4114800"/>
            <a:ext cx="2765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1720800" cy="1797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05440" y="4002120"/>
            <a:ext cx="180036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22200" y="4098960"/>
            <a:ext cx="1812960" cy="17557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103800" y="363600"/>
            <a:ext cx="1911600" cy="191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0" y="3048120"/>
            <a:ext cx="26082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d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000920" y="4454640"/>
            <a:ext cx="1439640" cy="1733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862280" y="98280"/>
            <a:ext cx="1822320" cy="190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04800" y="4064040"/>
            <a:ext cx="193680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5Z</dcterms:created>
  <dc:creator>lslibrary</dc:creator>
  <dc:description/>
  <dc:language>en-US</dc:language>
  <cp:lastModifiedBy>lslibrary</cp:lastModifiedBy>
  <dcterms:modified xsi:type="dcterms:W3CDTF">2009-04-01T14:37:25Z</dcterms:modified>
  <cp:revision>3</cp:revision>
  <dc:subject/>
  <dc:title>Who is a library thief?</dc:title>
</cp:coreProperties>
</file>