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FFB5-FB63-413A-93D4-2CBD9C57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4BB-38F8-4666-9EC9-E129403D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B9D-1A31-41F8-8F3A-C8291D3E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B3F2-DC86-412E-A18D-CE7D20AA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76B-FE61-4A9C-9562-AC5CEB48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C29-9B8D-480C-A901-00E45703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6EC-15DE-4DEB-8AE2-BD422D7C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37E-DEFE-4B1B-85F6-2165B2E0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296-53C2-4B7A-9625-5477B709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0400-4BD9-4FCE-A367-DA907DF8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441-2408-4386-B454-A19FADA0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C22-A20A-4858-BA8E-C7EAEA57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DFB3-0EF6-44EB-B068-071360857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72440" y="2286000"/>
            <a:ext cx="1771560" cy="1066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2422440" cy="1623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1949400" cy="1650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581280" y="4648320"/>
            <a:ext cx="1841760" cy="160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135840" y="3436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118200" y="200160"/>
            <a:ext cx="221760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cats glov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itties m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1800360" cy="1835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733920" y="4572000"/>
            <a:ext cx="1822320" cy="1771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1746360" cy="2009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140600" y="4213080"/>
            <a:ext cx="1339920" cy="1978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447920" y="533520"/>
            <a:ext cx="1844640" cy="1460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4076640" y="90360"/>
            <a:ext cx="1889280" cy="1889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380880" y="2743200"/>
            <a:ext cx="25909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fake sho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kery bak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37000" y="179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62120" y="466560"/>
            <a:ext cx="1231920" cy="179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7760" y="403200"/>
            <a:ext cx="2693880" cy="1920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531120" y="4005360"/>
            <a:ext cx="2259000" cy="2243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28600" y="4114800"/>
            <a:ext cx="2765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lazy flow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1720800" cy="1797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05440" y="400212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2200" y="4098960"/>
            <a:ext cx="1812960" cy="1755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103800" y="363600"/>
            <a:ext cx="1911600" cy="191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0" y="3048120"/>
            <a:ext cx="26082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d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ggy dog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000920" y="4454640"/>
            <a:ext cx="1439640" cy="1733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862280" y="98280"/>
            <a:ext cx="1822320" cy="1901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04800" y="4064040"/>
            <a:ext cx="19368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05Z</dcterms:created>
  <dc:creator>lslibrary</dc:creator>
  <dc:description/>
  <dc:language>en-US</dc:language>
  <cp:lastModifiedBy>lslibrary</cp:lastModifiedBy>
  <dcterms:modified xsi:type="dcterms:W3CDTF">2009-04-01T14:37:25Z</dcterms:modified>
  <cp:revision>3</cp:revision>
  <dc:subject/>
  <dc:title>Who is a library thief?</dc:title>
</cp:coreProperties>
</file>