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wmf" ContentType="image/x-wmf"/>
  <Override PartName="/ppt/media/image24.wmf" ContentType="image/x-wmf"/>
  <Override PartName="/ppt/media/image25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48CE-65BE-43B1-AAED-EDB6096C9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06A3-95C9-46DD-82B6-930059643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7550-8CA1-4524-83EA-12447C7E8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3374-D36C-415D-BA6F-C197ADE2C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5146-C0B8-4A5A-805A-2CD452A9B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0199-1E6E-4C5F-94B0-41D7867B0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751C-2473-4E47-A269-84AC2F678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A8E5-FC88-4D6F-93A0-13038E777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7C93-0983-432D-B6D4-044914FDB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FC21-53F4-4FBD-A1E1-C73189E65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F67A-4C16-4E47-BD96-960FA038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81CE-BC23-4FAE-AAFD-268CB309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7C749-AC46-4CFB-B9D8-3B06119BB0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a library thief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ook croo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372440" y="2286000"/>
            <a:ext cx="1771560" cy="1066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743200" y="380880"/>
            <a:ext cx="2422440" cy="16239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85800" y="3429000"/>
            <a:ext cx="1949400" cy="16509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3581280" y="4648320"/>
            <a:ext cx="1841760" cy="1606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6135840" y="343692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6118200" y="200160"/>
            <a:ext cx="2217600" cy="19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indefinite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6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" dur="250" autoRev="1" fill="hold"/>
                                        <p:tgtEl>
                                          <p:spTgt spid="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call a cats glov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kitties m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781680" y="228600"/>
            <a:ext cx="1800360" cy="1835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733920" y="4572000"/>
            <a:ext cx="1822320" cy="17715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80880" y="4648320"/>
            <a:ext cx="1746360" cy="20095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7140600" y="4213080"/>
            <a:ext cx="1339920" cy="1978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1447920" y="533520"/>
            <a:ext cx="1844640" cy="14605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>
            <a:off x="4076640" y="90360"/>
            <a:ext cx="1889280" cy="1889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>
            <a:off x="380880" y="2743200"/>
            <a:ext cx="2590920" cy="17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call a fake shop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akery bake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437000" y="1792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562120" y="466560"/>
            <a:ext cx="1231920" cy="17938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77760" y="403200"/>
            <a:ext cx="2693880" cy="19209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6531120" y="4005360"/>
            <a:ext cx="2259000" cy="2243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228600" y="4114800"/>
            <a:ext cx="27655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call a lazy flow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azy dai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1720800" cy="1797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805440" y="400212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322200" y="4098960"/>
            <a:ext cx="1812960" cy="1755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6103800" y="363600"/>
            <a:ext cx="1911600" cy="19112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0" y="3048120"/>
            <a:ext cx="260820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call a wet do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oggy dog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000920" y="4454640"/>
            <a:ext cx="1439640" cy="1733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862280" y="98280"/>
            <a:ext cx="1822320" cy="19018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04800" y="4064040"/>
            <a:ext cx="1936800" cy="17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4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" dur="250" autoRev="1" fill="hold"/>
                                        <p:tgtEl>
                                          <p:spTgt spid="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5:36:05Z</dcterms:created>
  <dc:creator>lslibrary</dc:creator>
  <dc:description/>
  <dc:language>en-US</dc:language>
  <cp:lastModifiedBy>lslibrary</cp:lastModifiedBy>
  <dcterms:modified xsi:type="dcterms:W3CDTF">2009-04-01T14:37:25Z</dcterms:modified>
  <cp:revision>3</cp:revision>
  <dc:subject/>
  <dc:title>Who is a library thief?</dc:title>
</cp:coreProperties>
</file>