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EC5-66A7-429F-8FF6-15C90F32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9EA-7A69-4963-9911-6B2F0230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F97-FE72-4292-B3A7-E70ACE52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4B6-2C58-4E14-99AA-1D60A7BB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1FB-F963-4AE6-87B4-7AD73BE8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839-AF03-4490-9D73-6547375E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410-2ACB-44FF-B4F7-8A3A5930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7FA-D04F-4472-B206-0FB0FD4D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CCD-9EC7-4B2C-BB0E-AB2E6289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3ED-F54B-4AAA-851D-2A0EC963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952-9687-4199-AB02-472EF81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46F-46FB-4A71-9687-C336E4AE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9385-2FB0-4EE5-9734-174D689D8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72440" y="2286000"/>
            <a:ext cx="17715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2422440" cy="162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81280" y="4648320"/>
            <a:ext cx="1841760" cy="160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35840" y="3436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118200" y="200160"/>
            <a:ext cx="221760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ats glov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tties 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800360" cy="183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182232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746360" cy="20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140600" y="4213080"/>
            <a:ext cx="1339920" cy="197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447920" y="533520"/>
            <a:ext cx="1844640" cy="146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076640" y="9036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80880" y="2743200"/>
            <a:ext cx="25909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ake sho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kery bak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37000" y="179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62120" y="466560"/>
            <a:ext cx="1231920" cy="179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760" y="403200"/>
            <a:ext cx="2693880" cy="192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531120" y="4005360"/>
            <a:ext cx="2259000" cy="224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2765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720800" cy="17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05440" y="40021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2200" y="4098960"/>
            <a:ext cx="181296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03800" y="363600"/>
            <a:ext cx="1911600" cy="191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0" y="3048120"/>
            <a:ext cx="26082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d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00920" y="4454640"/>
            <a:ext cx="143964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62280" y="98280"/>
            <a:ext cx="1822320" cy="190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4800" y="4064040"/>
            <a:ext cx="19368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5Z</dcterms:created>
  <dc:creator>lslibrary</dc:creator>
  <dc:description/>
  <dc:language>en-US</dc:language>
  <cp:lastModifiedBy>lslibrary</cp:lastModifiedBy>
  <dcterms:modified xsi:type="dcterms:W3CDTF">2009-04-01T14:37:25Z</dcterms:modified>
  <cp:revision>3</cp:revision>
  <dc:subject/>
  <dc:title>Who is a library thief?</dc:title>
</cp:coreProperties>
</file>