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CAA-A5D4-4291-A933-B6EA0921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D19-2E2C-4104-8948-DEE6E9BC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990-6B0F-4895-8C85-314F29A9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7BB4-4097-49D3-A3B3-CFED86D52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BE8D-9839-4B34-99A4-33FD15C8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311F-5953-4E08-BE64-FFAD8A0E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84C-9C23-407A-80A2-6FEE820B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22B-ED0E-4B30-851F-B0FF7660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6F5F-71AB-4067-8EC3-0DDA992D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F2A1-B273-4FDD-B13D-6F0DDB18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4E3E-3771-47B5-AE20-FC30CF84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9250-9B38-4405-AD8A-1E2F9522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F723-FF5D-4106-AAE3-9D8BC2F20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72440" y="2286000"/>
            <a:ext cx="1771560" cy="1066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2422440" cy="1623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1949400" cy="1650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581280" y="4648320"/>
            <a:ext cx="1841760" cy="160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135840" y="3436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118200" y="200160"/>
            <a:ext cx="221760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cats glov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itties m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1800360" cy="1835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733920" y="4572000"/>
            <a:ext cx="1822320" cy="1771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1746360" cy="2009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140600" y="4213080"/>
            <a:ext cx="1339920" cy="1978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447920" y="533520"/>
            <a:ext cx="1844640" cy="1460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4076640" y="90360"/>
            <a:ext cx="1889280" cy="1889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380880" y="2743200"/>
            <a:ext cx="25909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fake sho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kery bak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37000" y="179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62120" y="466560"/>
            <a:ext cx="1231920" cy="179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7760" y="403200"/>
            <a:ext cx="2693880" cy="1920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531120" y="4005360"/>
            <a:ext cx="2259000" cy="2243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28600" y="4114800"/>
            <a:ext cx="2765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lazy flow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1720800" cy="1797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05440" y="400212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2200" y="4098960"/>
            <a:ext cx="1812960" cy="1755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103800" y="363600"/>
            <a:ext cx="1911600" cy="191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0" y="3048120"/>
            <a:ext cx="26082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d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ggy dog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00920" y="4454640"/>
            <a:ext cx="1439640" cy="1733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862280" y="98280"/>
            <a:ext cx="1822320" cy="1901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04800" y="4064040"/>
            <a:ext cx="19368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05Z</dcterms:created>
  <dc:creator>lslibrary</dc:creator>
  <dc:description/>
  <dc:language>en-US</dc:language>
  <cp:lastModifiedBy>lslibrary</cp:lastModifiedBy>
  <dcterms:modified xsi:type="dcterms:W3CDTF">2009-04-01T14:37:25Z</dcterms:modified>
  <cp:revision>3</cp:revision>
  <dc:subject/>
  <dc:title>Who is a library thief?</dc:title>
</cp:coreProperties>
</file>