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EA0-0789-4E39-A8EF-8BB8B171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1D4-5065-45EA-8477-129B807B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83A-9CD1-40B6-966F-9D0F417E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946-E96B-4D19-A09E-4511535A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A4B-F251-47C7-B1B5-2AB444A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9CC-BD99-490C-A3E8-67085E45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A0E-9D9F-4086-BC15-192E5B3B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1CA-A78B-499E-8C21-6D8F9AB8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A42-0839-4CF9-B976-DBFC89CF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8C2-5EAD-4868-91CB-3310E166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C8F-6697-40D2-88FF-7DED9B4E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397-CB53-4C79-AF09-E4166286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A0E7-71D9-4E41-A87C-98CC43BC8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4952880"/>
            <a:ext cx="1609920" cy="133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4419720"/>
            <a:ext cx="17618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evil kit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kitty wi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603520" cy="34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1825560" cy="168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1830240" cy="147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1825560" cy="135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781680" y="609480"/>
            <a:ext cx="202248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28600" y="3429000"/>
            <a:ext cx="1873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ppy p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a guy who pokes pup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1820880" cy="124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6000" y="2898720"/>
            <a:ext cx="2463840" cy="34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246996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00600" y="0"/>
            <a:ext cx="186372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572000"/>
            <a:ext cx="1863720" cy="1270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299360" y="4572000"/>
            <a:ext cx="1844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9:13Z</dcterms:created>
  <dc:creator>lslibrary</dc:creator>
  <dc:description/>
  <dc:language>en-US</dc:language>
  <cp:lastModifiedBy>lslibrary</cp:lastModifiedBy>
  <dcterms:modified xsi:type="dcterms:W3CDTF">2009-04-01T14:46:18Z</dcterms:modified>
  <cp:revision>3</cp:revision>
  <dc:subject/>
  <dc:title>Who is the library thief?</dc:title>
</cp:coreProperties>
</file>