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22F9-5A59-483C-BD4F-B75897B68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519-69F1-4BBA-B19E-09B51C44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59B-C439-4286-8C1A-C12FC0287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291C-8D9D-42CD-8B11-2BD67E7F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1176-7166-4D09-9890-56658FD3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70B8-01FC-40B0-A0B9-3C5334E5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C72D-7319-4A76-9DCA-F1E154397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773-DCD6-42F2-A424-C4025AA2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AD35-4D98-43E9-AA0B-A17C87ED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AFA6-989E-4771-88EB-7797154F7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3F57-5ED9-468B-AFF9-94668900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E09B-C335-4B88-ABD6-C0D35BDF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8002-95FB-4C5A-AA92-606FAC0293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the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4952880"/>
            <a:ext cx="1609920" cy="1339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990720" y="4419720"/>
            <a:ext cx="17618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77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evil kitty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n kitty wi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324480" y="3200400"/>
            <a:ext cx="2603520" cy="3468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4648320"/>
            <a:ext cx="1825560" cy="1687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505320" y="4876920"/>
            <a:ext cx="1830240" cy="1474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762120" y="533520"/>
            <a:ext cx="1825560" cy="1358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6781680" y="609480"/>
            <a:ext cx="2022480" cy="1622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228600" y="3429000"/>
            <a:ext cx="18730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500"/>
                            </p:stCondLst>
                            <p:childTnLst>
                              <p:par>
                                <p:cTn id="4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500"/>
                            </p:stCondLst>
                            <p:childTnLst>
                              <p:par>
                                <p:cTn id="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ppy po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a guy who pokes pupp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629400" y="3581280"/>
            <a:ext cx="1820880" cy="1241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16000" y="2898720"/>
            <a:ext cx="2463840" cy="3468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019920" y="0"/>
            <a:ext cx="2469960" cy="2209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800600" y="0"/>
            <a:ext cx="1863720" cy="1266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743200" y="4572000"/>
            <a:ext cx="1863720" cy="12700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7299360" y="4572000"/>
            <a:ext cx="18446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8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29:13Z</dcterms:created>
  <dc:creator>lslibrary</dc:creator>
  <dc:description/>
  <dc:language>en-US</dc:language>
  <cp:lastModifiedBy>lslibrary</cp:lastModifiedBy>
  <dcterms:modified xsi:type="dcterms:W3CDTF">2009-04-01T14:46:18Z</dcterms:modified>
  <cp:revision>3</cp:revision>
  <dc:subject/>
  <dc:title>Who is the library thief?</dc:title>
</cp:coreProperties>
</file>