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19E5-24A0-4F70-AF1C-F0A2BD9F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3581-7EE5-4592-9D26-B8104968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E8C-D302-4427-8D10-0B889DED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A59-5F45-4D4D-A1BC-F3E50EE84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AD49-BC01-4445-916D-42E44F14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EF06-CA73-4207-A03D-23D152C8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631-4024-493F-B4A4-8517D619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CF87-0442-463F-B9AB-DD95462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6D3-2B8F-4A96-80E9-48B32BA9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9A7-D6C8-437B-9FAD-E592D2AA5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F0C-77F1-467E-97F3-2DAB3411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40A-D757-42BD-B3F0-C6657DA4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B6FF8-5744-4FB2-9D30-A1770CF4AD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e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4952880"/>
            <a:ext cx="1609920" cy="133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4419720"/>
            <a:ext cx="17618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evil kit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kitty wi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2603520" cy="346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1825560" cy="168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1830240" cy="147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1825560" cy="135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781680" y="609480"/>
            <a:ext cx="202248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28600" y="3429000"/>
            <a:ext cx="1873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6500"/>
                            </p:stCondLst>
                            <p:childTnLst>
                              <p:par>
                                <p:cTn id="4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5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ppy p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a guy who pokes pup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1820880" cy="124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6000" y="2898720"/>
            <a:ext cx="2463840" cy="346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246996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00600" y="0"/>
            <a:ext cx="186372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572000"/>
            <a:ext cx="1863720" cy="1270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299360" y="4572000"/>
            <a:ext cx="1844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9:13Z</dcterms:created>
  <dc:creator>lslibrary</dc:creator>
  <dc:description/>
  <dc:language>en-US</dc:language>
  <cp:lastModifiedBy>lslibrary</cp:lastModifiedBy>
  <dcterms:modified xsi:type="dcterms:W3CDTF">2009-04-01T14:46:18Z</dcterms:modified>
  <cp:revision>3</cp:revision>
  <dc:subject/>
  <dc:title>Who is the library thief?</dc:title>
</cp:coreProperties>
</file>