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668-48EF-4F71-B1A2-4852B705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B64-A7A4-4BB7-97CE-53CC869F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EEA-ACFE-4F72-A120-2820A479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DC2-2AE7-4B4A-A1B4-B909791A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FF4-7580-4935-99CE-AF2F18F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2BE-05BB-4FC9-B039-80C48FA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E71-1D0B-4D58-A20E-165D99B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B88-89DE-4404-AD29-16624B6B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B5B-8628-4C8C-8D6E-BE791CF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EA8-319B-4173-A145-5427165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CBD-3630-40B2-ABFA-13D77805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AD1-9A93-4928-9079-2E82E699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C4B-7A1D-496D-86CD-F365DAD5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16099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761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evil kit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kitty w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5560" cy="168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1825560" cy="13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02248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429000"/>
            <a:ext cx="187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ppy p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a guy who pokes pup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82088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6000" y="2898720"/>
            <a:ext cx="246384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4699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186372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29936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9:13Z</dcterms:created>
  <dc:creator>lslibrary</dc:creator>
  <dc:description/>
  <dc:language>en-US</dc:language>
  <cp:lastModifiedBy>lslibrary</cp:lastModifiedBy>
  <dcterms:modified xsi:type="dcterms:W3CDTF">2009-04-01T14:46:18Z</dcterms:modified>
  <cp:revision>3</cp:revision>
  <dc:subject/>
  <dc:title>Who is the library thief?</dc:title>
</cp:coreProperties>
</file>