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153C-8AC2-40D3-AE5A-36A2DF19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3001-C688-4BE1-BB94-5FDEF7F1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E75F-ABFF-408A-B436-C313615B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F59-DD05-48F3-B9A6-64361246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83E6-E2BD-4A82-9179-E456ECA8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D67-1D20-4FD1-9C1E-9B1A365B6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7AD4-BC36-466D-AAC0-B3879EC8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A2BE-1E0C-4746-BABC-F79CD870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F2C4-B9EF-4288-82BF-DE4F448F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3F5-D5D4-4603-B0E5-DDF74019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1A9A-9647-4717-AFAD-05E318B4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2016-36F0-4224-889F-63981A91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2372-3D79-41C9-8220-B421A970D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e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4952880"/>
            <a:ext cx="1609920" cy="133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4419720"/>
            <a:ext cx="17618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evil kitt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n kitty wi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324480" y="3200400"/>
            <a:ext cx="2603520" cy="346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1825560" cy="1687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05320" y="4876920"/>
            <a:ext cx="1830240" cy="147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62120" y="533520"/>
            <a:ext cx="1825560" cy="135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781680" y="609480"/>
            <a:ext cx="2022480" cy="162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28600" y="3429000"/>
            <a:ext cx="18730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500"/>
                            </p:stCondLst>
                            <p:childTnLst>
                              <p:par>
                                <p:cTn id="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ppy p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a guy who pokes pupp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1820880" cy="1241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6000" y="2898720"/>
            <a:ext cx="2463840" cy="3468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2469960" cy="2209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800600" y="0"/>
            <a:ext cx="1863720" cy="1266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43200" y="4572000"/>
            <a:ext cx="1863720" cy="1270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299360" y="4572000"/>
            <a:ext cx="1844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8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29:13Z</dcterms:created>
  <dc:creator>lslibrary</dc:creator>
  <dc:description/>
  <dc:language>en-US</dc:language>
  <cp:lastModifiedBy>lslibrary</cp:lastModifiedBy>
  <dcterms:modified xsi:type="dcterms:W3CDTF">2009-04-01T14:46:18Z</dcterms:modified>
  <cp:revision>3</cp:revision>
  <dc:subject/>
  <dc:title>Who is the library thief?</dc:title>
</cp:coreProperties>
</file>