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65E-E7B9-48CF-BFF8-350C33B6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B39-260A-4C08-B62E-31237F79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674-0C6E-44EB-AE2F-4176FE18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994-A1AE-4B18-8D81-E8249846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C4A-2979-491E-9B2B-9E0CE022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B4F-A0C7-4124-A88E-70E6E535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B63-6F28-47E3-9F62-90F39BA2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20E-EC96-4F6B-A455-FD42E742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4C2-CEFB-4277-9CE0-2B0C81D2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313-03BC-43A2-8F2E-665EF613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540-4E28-4C67-B042-BC62493E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FFF-34E9-4711-B5B8-FBBD94F6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CF00-AFFA-46EA-BB6D-E66BB12C7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e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4952880"/>
            <a:ext cx="1609920" cy="133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4419720"/>
            <a:ext cx="17618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evil kit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 kitty wi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2603520" cy="346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1825560" cy="168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1830240" cy="147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120" y="533520"/>
            <a:ext cx="1825560" cy="135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781680" y="609480"/>
            <a:ext cx="2022480" cy="162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28600" y="3429000"/>
            <a:ext cx="1873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ppy p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a guy who pokes pupp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1820880" cy="124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6000" y="2898720"/>
            <a:ext cx="2463840" cy="346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246996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800600" y="0"/>
            <a:ext cx="186372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572000"/>
            <a:ext cx="1863720" cy="1270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299360" y="4572000"/>
            <a:ext cx="1844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29:13Z</dcterms:created>
  <dc:creator>lslibrary</dc:creator>
  <dc:description/>
  <dc:language>en-US</dc:language>
  <cp:lastModifiedBy>lslibrary</cp:lastModifiedBy>
  <dcterms:modified xsi:type="dcterms:W3CDTF">2009-04-01T14:46:18Z</dcterms:modified>
  <cp:revision>3</cp:revision>
  <dc:subject/>
  <dc:title>Who is the library thief?</dc:title>
</cp:coreProperties>
</file>