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012-C98B-4DFF-8591-1C363E7A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156-07B3-4491-AC80-B8EFFFAA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AB5-4972-4C6D-BC00-9F3BB462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941-B5CF-42F8-B257-1252ECF4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C95-5893-4E39-AC4F-B52279E3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539-3654-403E-8E5C-843CCECB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317-0E02-4626-9FCF-49C7875B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82F-1C90-4E99-845E-5A7883E5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171-0198-4437-88E5-04B089F9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342-4455-480D-AC79-833DE1BC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154-5A63-486D-8E5D-70D621F5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7FC-4061-4B87-A112-99066E21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E216-2F0B-43DD-B3B4-658EAB855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eals a book from the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2422800" cy="16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41400" cy="160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19920" y="29718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6943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Queen that’s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142236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814400" cy="18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20876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57Z</dcterms:created>
  <dc:creator>lslibrary</dc:creator>
  <dc:description/>
  <dc:language>en-US</dc:language>
  <cp:lastModifiedBy>lslibrary</cp:lastModifiedBy>
  <dcterms:modified xsi:type="dcterms:W3CDTF">2009-04-01T14:32:48Z</dcterms:modified>
  <cp:revision>3</cp:revision>
  <dc:subject/>
  <dc:title>Who steals a book from the library?</dc:title>
</cp:coreProperties>
</file>