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DEA2-AF4D-453C-94C0-ABC119C41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B421-B492-4AB5-9DC0-C6BFE0260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DF1-82EE-4C26-A49F-2C535AD4E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ECE9-C497-4CAC-B489-A9BCD0F78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0443-E493-4C68-8310-783CB99CA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C39B-1992-4F53-A90D-5F762158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8F76-02B8-4038-BC98-B35D94702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1E3B-4E37-4D1B-8416-6B166D65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6571-7F20-40FF-ADC1-935BAB5E9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4EC8-243F-46EC-B981-24AB1BAA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DE2A-C3FB-47D0-AC6C-A908D335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DFE6-9D76-44EF-8C5B-BDCBA1D3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29444-6775-4C1F-A603-62767C863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steals a book from the librar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ook Croo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495680" y="380880"/>
            <a:ext cx="2422800" cy="1623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7086600" y="152280"/>
            <a:ext cx="1841400" cy="1606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019920" y="2971800"/>
            <a:ext cx="1714320" cy="1714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380880" y="4419720"/>
            <a:ext cx="69436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3500"/>
                            </p:stCondLst>
                            <p:childTnLst>
                              <p:par>
                                <p:cTn id="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do you call a Queen that’s me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ean Qu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38080" y="4419720"/>
            <a:ext cx="1422360" cy="19810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629400" y="4572000"/>
            <a:ext cx="1814400" cy="18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657600" y="4343400"/>
            <a:ext cx="2087640" cy="26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5:35:57Z</dcterms:created>
  <dc:creator>lslibrary</dc:creator>
  <dc:description/>
  <dc:language>en-US</dc:language>
  <cp:lastModifiedBy>lslibrary</cp:lastModifiedBy>
  <dcterms:modified xsi:type="dcterms:W3CDTF">2009-04-01T14:32:48Z</dcterms:modified>
  <cp:revision>3</cp:revision>
  <dc:subject/>
  <dc:title>Who steals a book from the library?</dc:title>
</cp:coreProperties>
</file>