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673-9317-4D35-983B-964D90A3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D3B-2349-41F6-9306-AF9C2F87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1C6-32BA-406C-9EAC-C5C14F2E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286-6983-4A0A-A0E7-E26CA0B3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8EF-3B66-4710-BE33-706DCF47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BC7-91AE-4665-82FD-1FF64E85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E20-021E-4BC7-8910-EDD1C21F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F66-7A4B-412E-BFD5-F7D4477A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E44-3D24-4C8C-8218-8F87E7D9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7CA-325B-4471-9B05-B4ABF3AB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36E-58BA-45D6-850A-5853321B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54B-88E8-4D73-974D-0713F3CD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4CF1-AB93-4DD8-9715-8972AB8C5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eals a book from the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2422800" cy="16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41400" cy="160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19920" y="29718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6943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Queen that’s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142236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814400" cy="18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20876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57Z</dcterms:created>
  <dc:creator>lslibrary</dc:creator>
  <dc:description/>
  <dc:language>en-US</dc:language>
  <cp:lastModifiedBy>lslibrary</cp:lastModifiedBy>
  <dcterms:modified xsi:type="dcterms:W3CDTF">2009-04-01T14:32:48Z</dcterms:modified>
  <cp:revision>3</cp:revision>
  <dc:subject/>
  <dc:title>Who steals a book from the library?</dc:title>
</cp:coreProperties>
</file>