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66AA-8943-4CEF-9831-3C56F8421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2C33-9426-442B-9587-3EA791ACD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67BF-A2B0-4536-B591-546B7A3EF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2FC5-EF74-4AC3-8C10-5A7FF24E2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5AFB-D5D7-4FF5-8E81-B72188A94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5191-7D85-4474-B7A3-7C3D75C9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1261-E334-456A-BC25-79F2560A5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EDD9-BC74-4361-9807-C95633BAE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C028-5801-458D-96B9-DCA58497A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F3E7-2C5E-4E4C-8AC1-E5BF90F46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783B-927C-4179-94E2-3DF80E2B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5DB6-07B9-4C61-94A0-C1809723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F6AB-9437-45A7-8D23-D02B30B116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steals a book from the libra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95680" y="380880"/>
            <a:ext cx="2422800" cy="1623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1841400" cy="1606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019920" y="29718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80880" y="4419720"/>
            <a:ext cx="6943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250" autoRev="1" fill="hold"/>
                                        <p:tgtEl>
                                          <p:spTgt spid="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Queen that’s m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an Qu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4419720"/>
            <a:ext cx="1422360" cy="1981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1814400" cy="1814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657600" y="4343400"/>
            <a:ext cx="20876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5:57Z</dcterms:created>
  <dc:creator>lslibrary</dc:creator>
  <dc:description/>
  <dc:language>en-US</dc:language>
  <cp:lastModifiedBy>lslibrary</cp:lastModifiedBy>
  <dcterms:modified xsi:type="dcterms:W3CDTF">2009-04-01T14:32:48Z</dcterms:modified>
  <cp:revision>3</cp:revision>
  <dc:subject/>
  <dc:title>Who steals a book from the library?</dc:title>
</cp:coreProperties>
</file>