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8.wmf" ContentType="image/x-wmf"/>
  <Override PartName="/ppt/media/image11.png" ContentType="image/png"/>
  <Override PartName="/ppt/media/image6.wmf" ContentType="image/x-wmf"/>
  <Override PartName="/ppt/media/image4.jpeg" ContentType="image/jpeg"/>
  <Override PartName="/ppt/media/image16.wmf" ContentType="image/x-wmf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13.jpeg" ContentType="image/jpeg"/>
  <Override PartName="/ppt/media/image5.jpeg" ContentType="image/jpeg"/>
  <Override PartName="/ppt/media/image7.wmf" ContentType="image/x-wmf"/>
  <Override PartName="/ppt/media/image17.wmf" ContentType="image/x-wmf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1040-B1BB-4EF0-9D41-AEE6BFCA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3F6E-4D74-4351-BCDE-55F33366D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79B2-3051-45A3-9997-51BE0673C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F477-9399-405C-A53F-C88776C6D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A1AB-F0E3-403D-A2FF-B788BE6C4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5605-A25F-4244-996C-C07784E9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F8F7-BB31-4937-BF2D-2797C4422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4E21-D1F8-4D96-95B8-22B8D68D5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251F-0475-4AF0-9BEB-49D11C42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7AD7-3800-4A4C-B201-BE6D2835C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4FD7-1398-48DD-A27C-D0314EE02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0F6-A000-4643-B562-24C92D5C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A7066-9D75-4E1E-9756-C616D4C9F9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jpeg"/><Relationship Id="rId3" Type="http://schemas.openxmlformats.org/officeDocument/2006/relationships/image" Target="../media/image15.jpe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 steals a book from a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019920" y="3276720"/>
            <a:ext cx="2584440" cy="19555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 rot="834000">
            <a:off x="2133360" y="3581280"/>
            <a:ext cx="912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609480" y="3962520"/>
            <a:ext cx="1100160" cy="18050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 rot="20374800">
            <a:off x="1066320" y="228240"/>
            <a:ext cx="13320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4000"/>
                            </p:stCondLst>
                            <p:childTnLst>
                              <p:par>
                                <p:cTn id="1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wet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Drippen K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324480" y="3581280"/>
            <a:ext cx="2603520" cy="32767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934320" y="380880"/>
            <a:ext cx="1482480" cy="1876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819520" y="838080"/>
            <a:ext cx="1757160" cy="15685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990720" y="4038480"/>
            <a:ext cx="140328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flower that does not want to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azy Dai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1917720" cy="152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057400" y="609480"/>
            <a:ext cx="1555920" cy="1555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858000" y="3581280"/>
            <a:ext cx="2085840" cy="2714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3581280" y="609480"/>
            <a:ext cx="160344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-380880" y="-1295280"/>
            <a:ext cx="9524880" cy="9524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85800" y="17524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514600"/>
            <a:ext cx="4343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do you call a car that sits on a hear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419112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rty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181480" y="3352680"/>
            <a:ext cx="274644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609480" y="0"/>
            <a:ext cx="1524240" cy="11620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4724280" y="-152280"/>
            <a:ext cx="1830600" cy="18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bunny that is funn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unny B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981080" y="990720"/>
            <a:ext cx="4560840" cy="57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6:17Z</dcterms:created>
  <dc:creator>lslab</dc:creator>
  <dc:description/>
  <dc:language>en-US</dc:language>
  <cp:lastModifiedBy>lslab</cp:lastModifiedBy>
  <dcterms:modified xsi:type="dcterms:W3CDTF">2009-04-01T14:38:06Z</dcterms:modified>
  <cp:revision>3</cp:revision>
  <dc:subject/>
  <dc:title>Who  steals a book from a library?</dc:title>
</cp:coreProperties>
</file>