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1.png" ContentType="image/png"/>
  <Override PartName="/ppt/media/image6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7.wmf" ContentType="image/x-wmf"/>
  <Override PartName="/ppt/media/image17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558-E36C-411A-A68C-2B2D9BE7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B37-F4DE-4182-A993-D7F8A73F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FD4-C02E-4FBD-8E30-3CAC183B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175-2BC4-4E40-907D-D8DF3565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CB7-7C3D-40AE-9E97-CB0CC2B4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5A3-6EEE-4A6A-A47F-D3B312B4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BBDE-645D-4058-AB5F-A5F6EB09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A62-4C51-4214-8905-7C71386A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F93F-7872-426B-8DEB-B8D9C5FB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CD1-C735-461D-8F56-A6FBC490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5CBB-A1D3-4F95-A6C3-B071A295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F89-6FA7-4697-B1B6-6E1B7967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8E8C-9E23-44BE-A0B2-4ECA2669D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5.jpe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 steals a book from a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19920" y="3276720"/>
            <a:ext cx="2584440" cy="1955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834000">
            <a:off x="2133360" y="3581280"/>
            <a:ext cx="91260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20374800">
            <a:off x="1066320" y="228240"/>
            <a:ext cx="1332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kitt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rippen K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2603520" cy="32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34320" y="380880"/>
            <a:ext cx="1482480" cy="187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1757160" cy="156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14032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flower that does not want to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1917720" cy="1528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1555920" cy="155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858000" y="3581280"/>
            <a:ext cx="2085840" cy="271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581280" y="609480"/>
            <a:ext cx="160344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80880" y="-1295280"/>
            <a:ext cx="9524880" cy="9524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17524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2514600"/>
            <a:ext cx="4343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call a car that sits on a hea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41911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ty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181480" y="3352680"/>
            <a:ext cx="274644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524240" cy="1162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724280" y="-152280"/>
            <a:ext cx="183060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bunny that is funn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ny B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560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17Z</dcterms:created>
  <dc:creator>lslab</dc:creator>
  <dc:description/>
  <dc:language>en-US</dc:language>
  <cp:lastModifiedBy>lslab</cp:lastModifiedBy>
  <dcterms:modified xsi:type="dcterms:W3CDTF">2009-04-01T14:38:06Z</dcterms:modified>
  <cp:revision>3</cp:revision>
  <dc:subject/>
  <dc:title>Who  steals a book from a library?</dc:title>
</cp:coreProperties>
</file>