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1.png" ContentType="image/png"/>
  <Override PartName="/ppt/media/image6.wmf" ContentType="image/x-wmf"/>
  <Override PartName="/ppt/media/image4.jpeg" ContentType="image/jpeg"/>
  <Override PartName="/ppt/media/image16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jpeg" ContentType="image/jpeg"/>
  <Override PartName="/ppt/media/image7.wmf" ContentType="image/x-wmf"/>
  <Override PartName="/ppt/media/image17.wmf" ContentType="image/x-wmf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5C9E-9BC2-4358-AA7D-7178E856E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E922-6ADF-4272-904A-CAB822162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C8E4-9B6E-4D72-A603-6C5164A9F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6DEB-F1DA-4A1E-A2F2-82CEFE1CC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21AD-EDEC-464C-9048-45F34675A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6527-2807-4180-8CDF-B2B9DBBF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2DBC-7E38-4CEA-9576-622E1D2E3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63B1-9661-4D04-9C9D-A744CD4C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105E-279F-470E-AFA7-353A5D77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CB02-A444-4C1A-84F0-F5D5B369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511F-1CA2-406E-9FDE-E79F5DB00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794D-80CA-48F3-A1ED-21F6C82E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AA67-FAA8-4292-A9A7-BAAB860F6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image" Target="../media/image15.jpe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 steals a book from a libra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19920" y="3276720"/>
            <a:ext cx="2584440" cy="1955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834000">
            <a:off x="2133360" y="3581280"/>
            <a:ext cx="91260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rot="20374800">
            <a:off x="1066320" y="228240"/>
            <a:ext cx="1332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wet kitt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rippen K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324480" y="3581280"/>
            <a:ext cx="2603520" cy="3276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34320" y="380880"/>
            <a:ext cx="1482480" cy="1876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819520" y="838080"/>
            <a:ext cx="1757160" cy="1568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990720" y="4038480"/>
            <a:ext cx="140328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flower that does not want to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zy Dai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1917720" cy="1528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1555920" cy="155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257800" y="228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858000" y="3581280"/>
            <a:ext cx="2085840" cy="2714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3581280" y="609480"/>
            <a:ext cx="160344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380880" y="-1295280"/>
            <a:ext cx="9524880" cy="9524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5800" y="17524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2514600"/>
            <a:ext cx="4343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you call a car that sits on a hea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41911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rty 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181480" y="3352680"/>
            <a:ext cx="274644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524240" cy="1162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724280" y="-152280"/>
            <a:ext cx="183060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bunny that is funn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ny Bun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456084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6:17Z</dcterms:created>
  <dc:creator>lslab</dc:creator>
  <dc:description/>
  <dc:language>en-US</dc:language>
  <cp:lastModifiedBy>lslab</cp:lastModifiedBy>
  <dcterms:modified xsi:type="dcterms:W3CDTF">2009-04-01T14:38:06Z</dcterms:modified>
  <cp:revision>3</cp:revision>
  <dc:subject/>
  <dc:title>Who  steals a book from a library?</dc:title>
</cp:coreProperties>
</file>