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6375-8320-45A4-A0A4-459510360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16D3-DAC6-44A9-9F68-6ED49836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B524-9AC8-4FCD-9E8F-F7893F973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3D63-9DAA-4D4F-9DEF-F98E84906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1964-8DCC-45B7-A2BF-646918E6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D827-1482-43FE-9FBB-E4E09DF2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E55D-0D08-460C-941E-EF2B76FD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AAA5-399F-48FB-8AC0-FDE909B0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33C1-FF2F-4987-85E9-22F7F0FC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420A-8696-4F6D-B9C5-AF3B07CB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7FA2-400C-440B-AA3B-A0C12E13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5516-E8DB-4E96-9E9F-7CD86B5B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7947-6E4F-4FE7-8D71-164F13246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a library thief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7652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5127480"/>
            <a:ext cx="1870200" cy="1730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905120" y="5127480"/>
            <a:ext cx="1869840" cy="1730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 rot="11370600">
            <a:off x="3809160" y="5126760"/>
            <a:ext cx="1870200" cy="1730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 rot="16200000">
            <a:off x="5867280" y="5127120"/>
            <a:ext cx="1870200" cy="1730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126200" y="3243240"/>
            <a:ext cx="1870200" cy="17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beavers like to do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g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791320" y="2819520"/>
            <a:ext cx="1625400" cy="1176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04920" y="3683160"/>
            <a:ext cx="388620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35:30Z</dcterms:created>
  <dc:creator>lslibrary</dc:creator>
  <dc:description/>
  <dc:language>en-US</dc:language>
  <cp:lastModifiedBy>lslibrary</cp:lastModifiedBy>
  <dcterms:modified xsi:type="dcterms:W3CDTF">2009-04-01T14:50:22Z</dcterms:modified>
  <cp:revision>3</cp:revision>
  <dc:subject/>
  <dc:title>Who is a library thief ?</dc:title>
</cp:coreProperties>
</file>