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E454-89A9-49BE-89A5-49D8BED6B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F152-E0B7-4D71-8DEA-60274A66A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EEC7-04A6-4C45-8FED-5556C3913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82C6-FF3C-4850-827E-8B70379FC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797C-8621-4798-978A-BA38D9119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AE0D-711D-4DD0-B2BA-BA9CF7B42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8633-EC59-4077-9D4D-844A81D66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051D-E572-4D7C-9127-B4C624BBF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E11B-5E56-44C5-8DCA-5037D652A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B7B4-B240-45B8-A203-120661CD9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3408-806F-4948-9032-963A7D6AF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712F-B6BC-46F6-8FD5-C3AB11FAB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B50DA-1908-491D-AF99-573852DDD5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is a library thief 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67652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ook cr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5127480"/>
            <a:ext cx="1870200" cy="17305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905120" y="5127480"/>
            <a:ext cx="1869840" cy="17305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 rot="11370600">
            <a:off x="3809160" y="5126760"/>
            <a:ext cx="1870200" cy="17305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 rot="16200000">
            <a:off x="5867280" y="5127120"/>
            <a:ext cx="1870200" cy="17305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7126200" y="3243240"/>
            <a:ext cx="1870200" cy="17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beavers like to do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g 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791320" y="2819520"/>
            <a:ext cx="1625400" cy="11761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304920" y="3683160"/>
            <a:ext cx="3886200" cy="23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5T15:35:30Z</dcterms:created>
  <dc:creator>lslibrary</dc:creator>
  <dc:description/>
  <dc:language>en-US</dc:language>
  <cp:lastModifiedBy>lslibrary</cp:lastModifiedBy>
  <dcterms:modified xsi:type="dcterms:W3CDTF">2009-04-01T14:50:22Z</dcterms:modified>
  <cp:revision>3</cp:revision>
  <dc:subject/>
  <dc:title>Who is a library thief ?</dc:title>
</cp:coreProperties>
</file>