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85B4-5301-45F0-9C37-24C11068A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D10D-BC99-48F9-81A4-052C961DE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1C82-CE3D-442F-972A-BF06D3ABB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7519-947B-485B-966A-8DFD0E2C3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8DBF-70DA-4A82-8D4D-6F900B689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10DD-3FA9-466C-A08F-A07CA199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588-33AB-4841-A99A-BA0BB512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E1E-86F8-43B6-94D5-39D4EC054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6FDC-9846-4A4C-BEAA-63E52381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5B3-0925-4103-B010-CEF0C8784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FEA3-D0F4-44BB-BC32-5D37732F5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A497-77B9-4F60-BE8D-314583AF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F7C4-48F1-40CC-88F8-D232FC56D9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12748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5127480"/>
            <a:ext cx="1869840" cy="1730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11370600">
            <a:off x="3809160" y="512676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16200000">
            <a:off x="5867280" y="512712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126200" y="3243240"/>
            <a:ext cx="18702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eavers like to d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g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1625400" cy="1176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3683160"/>
            <a:ext cx="38862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30Z</dcterms:created>
  <dc:creator>lslibrary</dc:creator>
  <dc:description/>
  <dc:language>en-US</dc:language>
  <cp:lastModifiedBy>lslibrary</cp:lastModifiedBy>
  <dcterms:modified xsi:type="dcterms:W3CDTF">2009-04-01T14:50:22Z</dcterms:modified>
  <cp:revision>3</cp:revision>
  <dc:subject/>
  <dc:title>Who is a library thief ?</dc:title>
</cp:coreProperties>
</file>