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gif" ContentType="image/gi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37F4E-DA26-4783-9DC7-C7F6E6CD7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F53C8-B5D8-44A5-89ED-54237F322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3D952-CADC-4BAA-8FF6-4C6BD4E54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FE9C3-E15C-40C5-A5C3-7D414684C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6B100-3702-4630-898E-E6035AD8E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65716-9EC6-40F0-8A1B-FC0D9BBB6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42530-9D29-44B1-86B5-BDB41A102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34BEA-6664-4BA2-A809-6EC459858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F198B-2C7E-490E-ABFC-ADD43504E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55B3C-0ED9-40F5-B2A5-74F413610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0C371-6C99-4CF3-9F4F-8259655C9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D7CC6-3863-4F9D-9291-228795AC2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5193A-099F-47DA-84B1-940F18F028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o is a library thief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Book cro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477120" y="3657600"/>
            <a:ext cx="2171520" cy="28036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762120" y="380880"/>
            <a:ext cx="2253960" cy="18525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6337440" y="254160"/>
            <a:ext cx="2120760" cy="1962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555480" y="3873600"/>
            <a:ext cx="2187720" cy="208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" dur="2000" fill="hold"/>
                                        <p:tgtEl>
                                          <p:spTgt spid="4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do you call a gorill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504960" y="1523880"/>
            <a:ext cx="1523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ll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5791320" y="3784680"/>
            <a:ext cx="2992320" cy="30733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04920" y="2438280"/>
            <a:ext cx="3016080" cy="41198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3657600" y="2514600"/>
            <a:ext cx="1797120" cy="17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3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o is a animal that can danc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mussel Hust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776840" y="1719360"/>
            <a:ext cx="1333440" cy="7714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1249200" y="3413160"/>
            <a:ext cx="1713240" cy="1738440"/>
          </a:xfrm>
          <a:prstGeom prst="rect">
            <a:avLst/>
          </a:prstGeom>
          <a:ln w="0">
            <a:noFill/>
          </a:ln>
        </p:spPr>
      </p:pic>
      <p:grpSp>
        <p:nvGrpSpPr>
          <p:cNvPr id="56" name=""/>
          <p:cNvGrpSpPr/>
          <p:nvPr/>
        </p:nvGrpSpPr>
        <p:grpSpPr>
          <a:xfrm>
            <a:off x="8915400" y="1440"/>
            <a:ext cx="227160" cy="142920"/>
            <a:chOff x="8915400" y="1440"/>
            <a:chExt cx="227160" cy="142920"/>
          </a:xfrm>
        </p:grpSpPr>
        <p:sp>
          <p:nvSpPr>
            <p:cNvPr id="57" name=""/>
            <p:cNvSpPr/>
            <p:nvPr/>
          </p:nvSpPr>
          <p:spPr>
            <a:xfrm>
              <a:off x="8991720" y="37080"/>
              <a:ext cx="149040" cy="106920"/>
            </a:xfrm>
            <a:custGeom>
              <a:avLst/>
              <a:gdLst/>
              <a:ahLst/>
              <a:rect l="l" t="t" r="r" b="b"/>
              <a:pathLst>
                <a:path w="3764" h="2696">
                  <a:moveTo>
                    <a:pt x="3076" y="44"/>
                  </a:moveTo>
                  <a:lnTo>
                    <a:pt x="2019" y="209"/>
                  </a:lnTo>
                  <a:lnTo>
                    <a:pt x="1644" y="308"/>
                  </a:lnTo>
                  <a:lnTo>
                    <a:pt x="1374" y="430"/>
                  </a:lnTo>
                  <a:lnTo>
                    <a:pt x="1074" y="548"/>
                  </a:lnTo>
                  <a:lnTo>
                    <a:pt x="730" y="787"/>
                  </a:lnTo>
                  <a:lnTo>
                    <a:pt x="430" y="1126"/>
                  </a:lnTo>
                  <a:lnTo>
                    <a:pt x="295" y="1280"/>
                  </a:lnTo>
                  <a:lnTo>
                    <a:pt x="146" y="1561"/>
                  </a:lnTo>
                  <a:lnTo>
                    <a:pt x="44" y="1882"/>
                  </a:lnTo>
                  <a:lnTo>
                    <a:pt x="0" y="2133"/>
                  </a:lnTo>
                  <a:lnTo>
                    <a:pt x="25" y="2303"/>
                  </a:lnTo>
                  <a:lnTo>
                    <a:pt x="160" y="2472"/>
                  </a:lnTo>
                  <a:lnTo>
                    <a:pt x="395" y="2641"/>
                  </a:lnTo>
                  <a:lnTo>
                    <a:pt x="718" y="2696"/>
                  </a:lnTo>
                  <a:lnTo>
                    <a:pt x="1099" y="2675"/>
                  </a:lnTo>
                  <a:lnTo>
                    <a:pt x="1519" y="2540"/>
                  </a:lnTo>
                  <a:lnTo>
                    <a:pt x="1964" y="2158"/>
                  </a:lnTo>
                  <a:lnTo>
                    <a:pt x="2665" y="1344"/>
                  </a:lnTo>
                  <a:lnTo>
                    <a:pt x="3200" y="837"/>
                  </a:lnTo>
                  <a:lnTo>
                    <a:pt x="3629" y="474"/>
                  </a:lnTo>
                  <a:lnTo>
                    <a:pt x="3730" y="324"/>
                  </a:lnTo>
                  <a:lnTo>
                    <a:pt x="3764" y="154"/>
                  </a:lnTo>
                  <a:lnTo>
                    <a:pt x="3690" y="61"/>
                  </a:lnTo>
                  <a:lnTo>
                    <a:pt x="3316" y="0"/>
                  </a:lnTo>
                  <a:lnTo>
                    <a:pt x="3076" y="44"/>
                  </a:lnTo>
                  <a:lnTo>
                    <a:pt x="3076" y="44"/>
                  </a:lnTo>
                  <a:close/>
                </a:path>
              </a:pathLst>
            </a:custGeom>
            <a:solidFill>
              <a:srgbClr val="d1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9001440" y="84600"/>
              <a:ext cx="35640" cy="49680"/>
            </a:xfrm>
            <a:custGeom>
              <a:avLst/>
              <a:gdLst/>
              <a:ahLst/>
              <a:rect l="l" t="t" r="r" b="b"/>
              <a:pathLst>
                <a:path w="901" h="1255">
                  <a:moveTo>
                    <a:pt x="371" y="0"/>
                  </a:moveTo>
                  <a:lnTo>
                    <a:pt x="192" y="241"/>
                  </a:lnTo>
                  <a:lnTo>
                    <a:pt x="74" y="433"/>
                  </a:lnTo>
                  <a:lnTo>
                    <a:pt x="21" y="616"/>
                  </a:lnTo>
                  <a:lnTo>
                    <a:pt x="0" y="760"/>
                  </a:lnTo>
                  <a:lnTo>
                    <a:pt x="34" y="926"/>
                  </a:lnTo>
                  <a:lnTo>
                    <a:pt x="165" y="1099"/>
                  </a:lnTo>
                  <a:lnTo>
                    <a:pt x="262" y="1171"/>
                  </a:lnTo>
                  <a:lnTo>
                    <a:pt x="407" y="1234"/>
                  </a:lnTo>
                  <a:lnTo>
                    <a:pt x="553" y="1255"/>
                  </a:lnTo>
                  <a:lnTo>
                    <a:pt x="709" y="1247"/>
                  </a:lnTo>
                  <a:lnTo>
                    <a:pt x="901" y="1182"/>
                  </a:lnTo>
                  <a:lnTo>
                    <a:pt x="718" y="1175"/>
                  </a:lnTo>
                  <a:lnTo>
                    <a:pt x="521" y="1108"/>
                  </a:lnTo>
                  <a:lnTo>
                    <a:pt x="348" y="1028"/>
                  </a:lnTo>
                  <a:lnTo>
                    <a:pt x="218" y="884"/>
                  </a:lnTo>
                  <a:lnTo>
                    <a:pt x="179" y="700"/>
                  </a:lnTo>
                  <a:lnTo>
                    <a:pt x="179" y="527"/>
                  </a:lnTo>
                  <a:lnTo>
                    <a:pt x="236" y="344"/>
                  </a:lnTo>
                  <a:lnTo>
                    <a:pt x="298" y="243"/>
                  </a:lnTo>
                  <a:lnTo>
                    <a:pt x="371" y="0"/>
                  </a:lnTo>
                  <a:lnTo>
                    <a:pt x="371" y="0"/>
                  </a:lnTo>
                  <a:close/>
                </a:path>
              </a:pathLst>
            </a:custGeom>
            <a:solidFill>
              <a:srgbClr val="a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9072720" y="51480"/>
              <a:ext cx="25920" cy="44640"/>
            </a:xfrm>
            <a:custGeom>
              <a:avLst/>
              <a:gdLst/>
              <a:ahLst/>
              <a:rect l="l" t="t" r="r" b="b"/>
              <a:pathLst>
                <a:path w="656" h="1129">
                  <a:moveTo>
                    <a:pt x="0" y="146"/>
                  </a:moveTo>
                  <a:lnTo>
                    <a:pt x="202" y="86"/>
                  </a:lnTo>
                  <a:lnTo>
                    <a:pt x="364" y="86"/>
                  </a:lnTo>
                  <a:lnTo>
                    <a:pt x="478" y="139"/>
                  </a:lnTo>
                  <a:lnTo>
                    <a:pt x="519" y="211"/>
                  </a:lnTo>
                  <a:lnTo>
                    <a:pt x="514" y="276"/>
                  </a:lnTo>
                  <a:lnTo>
                    <a:pt x="493" y="357"/>
                  </a:lnTo>
                  <a:lnTo>
                    <a:pt x="430" y="432"/>
                  </a:lnTo>
                  <a:lnTo>
                    <a:pt x="327" y="468"/>
                  </a:lnTo>
                  <a:lnTo>
                    <a:pt x="402" y="620"/>
                  </a:lnTo>
                  <a:lnTo>
                    <a:pt x="175" y="1129"/>
                  </a:lnTo>
                  <a:lnTo>
                    <a:pt x="291" y="1044"/>
                  </a:lnTo>
                  <a:lnTo>
                    <a:pt x="457" y="838"/>
                  </a:lnTo>
                  <a:lnTo>
                    <a:pt x="582" y="648"/>
                  </a:lnTo>
                  <a:lnTo>
                    <a:pt x="639" y="504"/>
                  </a:lnTo>
                  <a:lnTo>
                    <a:pt x="656" y="357"/>
                  </a:lnTo>
                  <a:lnTo>
                    <a:pt x="639" y="223"/>
                  </a:lnTo>
                  <a:lnTo>
                    <a:pt x="577" y="122"/>
                  </a:lnTo>
                  <a:lnTo>
                    <a:pt x="531" y="57"/>
                  </a:lnTo>
                  <a:lnTo>
                    <a:pt x="622" y="10"/>
                  </a:lnTo>
                  <a:lnTo>
                    <a:pt x="394" y="0"/>
                  </a:lnTo>
                  <a:lnTo>
                    <a:pt x="111" y="50"/>
                  </a:lnTo>
                  <a:lnTo>
                    <a:pt x="0" y="146"/>
                  </a:lnTo>
                  <a:lnTo>
                    <a:pt x="0" y="146"/>
                  </a:lnTo>
                  <a:close/>
                </a:path>
              </a:pathLst>
            </a:custGeom>
            <a:solidFill>
              <a:srgbClr val="a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9016920" y="55800"/>
              <a:ext cx="71640" cy="68400"/>
            </a:xfrm>
            <a:custGeom>
              <a:avLst/>
              <a:gdLst/>
              <a:ahLst/>
              <a:rect l="l" t="t" r="r" b="b"/>
              <a:pathLst>
                <a:path w="1810" h="1726">
                  <a:moveTo>
                    <a:pt x="22" y="1089"/>
                  </a:moveTo>
                  <a:lnTo>
                    <a:pt x="81" y="842"/>
                  </a:lnTo>
                  <a:lnTo>
                    <a:pt x="194" y="726"/>
                  </a:lnTo>
                  <a:lnTo>
                    <a:pt x="306" y="534"/>
                  </a:lnTo>
                  <a:lnTo>
                    <a:pt x="511" y="317"/>
                  </a:lnTo>
                  <a:lnTo>
                    <a:pt x="823" y="135"/>
                  </a:lnTo>
                  <a:lnTo>
                    <a:pt x="1140" y="0"/>
                  </a:lnTo>
                  <a:lnTo>
                    <a:pt x="1389" y="19"/>
                  </a:lnTo>
                  <a:lnTo>
                    <a:pt x="1498" y="120"/>
                  </a:lnTo>
                  <a:lnTo>
                    <a:pt x="1593" y="254"/>
                  </a:lnTo>
                  <a:lnTo>
                    <a:pt x="1637" y="317"/>
                  </a:lnTo>
                  <a:lnTo>
                    <a:pt x="1730" y="348"/>
                  </a:lnTo>
                  <a:lnTo>
                    <a:pt x="1798" y="471"/>
                  </a:lnTo>
                  <a:lnTo>
                    <a:pt x="1810" y="677"/>
                  </a:lnTo>
                  <a:lnTo>
                    <a:pt x="1350" y="1213"/>
                  </a:lnTo>
                  <a:lnTo>
                    <a:pt x="773" y="1688"/>
                  </a:lnTo>
                  <a:lnTo>
                    <a:pt x="473" y="1726"/>
                  </a:lnTo>
                  <a:lnTo>
                    <a:pt x="317" y="1677"/>
                  </a:lnTo>
                  <a:lnTo>
                    <a:pt x="133" y="1564"/>
                  </a:lnTo>
                  <a:lnTo>
                    <a:pt x="32" y="1388"/>
                  </a:lnTo>
                  <a:lnTo>
                    <a:pt x="0" y="1247"/>
                  </a:lnTo>
                  <a:lnTo>
                    <a:pt x="22" y="1089"/>
                  </a:lnTo>
                  <a:lnTo>
                    <a:pt x="22" y="1089"/>
                  </a:lnTo>
                  <a:close/>
                </a:path>
              </a:pathLst>
            </a:custGeom>
            <a:solidFill>
              <a:srgbClr val="d199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9011880" y="38160"/>
              <a:ext cx="127800" cy="90360"/>
            </a:xfrm>
            <a:custGeom>
              <a:avLst/>
              <a:gdLst/>
              <a:ahLst/>
              <a:rect l="l" t="t" r="r" b="b"/>
              <a:pathLst>
                <a:path w="3230" h="2283">
                  <a:moveTo>
                    <a:pt x="2633" y="583"/>
                  </a:moveTo>
                  <a:lnTo>
                    <a:pt x="2527" y="435"/>
                  </a:lnTo>
                  <a:lnTo>
                    <a:pt x="2244" y="312"/>
                  </a:lnTo>
                  <a:lnTo>
                    <a:pt x="1542" y="412"/>
                  </a:lnTo>
                  <a:lnTo>
                    <a:pt x="1072" y="509"/>
                  </a:lnTo>
                  <a:lnTo>
                    <a:pt x="742" y="690"/>
                  </a:lnTo>
                  <a:lnTo>
                    <a:pt x="544" y="855"/>
                  </a:lnTo>
                  <a:lnTo>
                    <a:pt x="405" y="1017"/>
                  </a:lnTo>
                  <a:lnTo>
                    <a:pt x="244" y="1260"/>
                  </a:lnTo>
                  <a:lnTo>
                    <a:pt x="133" y="1475"/>
                  </a:lnTo>
                  <a:lnTo>
                    <a:pt x="133" y="1810"/>
                  </a:lnTo>
                  <a:lnTo>
                    <a:pt x="263" y="1996"/>
                  </a:lnTo>
                  <a:lnTo>
                    <a:pt x="413" y="2112"/>
                  </a:lnTo>
                  <a:lnTo>
                    <a:pt x="582" y="2158"/>
                  </a:lnTo>
                  <a:lnTo>
                    <a:pt x="770" y="2173"/>
                  </a:lnTo>
                  <a:lnTo>
                    <a:pt x="1004" y="2095"/>
                  </a:lnTo>
                  <a:lnTo>
                    <a:pt x="1270" y="1910"/>
                  </a:lnTo>
                  <a:lnTo>
                    <a:pt x="1422" y="1787"/>
                  </a:lnTo>
                  <a:lnTo>
                    <a:pt x="1160" y="2064"/>
                  </a:lnTo>
                  <a:lnTo>
                    <a:pt x="991" y="2197"/>
                  </a:lnTo>
                  <a:lnTo>
                    <a:pt x="812" y="2274"/>
                  </a:lnTo>
                  <a:lnTo>
                    <a:pt x="500" y="2283"/>
                  </a:lnTo>
                  <a:lnTo>
                    <a:pt x="283" y="2222"/>
                  </a:lnTo>
                  <a:lnTo>
                    <a:pt x="133" y="2089"/>
                  </a:lnTo>
                  <a:lnTo>
                    <a:pt x="34" y="1910"/>
                  </a:lnTo>
                  <a:lnTo>
                    <a:pt x="0" y="1699"/>
                  </a:lnTo>
                  <a:lnTo>
                    <a:pt x="46" y="1458"/>
                  </a:lnTo>
                  <a:lnTo>
                    <a:pt x="109" y="1262"/>
                  </a:lnTo>
                  <a:lnTo>
                    <a:pt x="209" y="1076"/>
                  </a:lnTo>
                  <a:lnTo>
                    <a:pt x="451" y="789"/>
                  </a:lnTo>
                  <a:lnTo>
                    <a:pt x="662" y="620"/>
                  </a:lnTo>
                  <a:lnTo>
                    <a:pt x="888" y="521"/>
                  </a:lnTo>
                  <a:lnTo>
                    <a:pt x="1129" y="435"/>
                  </a:lnTo>
                  <a:lnTo>
                    <a:pt x="1533" y="342"/>
                  </a:lnTo>
                  <a:lnTo>
                    <a:pt x="1987" y="234"/>
                  </a:lnTo>
                  <a:lnTo>
                    <a:pt x="2533" y="116"/>
                  </a:lnTo>
                  <a:lnTo>
                    <a:pt x="2865" y="5"/>
                  </a:lnTo>
                  <a:lnTo>
                    <a:pt x="3074" y="0"/>
                  </a:lnTo>
                  <a:lnTo>
                    <a:pt x="3230" y="93"/>
                  </a:lnTo>
                  <a:lnTo>
                    <a:pt x="3223" y="196"/>
                  </a:lnTo>
                  <a:lnTo>
                    <a:pt x="3109" y="279"/>
                  </a:lnTo>
                  <a:lnTo>
                    <a:pt x="3025" y="196"/>
                  </a:lnTo>
                  <a:lnTo>
                    <a:pt x="2968" y="173"/>
                  </a:lnTo>
                  <a:lnTo>
                    <a:pt x="2852" y="180"/>
                  </a:lnTo>
                  <a:lnTo>
                    <a:pt x="2626" y="224"/>
                  </a:lnTo>
                  <a:lnTo>
                    <a:pt x="2533" y="272"/>
                  </a:lnTo>
                  <a:lnTo>
                    <a:pt x="2626" y="342"/>
                  </a:lnTo>
                  <a:lnTo>
                    <a:pt x="2662" y="418"/>
                  </a:lnTo>
                  <a:lnTo>
                    <a:pt x="2662" y="481"/>
                  </a:lnTo>
                  <a:lnTo>
                    <a:pt x="2633" y="583"/>
                  </a:lnTo>
                  <a:lnTo>
                    <a:pt x="2633" y="583"/>
                  </a:lnTo>
                  <a:close/>
                </a:path>
              </a:pathLst>
            </a:custGeom>
            <a:solidFill>
              <a:srgbClr val="a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916840" y="1800"/>
              <a:ext cx="148320" cy="108360"/>
            </a:xfrm>
            <a:custGeom>
              <a:avLst/>
              <a:gdLst/>
              <a:ahLst/>
              <a:rect l="l" t="t" r="r" b="b"/>
              <a:pathLst>
                <a:path w="3747" h="2740">
                  <a:moveTo>
                    <a:pt x="0" y="2052"/>
                  </a:moveTo>
                  <a:lnTo>
                    <a:pt x="240" y="1407"/>
                  </a:lnTo>
                  <a:lnTo>
                    <a:pt x="555" y="949"/>
                  </a:lnTo>
                  <a:lnTo>
                    <a:pt x="778" y="736"/>
                  </a:lnTo>
                  <a:lnTo>
                    <a:pt x="1055" y="588"/>
                  </a:lnTo>
                  <a:lnTo>
                    <a:pt x="1449" y="443"/>
                  </a:lnTo>
                  <a:lnTo>
                    <a:pt x="2487" y="177"/>
                  </a:lnTo>
                  <a:lnTo>
                    <a:pt x="3422" y="0"/>
                  </a:lnTo>
                  <a:lnTo>
                    <a:pt x="3662" y="27"/>
                  </a:lnTo>
                  <a:lnTo>
                    <a:pt x="3747" y="118"/>
                  </a:lnTo>
                  <a:lnTo>
                    <a:pt x="3747" y="204"/>
                  </a:lnTo>
                  <a:lnTo>
                    <a:pt x="3705" y="337"/>
                  </a:lnTo>
                  <a:lnTo>
                    <a:pt x="3555" y="529"/>
                  </a:lnTo>
                  <a:lnTo>
                    <a:pt x="3209" y="833"/>
                  </a:lnTo>
                  <a:lnTo>
                    <a:pt x="2667" y="1398"/>
                  </a:lnTo>
                  <a:lnTo>
                    <a:pt x="2097" y="2004"/>
                  </a:lnTo>
                  <a:lnTo>
                    <a:pt x="1747" y="2403"/>
                  </a:lnTo>
                  <a:lnTo>
                    <a:pt x="1540" y="2548"/>
                  </a:lnTo>
                  <a:lnTo>
                    <a:pt x="1304" y="2666"/>
                  </a:lnTo>
                  <a:lnTo>
                    <a:pt x="1088" y="2708"/>
                  </a:lnTo>
                  <a:lnTo>
                    <a:pt x="928" y="2729"/>
                  </a:lnTo>
                  <a:lnTo>
                    <a:pt x="603" y="2740"/>
                  </a:lnTo>
                  <a:lnTo>
                    <a:pt x="384" y="2698"/>
                  </a:lnTo>
                  <a:lnTo>
                    <a:pt x="266" y="2654"/>
                  </a:lnTo>
                  <a:lnTo>
                    <a:pt x="124" y="2521"/>
                  </a:lnTo>
                  <a:lnTo>
                    <a:pt x="27" y="2388"/>
                  </a:lnTo>
                  <a:lnTo>
                    <a:pt x="0" y="2052"/>
                  </a:lnTo>
                  <a:lnTo>
                    <a:pt x="0" y="2052"/>
                  </a:lnTo>
                  <a:close/>
                </a:path>
              </a:pathLst>
            </a:custGeom>
            <a:solidFill>
              <a:srgbClr val="7868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973360" y="29520"/>
              <a:ext cx="24480" cy="30600"/>
            </a:xfrm>
            <a:custGeom>
              <a:avLst/>
              <a:gdLst/>
              <a:ahLst/>
              <a:rect l="l" t="t" r="r" b="b"/>
              <a:pathLst>
                <a:path w="618" h="776">
                  <a:moveTo>
                    <a:pt x="521" y="25"/>
                  </a:moveTo>
                  <a:lnTo>
                    <a:pt x="291" y="129"/>
                  </a:lnTo>
                  <a:lnTo>
                    <a:pt x="144" y="249"/>
                  </a:lnTo>
                  <a:lnTo>
                    <a:pt x="47" y="388"/>
                  </a:lnTo>
                  <a:lnTo>
                    <a:pt x="0" y="555"/>
                  </a:lnTo>
                  <a:lnTo>
                    <a:pt x="21" y="685"/>
                  </a:lnTo>
                  <a:lnTo>
                    <a:pt x="85" y="743"/>
                  </a:lnTo>
                  <a:lnTo>
                    <a:pt x="199" y="776"/>
                  </a:lnTo>
                  <a:lnTo>
                    <a:pt x="313" y="753"/>
                  </a:lnTo>
                  <a:lnTo>
                    <a:pt x="367" y="631"/>
                  </a:lnTo>
                  <a:lnTo>
                    <a:pt x="296" y="614"/>
                  </a:lnTo>
                  <a:lnTo>
                    <a:pt x="226" y="550"/>
                  </a:lnTo>
                  <a:lnTo>
                    <a:pt x="199" y="447"/>
                  </a:lnTo>
                  <a:lnTo>
                    <a:pt x="205" y="318"/>
                  </a:lnTo>
                  <a:lnTo>
                    <a:pt x="287" y="194"/>
                  </a:lnTo>
                  <a:lnTo>
                    <a:pt x="443" y="103"/>
                  </a:lnTo>
                  <a:lnTo>
                    <a:pt x="618" y="59"/>
                  </a:lnTo>
                  <a:lnTo>
                    <a:pt x="618" y="0"/>
                  </a:lnTo>
                  <a:lnTo>
                    <a:pt x="521" y="25"/>
                  </a:lnTo>
                  <a:lnTo>
                    <a:pt x="521" y="25"/>
                  </a:lnTo>
                  <a:close/>
                </a:path>
              </a:pathLst>
            </a:custGeom>
            <a:solidFill>
              <a:srgbClr val="a69b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985600" y="32760"/>
              <a:ext cx="15120" cy="19080"/>
            </a:xfrm>
            <a:custGeom>
              <a:avLst/>
              <a:gdLst/>
              <a:ahLst/>
              <a:rect l="l" t="t" r="r" b="b"/>
              <a:pathLst>
                <a:path w="389" h="483">
                  <a:moveTo>
                    <a:pt x="279" y="0"/>
                  </a:moveTo>
                  <a:lnTo>
                    <a:pt x="169" y="49"/>
                  </a:lnTo>
                  <a:lnTo>
                    <a:pt x="76" y="125"/>
                  </a:lnTo>
                  <a:lnTo>
                    <a:pt x="17" y="203"/>
                  </a:lnTo>
                  <a:lnTo>
                    <a:pt x="0" y="304"/>
                  </a:lnTo>
                  <a:lnTo>
                    <a:pt x="49" y="429"/>
                  </a:lnTo>
                  <a:lnTo>
                    <a:pt x="100" y="483"/>
                  </a:lnTo>
                  <a:lnTo>
                    <a:pt x="194" y="405"/>
                  </a:lnTo>
                  <a:lnTo>
                    <a:pt x="321" y="344"/>
                  </a:lnTo>
                  <a:lnTo>
                    <a:pt x="389" y="332"/>
                  </a:lnTo>
                  <a:lnTo>
                    <a:pt x="304" y="255"/>
                  </a:lnTo>
                  <a:lnTo>
                    <a:pt x="294" y="163"/>
                  </a:lnTo>
                  <a:lnTo>
                    <a:pt x="321" y="76"/>
                  </a:lnTo>
                  <a:lnTo>
                    <a:pt x="251" y="163"/>
                  </a:lnTo>
                  <a:lnTo>
                    <a:pt x="226" y="260"/>
                  </a:lnTo>
                  <a:lnTo>
                    <a:pt x="201" y="203"/>
                  </a:lnTo>
                  <a:lnTo>
                    <a:pt x="209" y="108"/>
                  </a:lnTo>
                  <a:lnTo>
                    <a:pt x="279" y="0"/>
                  </a:lnTo>
                  <a:lnTo>
                    <a:pt x="279" y="0"/>
                  </a:lnTo>
                  <a:close/>
                </a:path>
              </a:pathLst>
            </a:custGeom>
            <a:solidFill>
              <a:srgbClr val="a69b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9001440" y="20520"/>
              <a:ext cx="24840" cy="19080"/>
            </a:xfrm>
            <a:custGeom>
              <a:avLst/>
              <a:gdLst/>
              <a:ahLst/>
              <a:rect l="l" t="t" r="r" b="b"/>
              <a:pathLst>
                <a:path w="633" h="488">
                  <a:moveTo>
                    <a:pt x="93" y="144"/>
                  </a:moveTo>
                  <a:lnTo>
                    <a:pt x="19" y="243"/>
                  </a:lnTo>
                  <a:lnTo>
                    <a:pt x="0" y="353"/>
                  </a:lnTo>
                  <a:lnTo>
                    <a:pt x="34" y="439"/>
                  </a:lnTo>
                  <a:lnTo>
                    <a:pt x="84" y="473"/>
                  </a:lnTo>
                  <a:lnTo>
                    <a:pt x="188" y="488"/>
                  </a:lnTo>
                  <a:lnTo>
                    <a:pt x="319" y="467"/>
                  </a:lnTo>
                  <a:lnTo>
                    <a:pt x="473" y="357"/>
                  </a:lnTo>
                  <a:lnTo>
                    <a:pt x="633" y="220"/>
                  </a:lnTo>
                  <a:lnTo>
                    <a:pt x="483" y="289"/>
                  </a:lnTo>
                  <a:lnTo>
                    <a:pt x="424" y="264"/>
                  </a:lnTo>
                  <a:lnTo>
                    <a:pt x="390" y="195"/>
                  </a:lnTo>
                  <a:lnTo>
                    <a:pt x="390" y="129"/>
                  </a:lnTo>
                  <a:lnTo>
                    <a:pt x="396" y="0"/>
                  </a:lnTo>
                  <a:lnTo>
                    <a:pt x="299" y="108"/>
                  </a:lnTo>
                  <a:lnTo>
                    <a:pt x="264" y="194"/>
                  </a:lnTo>
                  <a:lnTo>
                    <a:pt x="264" y="285"/>
                  </a:lnTo>
                  <a:lnTo>
                    <a:pt x="280" y="338"/>
                  </a:lnTo>
                  <a:lnTo>
                    <a:pt x="204" y="323"/>
                  </a:lnTo>
                  <a:lnTo>
                    <a:pt x="154" y="270"/>
                  </a:lnTo>
                  <a:lnTo>
                    <a:pt x="110" y="203"/>
                  </a:lnTo>
                  <a:lnTo>
                    <a:pt x="116" y="135"/>
                  </a:lnTo>
                  <a:lnTo>
                    <a:pt x="93" y="144"/>
                  </a:lnTo>
                  <a:lnTo>
                    <a:pt x="93" y="144"/>
                  </a:lnTo>
                  <a:close/>
                </a:path>
              </a:pathLst>
            </a:custGeom>
            <a:solidFill>
              <a:srgbClr val="a69b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9020880" y="15480"/>
              <a:ext cx="20160" cy="11880"/>
            </a:xfrm>
            <a:custGeom>
              <a:avLst/>
              <a:gdLst/>
              <a:ahLst/>
              <a:rect l="l" t="t" r="r" b="b"/>
              <a:pathLst>
                <a:path w="513" h="304">
                  <a:moveTo>
                    <a:pt x="117" y="0"/>
                  </a:moveTo>
                  <a:lnTo>
                    <a:pt x="34" y="76"/>
                  </a:lnTo>
                  <a:lnTo>
                    <a:pt x="0" y="169"/>
                  </a:lnTo>
                  <a:lnTo>
                    <a:pt x="9" y="243"/>
                  </a:lnTo>
                  <a:lnTo>
                    <a:pt x="83" y="285"/>
                  </a:lnTo>
                  <a:lnTo>
                    <a:pt x="159" y="304"/>
                  </a:lnTo>
                  <a:lnTo>
                    <a:pt x="252" y="289"/>
                  </a:lnTo>
                  <a:lnTo>
                    <a:pt x="406" y="184"/>
                  </a:lnTo>
                  <a:lnTo>
                    <a:pt x="513" y="100"/>
                  </a:lnTo>
                  <a:lnTo>
                    <a:pt x="422" y="100"/>
                  </a:lnTo>
                  <a:lnTo>
                    <a:pt x="348" y="95"/>
                  </a:lnTo>
                  <a:lnTo>
                    <a:pt x="270" y="159"/>
                  </a:lnTo>
                  <a:lnTo>
                    <a:pt x="184" y="178"/>
                  </a:lnTo>
                  <a:lnTo>
                    <a:pt x="136" y="169"/>
                  </a:lnTo>
                  <a:lnTo>
                    <a:pt x="98" y="135"/>
                  </a:lnTo>
                  <a:lnTo>
                    <a:pt x="108" y="76"/>
                  </a:lnTo>
                  <a:lnTo>
                    <a:pt x="117" y="0"/>
                  </a:lnTo>
                  <a:lnTo>
                    <a:pt x="117" y="0"/>
                  </a:lnTo>
                  <a:close/>
                </a:path>
              </a:pathLst>
            </a:custGeom>
            <a:solidFill>
              <a:srgbClr val="a69b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9034560" y="11880"/>
              <a:ext cx="11160" cy="8280"/>
            </a:xfrm>
            <a:custGeom>
              <a:avLst/>
              <a:gdLst/>
              <a:ahLst/>
              <a:rect l="l" t="t" r="r" b="b"/>
              <a:pathLst>
                <a:path w="285" h="209">
                  <a:moveTo>
                    <a:pt x="9" y="89"/>
                  </a:moveTo>
                  <a:lnTo>
                    <a:pt x="59" y="25"/>
                  </a:lnTo>
                  <a:lnTo>
                    <a:pt x="144" y="0"/>
                  </a:lnTo>
                  <a:lnTo>
                    <a:pt x="228" y="6"/>
                  </a:lnTo>
                  <a:lnTo>
                    <a:pt x="285" y="49"/>
                  </a:lnTo>
                  <a:lnTo>
                    <a:pt x="254" y="209"/>
                  </a:lnTo>
                  <a:lnTo>
                    <a:pt x="239" y="135"/>
                  </a:lnTo>
                  <a:lnTo>
                    <a:pt x="188" y="93"/>
                  </a:lnTo>
                  <a:lnTo>
                    <a:pt x="104" y="84"/>
                  </a:lnTo>
                  <a:lnTo>
                    <a:pt x="0" y="150"/>
                  </a:lnTo>
                  <a:lnTo>
                    <a:pt x="9" y="89"/>
                  </a:lnTo>
                  <a:lnTo>
                    <a:pt x="9" y="89"/>
                  </a:lnTo>
                  <a:close/>
                </a:path>
              </a:pathLst>
            </a:custGeom>
            <a:solidFill>
              <a:srgbClr val="a69b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051840" y="4680"/>
              <a:ext cx="11880" cy="10440"/>
            </a:xfrm>
            <a:custGeom>
              <a:avLst/>
              <a:gdLst/>
              <a:ahLst/>
              <a:rect l="l" t="t" r="r" b="b"/>
              <a:pathLst>
                <a:path w="301" h="264">
                  <a:moveTo>
                    <a:pt x="0" y="41"/>
                  </a:moveTo>
                  <a:lnTo>
                    <a:pt x="74" y="17"/>
                  </a:lnTo>
                  <a:lnTo>
                    <a:pt x="150" y="0"/>
                  </a:lnTo>
                  <a:lnTo>
                    <a:pt x="234" y="15"/>
                  </a:lnTo>
                  <a:lnTo>
                    <a:pt x="291" y="47"/>
                  </a:lnTo>
                  <a:lnTo>
                    <a:pt x="301" y="116"/>
                  </a:lnTo>
                  <a:lnTo>
                    <a:pt x="295" y="192"/>
                  </a:lnTo>
                  <a:lnTo>
                    <a:pt x="270" y="169"/>
                  </a:lnTo>
                  <a:lnTo>
                    <a:pt x="236" y="119"/>
                  </a:lnTo>
                  <a:lnTo>
                    <a:pt x="179" y="85"/>
                  </a:lnTo>
                  <a:lnTo>
                    <a:pt x="190" y="135"/>
                  </a:lnTo>
                  <a:lnTo>
                    <a:pt x="179" y="192"/>
                  </a:lnTo>
                  <a:lnTo>
                    <a:pt x="141" y="264"/>
                  </a:lnTo>
                  <a:lnTo>
                    <a:pt x="126" y="169"/>
                  </a:lnTo>
                  <a:lnTo>
                    <a:pt x="76" y="95"/>
                  </a:lnTo>
                  <a:lnTo>
                    <a:pt x="0" y="41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a69b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8956800" y="47160"/>
              <a:ext cx="39240" cy="27720"/>
            </a:xfrm>
            <a:custGeom>
              <a:avLst/>
              <a:gdLst/>
              <a:ahLst/>
              <a:rect l="l" t="t" r="r" b="b"/>
              <a:pathLst>
                <a:path w="996" h="705">
                  <a:moveTo>
                    <a:pt x="197" y="137"/>
                  </a:moveTo>
                  <a:lnTo>
                    <a:pt x="237" y="247"/>
                  </a:lnTo>
                  <a:lnTo>
                    <a:pt x="294" y="323"/>
                  </a:lnTo>
                  <a:lnTo>
                    <a:pt x="372" y="382"/>
                  </a:lnTo>
                  <a:lnTo>
                    <a:pt x="467" y="407"/>
                  </a:lnTo>
                  <a:lnTo>
                    <a:pt x="549" y="416"/>
                  </a:lnTo>
                  <a:lnTo>
                    <a:pt x="667" y="410"/>
                  </a:lnTo>
                  <a:lnTo>
                    <a:pt x="844" y="367"/>
                  </a:lnTo>
                  <a:lnTo>
                    <a:pt x="996" y="313"/>
                  </a:lnTo>
                  <a:lnTo>
                    <a:pt x="851" y="401"/>
                  </a:lnTo>
                  <a:lnTo>
                    <a:pt x="633" y="462"/>
                  </a:lnTo>
                  <a:lnTo>
                    <a:pt x="446" y="477"/>
                  </a:lnTo>
                  <a:lnTo>
                    <a:pt x="298" y="433"/>
                  </a:lnTo>
                  <a:lnTo>
                    <a:pt x="363" y="492"/>
                  </a:lnTo>
                  <a:lnTo>
                    <a:pt x="454" y="536"/>
                  </a:lnTo>
                  <a:lnTo>
                    <a:pt x="566" y="551"/>
                  </a:lnTo>
                  <a:lnTo>
                    <a:pt x="692" y="545"/>
                  </a:lnTo>
                  <a:lnTo>
                    <a:pt x="542" y="595"/>
                  </a:lnTo>
                  <a:lnTo>
                    <a:pt x="448" y="595"/>
                  </a:lnTo>
                  <a:lnTo>
                    <a:pt x="332" y="595"/>
                  </a:lnTo>
                  <a:lnTo>
                    <a:pt x="237" y="555"/>
                  </a:lnTo>
                  <a:lnTo>
                    <a:pt x="310" y="627"/>
                  </a:lnTo>
                  <a:lnTo>
                    <a:pt x="412" y="661"/>
                  </a:lnTo>
                  <a:lnTo>
                    <a:pt x="534" y="665"/>
                  </a:lnTo>
                  <a:lnTo>
                    <a:pt x="399" y="705"/>
                  </a:lnTo>
                  <a:lnTo>
                    <a:pt x="304" y="698"/>
                  </a:lnTo>
                  <a:lnTo>
                    <a:pt x="213" y="671"/>
                  </a:lnTo>
                  <a:lnTo>
                    <a:pt x="102" y="570"/>
                  </a:lnTo>
                  <a:lnTo>
                    <a:pt x="24" y="433"/>
                  </a:lnTo>
                  <a:lnTo>
                    <a:pt x="0" y="317"/>
                  </a:lnTo>
                  <a:lnTo>
                    <a:pt x="0" y="203"/>
                  </a:lnTo>
                  <a:lnTo>
                    <a:pt x="53" y="0"/>
                  </a:lnTo>
                  <a:lnTo>
                    <a:pt x="43" y="226"/>
                  </a:lnTo>
                  <a:lnTo>
                    <a:pt x="68" y="348"/>
                  </a:lnTo>
                  <a:lnTo>
                    <a:pt x="135" y="450"/>
                  </a:lnTo>
                  <a:lnTo>
                    <a:pt x="95" y="327"/>
                  </a:lnTo>
                  <a:lnTo>
                    <a:pt x="93" y="198"/>
                  </a:lnTo>
                  <a:lnTo>
                    <a:pt x="108" y="104"/>
                  </a:lnTo>
                  <a:lnTo>
                    <a:pt x="135" y="241"/>
                  </a:lnTo>
                  <a:lnTo>
                    <a:pt x="175" y="333"/>
                  </a:lnTo>
                  <a:lnTo>
                    <a:pt x="237" y="391"/>
                  </a:lnTo>
                  <a:lnTo>
                    <a:pt x="294" y="393"/>
                  </a:lnTo>
                  <a:lnTo>
                    <a:pt x="230" y="283"/>
                  </a:lnTo>
                  <a:lnTo>
                    <a:pt x="194" y="207"/>
                  </a:lnTo>
                  <a:lnTo>
                    <a:pt x="197" y="137"/>
                  </a:lnTo>
                  <a:lnTo>
                    <a:pt x="197" y="137"/>
                  </a:lnTo>
                  <a:close/>
                </a:path>
              </a:pathLst>
            </a:custGeom>
            <a:solidFill>
              <a:srgbClr val="a69b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8950320" y="57960"/>
              <a:ext cx="21240" cy="21600"/>
            </a:xfrm>
            <a:custGeom>
              <a:avLst/>
              <a:gdLst/>
              <a:ahLst/>
              <a:rect l="l" t="t" r="r" b="b"/>
              <a:pathLst>
                <a:path w="542" h="547">
                  <a:moveTo>
                    <a:pt x="59" y="0"/>
                  </a:moveTo>
                  <a:lnTo>
                    <a:pt x="49" y="116"/>
                  </a:lnTo>
                  <a:lnTo>
                    <a:pt x="84" y="226"/>
                  </a:lnTo>
                  <a:lnTo>
                    <a:pt x="160" y="353"/>
                  </a:lnTo>
                  <a:lnTo>
                    <a:pt x="203" y="405"/>
                  </a:lnTo>
                  <a:lnTo>
                    <a:pt x="99" y="370"/>
                  </a:lnTo>
                  <a:lnTo>
                    <a:pt x="15" y="270"/>
                  </a:lnTo>
                  <a:lnTo>
                    <a:pt x="40" y="370"/>
                  </a:lnTo>
                  <a:lnTo>
                    <a:pt x="84" y="429"/>
                  </a:lnTo>
                  <a:lnTo>
                    <a:pt x="0" y="399"/>
                  </a:lnTo>
                  <a:lnTo>
                    <a:pt x="59" y="479"/>
                  </a:lnTo>
                  <a:lnTo>
                    <a:pt x="143" y="530"/>
                  </a:lnTo>
                  <a:lnTo>
                    <a:pt x="262" y="547"/>
                  </a:lnTo>
                  <a:lnTo>
                    <a:pt x="407" y="515"/>
                  </a:lnTo>
                  <a:lnTo>
                    <a:pt x="542" y="479"/>
                  </a:lnTo>
                  <a:lnTo>
                    <a:pt x="363" y="439"/>
                  </a:lnTo>
                  <a:lnTo>
                    <a:pt x="255" y="346"/>
                  </a:lnTo>
                  <a:lnTo>
                    <a:pt x="169" y="245"/>
                  </a:lnTo>
                  <a:lnTo>
                    <a:pt x="110" y="144"/>
                  </a:lnTo>
                  <a:lnTo>
                    <a:pt x="59" y="0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a69b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941320" y="55080"/>
              <a:ext cx="24120" cy="33840"/>
            </a:xfrm>
            <a:custGeom>
              <a:avLst/>
              <a:gdLst/>
              <a:ahLst/>
              <a:rect l="l" t="t" r="r" b="b"/>
              <a:pathLst>
                <a:path w="614" h="863">
                  <a:moveTo>
                    <a:pt x="148" y="0"/>
                  </a:moveTo>
                  <a:lnTo>
                    <a:pt x="97" y="154"/>
                  </a:lnTo>
                  <a:lnTo>
                    <a:pt x="86" y="340"/>
                  </a:lnTo>
                  <a:lnTo>
                    <a:pt x="116" y="498"/>
                  </a:lnTo>
                  <a:lnTo>
                    <a:pt x="190" y="600"/>
                  </a:lnTo>
                  <a:lnTo>
                    <a:pt x="278" y="690"/>
                  </a:lnTo>
                  <a:lnTo>
                    <a:pt x="394" y="716"/>
                  </a:lnTo>
                  <a:lnTo>
                    <a:pt x="530" y="716"/>
                  </a:lnTo>
                  <a:lnTo>
                    <a:pt x="614" y="705"/>
                  </a:lnTo>
                  <a:lnTo>
                    <a:pt x="492" y="749"/>
                  </a:lnTo>
                  <a:lnTo>
                    <a:pt x="367" y="764"/>
                  </a:lnTo>
                  <a:lnTo>
                    <a:pt x="260" y="741"/>
                  </a:lnTo>
                  <a:lnTo>
                    <a:pt x="165" y="694"/>
                  </a:lnTo>
                  <a:lnTo>
                    <a:pt x="222" y="756"/>
                  </a:lnTo>
                  <a:lnTo>
                    <a:pt x="325" y="796"/>
                  </a:lnTo>
                  <a:lnTo>
                    <a:pt x="424" y="796"/>
                  </a:lnTo>
                  <a:lnTo>
                    <a:pt x="582" y="796"/>
                  </a:lnTo>
                  <a:lnTo>
                    <a:pt x="451" y="844"/>
                  </a:lnTo>
                  <a:lnTo>
                    <a:pt x="346" y="863"/>
                  </a:lnTo>
                  <a:lnTo>
                    <a:pt x="232" y="838"/>
                  </a:lnTo>
                  <a:lnTo>
                    <a:pt x="124" y="796"/>
                  </a:lnTo>
                  <a:lnTo>
                    <a:pt x="59" y="716"/>
                  </a:lnTo>
                  <a:lnTo>
                    <a:pt x="27" y="619"/>
                  </a:lnTo>
                  <a:lnTo>
                    <a:pt x="2" y="494"/>
                  </a:lnTo>
                  <a:lnTo>
                    <a:pt x="0" y="317"/>
                  </a:lnTo>
                  <a:lnTo>
                    <a:pt x="32" y="444"/>
                  </a:lnTo>
                  <a:lnTo>
                    <a:pt x="97" y="600"/>
                  </a:lnTo>
                  <a:lnTo>
                    <a:pt x="59" y="439"/>
                  </a:lnTo>
                  <a:lnTo>
                    <a:pt x="44" y="308"/>
                  </a:lnTo>
                  <a:lnTo>
                    <a:pt x="74" y="138"/>
                  </a:lnTo>
                  <a:lnTo>
                    <a:pt x="97" y="64"/>
                  </a:lnTo>
                  <a:lnTo>
                    <a:pt x="148" y="0"/>
                  </a:lnTo>
                  <a:lnTo>
                    <a:pt x="148" y="0"/>
                  </a:lnTo>
                  <a:close/>
                </a:path>
              </a:pathLst>
            </a:custGeom>
            <a:solidFill>
              <a:srgbClr val="a69b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951040" y="63720"/>
              <a:ext cx="52560" cy="39600"/>
            </a:xfrm>
            <a:custGeom>
              <a:avLst/>
              <a:gdLst/>
              <a:ahLst/>
              <a:rect l="l" t="t" r="r" b="b"/>
              <a:pathLst>
                <a:path w="1329" h="1004">
                  <a:moveTo>
                    <a:pt x="280" y="782"/>
                  </a:moveTo>
                  <a:lnTo>
                    <a:pt x="496" y="696"/>
                  </a:lnTo>
                  <a:lnTo>
                    <a:pt x="626" y="628"/>
                  </a:lnTo>
                  <a:lnTo>
                    <a:pt x="449" y="651"/>
                  </a:lnTo>
                  <a:lnTo>
                    <a:pt x="228" y="717"/>
                  </a:lnTo>
                  <a:lnTo>
                    <a:pt x="73" y="744"/>
                  </a:lnTo>
                  <a:lnTo>
                    <a:pt x="0" y="704"/>
                  </a:lnTo>
                  <a:lnTo>
                    <a:pt x="194" y="677"/>
                  </a:lnTo>
                  <a:lnTo>
                    <a:pt x="407" y="630"/>
                  </a:lnTo>
                  <a:lnTo>
                    <a:pt x="618" y="548"/>
                  </a:lnTo>
                  <a:lnTo>
                    <a:pt x="814" y="426"/>
                  </a:lnTo>
                  <a:lnTo>
                    <a:pt x="1017" y="286"/>
                  </a:lnTo>
                  <a:lnTo>
                    <a:pt x="841" y="358"/>
                  </a:lnTo>
                  <a:lnTo>
                    <a:pt x="1027" y="221"/>
                  </a:lnTo>
                  <a:lnTo>
                    <a:pt x="1329" y="0"/>
                  </a:lnTo>
                  <a:lnTo>
                    <a:pt x="1109" y="227"/>
                  </a:lnTo>
                  <a:lnTo>
                    <a:pt x="938" y="417"/>
                  </a:lnTo>
                  <a:lnTo>
                    <a:pt x="799" y="542"/>
                  </a:lnTo>
                  <a:lnTo>
                    <a:pt x="618" y="710"/>
                  </a:lnTo>
                  <a:lnTo>
                    <a:pt x="757" y="660"/>
                  </a:lnTo>
                  <a:lnTo>
                    <a:pt x="879" y="575"/>
                  </a:lnTo>
                  <a:lnTo>
                    <a:pt x="1036" y="426"/>
                  </a:lnTo>
                  <a:lnTo>
                    <a:pt x="1223" y="238"/>
                  </a:lnTo>
                  <a:lnTo>
                    <a:pt x="947" y="613"/>
                  </a:lnTo>
                  <a:lnTo>
                    <a:pt x="1069" y="533"/>
                  </a:lnTo>
                  <a:lnTo>
                    <a:pt x="928" y="677"/>
                  </a:lnTo>
                  <a:lnTo>
                    <a:pt x="789" y="786"/>
                  </a:lnTo>
                  <a:lnTo>
                    <a:pt x="668" y="867"/>
                  </a:lnTo>
                  <a:lnTo>
                    <a:pt x="356" y="999"/>
                  </a:lnTo>
                  <a:lnTo>
                    <a:pt x="181" y="1004"/>
                  </a:lnTo>
                  <a:lnTo>
                    <a:pt x="409" y="924"/>
                  </a:lnTo>
                  <a:lnTo>
                    <a:pt x="662" y="803"/>
                  </a:lnTo>
                  <a:lnTo>
                    <a:pt x="799" y="704"/>
                  </a:lnTo>
                  <a:lnTo>
                    <a:pt x="597" y="808"/>
                  </a:lnTo>
                  <a:lnTo>
                    <a:pt x="415" y="881"/>
                  </a:lnTo>
                  <a:lnTo>
                    <a:pt x="238" y="940"/>
                  </a:lnTo>
                  <a:lnTo>
                    <a:pt x="147" y="947"/>
                  </a:lnTo>
                  <a:lnTo>
                    <a:pt x="276" y="883"/>
                  </a:lnTo>
                  <a:lnTo>
                    <a:pt x="519" y="793"/>
                  </a:lnTo>
                  <a:lnTo>
                    <a:pt x="571" y="751"/>
                  </a:lnTo>
                  <a:lnTo>
                    <a:pt x="434" y="767"/>
                  </a:lnTo>
                  <a:lnTo>
                    <a:pt x="280" y="782"/>
                  </a:lnTo>
                  <a:lnTo>
                    <a:pt x="280" y="782"/>
                  </a:lnTo>
                  <a:close/>
                </a:path>
              </a:pathLst>
            </a:custGeom>
            <a:solidFill>
              <a:srgbClr val="a69b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8923680" y="81360"/>
              <a:ext cx="18720" cy="21960"/>
            </a:xfrm>
            <a:custGeom>
              <a:avLst/>
              <a:gdLst/>
              <a:ahLst/>
              <a:rect l="l" t="t" r="r" b="b"/>
              <a:pathLst>
                <a:path w="475" h="561">
                  <a:moveTo>
                    <a:pt x="9" y="0"/>
                  </a:moveTo>
                  <a:lnTo>
                    <a:pt x="0" y="137"/>
                  </a:lnTo>
                  <a:lnTo>
                    <a:pt x="6" y="261"/>
                  </a:lnTo>
                  <a:lnTo>
                    <a:pt x="80" y="397"/>
                  </a:lnTo>
                  <a:lnTo>
                    <a:pt x="163" y="491"/>
                  </a:lnTo>
                  <a:lnTo>
                    <a:pt x="308" y="540"/>
                  </a:lnTo>
                  <a:lnTo>
                    <a:pt x="475" y="561"/>
                  </a:lnTo>
                  <a:lnTo>
                    <a:pt x="287" y="485"/>
                  </a:lnTo>
                  <a:lnTo>
                    <a:pt x="173" y="386"/>
                  </a:lnTo>
                  <a:lnTo>
                    <a:pt x="116" y="221"/>
                  </a:lnTo>
                  <a:lnTo>
                    <a:pt x="106" y="93"/>
                  </a:lnTo>
                  <a:lnTo>
                    <a:pt x="89" y="221"/>
                  </a:lnTo>
                  <a:lnTo>
                    <a:pt x="99" y="327"/>
                  </a:lnTo>
                  <a:lnTo>
                    <a:pt x="42" y="205"/>
                  </a:lnTo>
                  <a:lnTo>
                    <a:pt x="25" y="84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a69b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921520" y="95760"/>
              <a:ext cx="16200" cy="10440"/>
            </a:xfrm>
            <a:custGeom>
              <a:avLst/>
              <a:gdLst/>
              <a:ahLst/>
              <a:rect l="l" t="t" r="r" b="b"/>
              <a:pathLst>
                <a:path w="416" h="268">
                  <a:moveTo>
                    <a:pt x="0" y="84"/>
                  </a:moveTo>
                  <a:lnTo>
                    <a:pt x="89" y="179"/>
                  </a:lnTo>
                  <a:lnTo>
                    <a:pt x="201" y="261"/>
                  </a:lnTo>
                  <a:lnTo>
                    <a:pt x="323" y="268"/>
                  </a:lnTo>
                  <a:lnTo>
                    <a:pt x="416" y="255"/>
                  </a:lnTo>
                  <a:lnTo>
                    <a:pt x="236" y="206"/>
                  </a:lnTo>
                  <a:lnTo>
                    <a:pt x="116" y="139"/>
                  </a:lnTo>
                  <a:lnTo>
                    <a:pt x="19" y="0"/>
                  </a:lnTo>
                  <a:lnTo>
                    <a:pt x="57" y="105"/>
                  </a:lnTo>
                  <a:lnTo>
                    <a:pt x="0" y="84"/>
                  </a:lnTo>
                  <a:lnTo>
                    <a:pt x="0" y="84"/>
                  </a:lnTo>
                  <a:close/>
                </a:path>
              </a:pathLst>
            </a:custGeom>
            <a:solidFill>
              <a:srgbClr val="a69b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942400" y="18720"/>
              <a:ext cx="43920" cy="32400"/>
            </a:xfrm>
            <a:custGeom>
              <a:avLst/>
              <a:gdLst/>
              <a:ahLst/>
              <a:rect l="l" t="t" r="r" b="b"/>
              <a:pathLst>
                <a:path w="1110" h="822">
                  <a:moveTo>
                    <a:pt x="0" y="822"/>
                  </a:moveTo>
                  <a:lnTo>
                    <a:pt x="86" y="677"/>
                  </a:lnTo>
                  <a:lnTo>
                    <a:pt x="228" y="500"/>
                  </a:lnTo>
                  <a:lnTo>
                    <a:pt x="80" y="609"/>
                  </a:lnTo>
                  <a:lnTo>
                    <a:pt x="118" y="521"/>
                  </a:lnTo>
                  <a:lnTo>
                    <a:pt x="177" y="440"/>
                  </a:lnTo>
                  <a:lnTo>
                    <a:pt x="23" y="552"/>
                  </a:lnTo>
                  <a:lnTo>
                    <a:pt x="80" y="462"/>
                  </a:lnTo>
                  <a:lnTo>
                    <a:pt x="135" y="398"/>
                  </a:lnTo>
                  <a:lnTo>
                    <a:pt x="40" y="462"/>
                  </a:lnTo>
                  <a:lnTo>
                    <a:pt x="86" y="392"/>
                  </a:lnTo>
                  <a:lnTo>
                    <a:pt x="251" y="299"/>
                  </a:lnTo>
                  <a:lnTo>
                    <a:pt x="445" y="202"/>
                  </a:lnTo>
                  <a:lnTo>
                    <a:pt x="249" y="350"/>
                  </a:lnTo>
                  <a:lnTo>
                    <a:pt x="177" y="405"/>
                  </a:lnTo>
                  <a:lnTo>
                    <a:pt x="257" y="373"/>
                  </a:lnTo>
                  <a:lnTo>
                    <a:pt x="204" y="453"/>
                  </a:lnTo>
                  <a:lnTo>
                    <a:pt x="282" y="415"/>
                  </a:lnTo>
                  <a:lnTo>
                    <a:pt x="437" y="299"/>
                  </a:lnTo>
                  <a:lnTo>
                    <a:pt x="574" y="202"/>
                  </a:lnTo>
                  <a:lnTo>
                    <a:pt x="681" y="149"/>
                  </a:lnTo>
                  <a:lnTo>
                    <a:pt x="859" y="80"/>
                  </a:lnTo>
                  <a:lnTo>
                    <a:pt x="989" y="33"/>
                  </a:lnTo>
                  <a:lnTo>
                    <a:pt x="1110" y="0"/>
                  </a:lnTo>
                  <a:lnTo>
                    <a:pt x="871" y="113"/>
                  </a:lnTo>
                  <a:lnTo>
                    <a:pt x="707" y="187"/>
                  </a:lnTo>
                  <a:lnTo>
                    <a:pt x="546" y="299"/>
                  </a:lnTo>
                  <a:lnTo>
                    <a:pt x="361" y="447"/>
                  </a:lnTo>
                  <a:lnTo>
                    <a:pt x="242" y="569"/>
                  </a:lnTo>
                  <a:lnTo>
                    <a:pt x="120" y="717"/>
                  </a:lnTo>
                  <a:lnTo>
                    <a:pt x="53" y="801"/>
                  </a:lnTo>
                  <a:lnTo>
                    <a:pt x="0" y="822"/>
                  </a:lnTo>
                  <a:lnTo>
                    <a:pt x="0" y="822"/>
                  </a:lnTo>
                  <a:close/>
                </a:path>
              </a:pathLst>
            </a:custGeom>
            <a:solidFill>
              <a:srgbClr val="a69b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8952840" y="27000"/>
              <a:ext cx="19440" cy="22320"/>
            </a:xfrm>
            <a:custGeom>
              <a:avLst/>
              <a:gdLst/>
              <a:ahLst/>
              <a:rect l="l" t="t" r="r" b="b"/>
              <a:pathLst>
                <a:path w="496" h="571">
                  <a:moveTo>
                    <a:pt x="0" y="571"/>
                  </a:moveTo>
                  <a:lnTo>
                    <a:pt x="80" y="398"/>
                  </a:lnTo>
                  <a:lnTo>
                    <a:pt x="196" y="234"/>
                  </a:lnTo>
                  <a:lnTo>
                    <a:pt x="327" y="113"/>
                  </a:lnTo>
                  <a:lnTo>
                    <a:pt x="496" y="0"/>
                  </a:lnTo>
                  <a:lnTo>
                    <a:pt x="321" y="175"/>
                  </a:lnTo>
                  <a:lnTo>
                    <a:pt x="220" y="318"/>
                  </a:lnTo>
                  <a:lnTo>
                    <a:pt x="148" y="481"/>
                  </a:lnTo>
                  <a:lnTo>
                    <a:pt x="139" y="392"/>
                  </a:lnTo>
                  <a:lnTo>
                    <a:pt x="80" y="497"/>
                  </a:lnTo>
                  <a:lnTo>
                    <a:pt x="0" y="571"/>
                  </a:lnTo>
                  <a:lnTo>
                    <a:pt x="0" y="571"/>
                  </a:lnTo>
                  <a:close/>
                </a:path>
              </a:pathLst>
            </a:custGeom>
            <a:solidFill>
              <a:srgbClr val="a69b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960760" y="36720"/>
              <a:ext cx="4680" cy="14040"/>
            </a:xfrm>
            <a:custGeom>
              <a:avLst/>
              <a:gdLst/>
              <a:ahLst/>
              <a:rect l="l" t="t" r="r" b="b"/>
              <a:pathLst>
                <a:path w="126" h="355">
                  <a:moveTo>
                    <a:pt x="126" y="0"/>
                  </a:moveTo>
                  <a:lnTo>
                    <a:pt x="19" y="148"/>
                  </a:lnTo>
                  <a:lnTo>
                    <a:pt x="0" y="279"/>
                  </a:lnTo>
                  <a:lnTo>
                    <a:pt x="27" y="355"/>
                  </a:lnTo>
                  <a:lnTo>
                    <a:pt x="67" y="186"/>
                  </a:lnTo>
                  <a:lnTo>
                    <a:pt x="126" y="0"/>
                  </a:lnTo>
                  <a:lnTo>
                    <a:pt x="126" y="0"/>
                  </a:lnTo>
                  <a:close/>
                </a:path>
              </a:pathLst>
            </a:custGeom>
            <a:solidFill>
              <a:srgbClr val="a69b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8974800" y="50760"/>
              <a:ext cx="6480" cy="6840"/>
            </a:xfrm>
            <a:custGeom>
              <a:avLst/>
              <a:gdLst/>
              <a:ahLst/>
              <a:rect l="l" t="t" r="r" b="b"/>
              <a:pathLst>
                <a:path w="171" h="179">
                  <a:moveTo>
                    <a:pt x="0" y="55"/>
                  </a:moveTo>
                  <a:lnTo>
                    <a:pt x="10" y="141"/>
                  </a:lnTo>
                  <a:lnTo>
                    <a:pt x="86" y="179"/>
                  </a:lnTo>
                  <a:lnTo>
                    <a:pt x="160" y="179"/>
                  </a:lnTo>
                  <a:lnTo>
                    <a:pt x="171" y="120"/>
                  </a:lnTo>
                  <a:lnTo>
                    <a:pt x="74" y="103"/>
                  </a:lnTo>
                  <a:lnTo>
                    <a:pt x="27" y="0"/>
                  </a:lnTo>
                  <a:lnTo>
                    <a:pt x="0" y="55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1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987400" y="43560"/>
              <a:ext cx="4320" cy="6840"/>
            </a:xfrm>
            <a:custGeom>
              <a:avLst/>
              <a:gdLst/>
              <a:ahLst/>
              <a:rect l="l" t="t" r="r" b="b"/>
              <a:pathLst>
                <a:path w="118" h="173">
                  <a:moveTo>
                    <a:pt x="0" y="0"/>
                  </a:moveTo>
                  <a:lnTo>
                    <a:pt x="0" y="112"/>
                  </a:lnTo>
                  <a:lnTo>
                    <a:pt x="59" y="173"/>
                  </a:lnTo>
                  <a:lnTo>
                    <a:pt x="118" y="129"/>
                  </a:lnTo>
                  <a:lnTo>
                    <a:pt x="50" y="8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1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9003240" y="34560"/>
              <a:ext cx="9720" cy="3600"/>
            </a:xfrm>
            <a:custGeom>
              <a:avLst/>
              <a:gdLst/>
              <a:ahLst/>
              <a:rect l="l" t="t" r="r" b="b"/>
              <a:pathLst>
                <a:path w="248" h="92">
                  <a:moveTo>
                    <a:pt x="0" y="0"/>
                  </a:moveTo>
                  <a:lnTo>
                    <a:pt x="38" y="86"/>
                  </a:lnTo>
                  <a:lnTo>
                    <a:pt x="130" y="92"/>
                  </a:lnTo>
                  <a:lnTo>
                    <a:pt x="248" y="50"/>
                  </a:lnTo>
                  <a:lnTo>
                    <a:pt x="103" y="5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1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8961840" y="61200"/>
              <a:ext cx="7200" cy="7560"/>
            </a:xfrm>
            <a:custGeom>
              <a:avLst/>
              <a:gdLst/>
              <a:ahLst/>
              <a:rect l="l" t="t" r="r" b="b"/>
              <a:pathLst>
                <a:path w="186" h="194">
                  <a:moveTo>
                    <a:pt x="0" y="43"/>
                  </a:moveTo>
                  <a:lnTo>
                    <a:pt x="86" y="161"/>
                  </a:lnTo>
                  <a:lnTo>
                    <a:pt x="186" y="194"/>
                  </a:lnTo>
                  <a:lnTo>
                    <a:pt x="150" y="117"/>
                  </a:lnTo>
                  <a:lnTo>
                    <a:pt x="15" y="0"/>
                  </a:lnTo>
                  <a:lnTo>
                    <a:pt x="0" y="43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d1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957880" y="61560"/>
              <a:ext cx="8280" cy="11520"/>
            </a:xfrm>
            <a:custGeom>
              <a:avLst/>
              <a:gdLst/>
              <a:ahLst/>
              <a:rect l="l" t="t" r="r" b="b"/>
              <a:pathLst>
                <a:path w="211" h="291">
                  <a:moveTo>
                    <a:pt x="23" y="120"/>
                  </a:moveTo>
                  <a:lnTo>
                    <a:pt x="135" y="247"/>
                  </a:lnTo>
                  <a:lnTo>
                    <a:pt x="211" y="291"/>
                  </a:lnTo>
                  <a:lnTo>
                    <a:pt x="182" y="220"/>
                  </a:lnTo>
                  <a:lnTo>
                    <a:pt x="93" y="120"/>
                  </a:lnTo>
                  <a:lnTo>
                    <a:pt x="0" y="0"/>
                  </a:lnTo>
                  <a:lnTo>
                    <a:pt x="23" y="120"/>
                  </a:lnTo>
                  <a:lnTo>
                    <a:pt x="23" y="120"/>
                  </a:lnTo>
                  <a:close/>
                </a:path>
              </a:pathLst>
            </a:custGeom>
            <a:solidFill>
              <a:srgbClr val="d1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8953920" y="73440"/>
              <a:ext cx="9000" cy="3960"/>
            </a:xfrm>
            <a:custGeom>
              <a:avLst/>
              <a:gdLst/>
              <a:ahLst/>
              <a:rect l="l" t="t" r="r" b="b"/>
              <a:pathLst>
                <a:path w="232" h="108">
                  <a:moveTo>
                    <a:pt x="0" y="0"/>
                  </a:moveTo>
                  <a:lnTo>
                    <a:pt x="101" y="40"/>
                  </a:lnTo>
                  <a:lnTo>
                    <a:pt x="232" y="83"/>
                  </a:lnTo>
                  <a:lnTo>
                    <a:pt x="128" y="108"/>
                  </a:lnTo>
                  <a:lnTo>
                    <a:pt x="63" y="76"/>
                  </a:lnTo>
                  <a:lnTo>
                    <a:pt x="17" y="4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1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8945280" y="75600"/>
              <a:ext cx="5760" cy="6840"/>
            </a:xfrm>
            <a:custGeom>
              <a:avLst/>
              <a:gdLst/>
              <a:ahLst/>
              <a:rect l="l" t="t" r="r" b="b"/>
              <a:pathLst>
                <a:path w="150" h="173">
                  <a:moveTo>
                    <a:pt x="0" y="0"/>
                  </a:moveTo>
                  <a:lnTo>
                    <a:pt x="89" y="109"/>
                  </a:lnTo>
                  <a:lnTo>
                    <a:pt x="150" y="173"/>
                  </a:lnTo>
                  <a:lnTo>
                    <a:pt x="70" y="153"/>
                  </a:lnTo>
                  <a:lnTo>
                    <a:pt x="19" y="10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1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971920" y="81000"/>
              <a:ext cx="11160" cy="6480"/>
            </a:xfrm>
            <a:custGeom>
              <a:avLst/>
              <a:gdLst/>
              <a:ahLst/>
              <a:rect l="l" t="t" r="r" b="b"/>
              <a:pathLst>
                <a:path w="289" h="173">
                  <a:moveTo>
                    <a:pt x="0" y="165"/>
                  </a:moveTo>
                  <a:lnTo>
                    <a:pt x="116" y="118"/>
                  </a:lnTo>
                  <a:lnTo>
                    <a:pt x="289" y="0"/>
                  </a:lnTo>
                  <a:lnTo>
                    <a:pt x="226" y="91"/>
                  </a:lnTo>
                  <a:lnTo>
                    <a:pt x="152" y="158"/>
                  </a:lnTo>
                  <a:lnTo>
                    <a:pt x="95" y="173"/>
                  </a:lnTo>
                  <a:lnTo>
                    <a:pt x="0" y="165"/>
                  </a:lnTo>
                  <a:lnTo>
                    <a:pt x="0" y="165"/>
                  </a:lnTo>
                  <a:close/>
                </a:path>
              </a:pathLst>
            </a:custGeom>
            <a:solidFill>
              <a:srgbClr val="d1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976240" y="86040"/>
              <a:ext cx="10440" cy="6120"/>
            </a:xfrm>
            <a:custGeom>
              <a:avLst/>
              <a:gdLst/>
              <a:ahLst/>
              <a:rect l="l" t="t" r="r" b="b"/>
              <a:pathLst>
                <a:path w="268" h="159">
                  <a:moveTo>
                    <a:pt x="268" y="0"/>
                  </a:moveTo>
                  <a:lnTo>
                    <a:pt x="84" y="121"/>
                  </a:lnTo>
                  <a:lnTo>
                    <a:pt x="0" y="159"/>
                  </a:lnTo>
                  <a:lnTo>
                    <a:pt x="124" y="139"/>
                  </a:lnTo>
                  <a:lnTo>
                    <a:pt x="221" y="83"/>
                  </a:lnTo>
                  <a:lnTo>
                    <a:pt x="268" y="0"/>
                  </a:lnTo>
                  <a:lnTo>
                    <a:pt x="268" y="0"/>
                  </a:lnTo>
                  <a:close/>
                </a:path>
              </a:pathLst>
            </a:custGeom>
            <a:solidFill>
              <a:srgbClr val="d1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8926920" y="93960"/>
              <a:ext cx="5400" cy="5040"/>
            </a:xfrm>
            <a:custGeom>
              <a:avLst/>
              <a:gdLst/>
              <a:ahLst/>
              <a:rect l="l" t="t" r="r" b="b"/>
              <a:pathLst>
                <a:path w="137" h="133">
                  <a:moveTo>
                    <a:pt x="0" y="27"/>
                  </a:moveTo>
                  <a:lnTo>
                    <a:pt x="61" y="111"/>
                  </a:lnTo>
                  <a:lnTo>
                    <a:pt x="137" y="133"/>
                  </a:lnTo>
                  <a:lnTo>
                    <a:pt x="68" y="69"/>
                  </a:lnTo>
                  <a:lnTo>
                    <a:pt x="40" y="0"/>
                  </a:lnTo>
                  <a:lnTo>
                    <a:pt x="0" y="27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d1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8994600" y="60480"/>
              <a:ext cx="40680" cy="79560"/>
            </a:xfrm>
            <a:custGeom>
              <a:avLst/>
              <a:gdLst/>
              <a:ahLst/>
              <a:rect l="l" t="t" r="r" b="b"/>
              <a:pathLst>
                <a:path w="1028" h="2010">
                  <a:moveTo>
                    <a:pt x="1028" y="0"/>
                  </a:moveTo>
                  <a:lnTo>
                    <a:pt x="779" y="149"/>
                  </a:lnTo>
                  <a:lnTo>
                    <a:pt x="580" y="333"/>
                  </a:lnTo>
                  <a:lnTo>
                    <a:pt x="384" y="565"/>
                  </a:lnTo>
                  <a:lnTo>
                    <a:pt x="255" y="725"/>
                  </a:lnTo>
                  <a:lnTo>
                    <a:pt x="120" y="970"/>
                  </a:lnTo>
                  <a:lnTo>
                    <a:pt x="44" y="1181"/>
                  </a:lnTo>
                  <a:lnTo>
                    <a:pt x="0" y="1390"/>
                  </a:lnTo>
                  <a:lnTo>
                    <a:pt x="0" y="1544"/>
                  </a:lnTo>
                  <a:lnTo>
                    <a:pt x="23" y="1681"/>
                  </a:lnTo>
                  <a:lnTo>
                    <a:pt x="102" y="1793"/>
                  </a:lnTo>
                  <a:lnTo>
                    <a:pt x="184" y="1862"/>
                  </a:lnTo>
                  <a:lnTo>
                    <a:pt x="352" y="1977"/>
                  </a:lnTo>
                  <a:lnTo>
                    <a:pt x="591" y="2010"/>
                  </a:lnTo>
                  <a:lnTo>
                    <a:pt x="783" y="2008"/>
                  </a:lnTo>
                  <a:lnTo>
                    <a:pt x="431" y="1881"/>
                  </a:lnTo>
                  <a:lnTo>
                    <a:pt x="300" y="1801"/>
                  </a:lnTo>
                  <a:lnTo>
                    <a:pt x="203" y="1673"/>
                  </a:lnTo>
                  <a:lnTo>
                    <a:pt x="144" y="1481"/>
                  </a:lnTo>
                  <a:lnTo>
                    <a:pt x="144" y="1322"/>
                  </a:lnTo>
                  <a:lnTo>
                    <a:pt x="175" y="1156"/>
                  </a:lnTo>
                  <a:lnTo>
                    <a:pt x="239" y="964"/>
                  </a:lnTo>
                  <a:lnTo>
                    <a:pt x="340" y="797"/>
                  </a:lnTo>
                  <a:lnTo>
                    <a:pt x="492" y="576"/>
                  </a:lnTo>
                  <a:lnTo>
                    <a:pt x="677" y="365"/>
                  </a:lnTo>
                  <a:lnTo>
                    <a:pt x="819" y="217"/>
                  </a:lnTo>
                  <a:lnTo>
                    <a:pt x="916" y="126"/>
                  </a:lnTo>
                  <a:lnTo>
                    <a:pt x="1028" y="0"/>
                  </a:lnTo>
                  <a:lnTo>
                    <a:pt x="1028" y="0"/>
                  </a:lnTo>
                  <a:close/>
                </a:path>
              </a:pathLst>
            </a:custGeom>
            <a:solidFill>
              <a:srgbClr val="e8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65880" y="54360"/>
              <a:ext cx="45000" cy="65160"/>
            </a:xfrm>
            <a:custGeom>
              <a:avLst/>
              <a:gdLst/>
              <a:ahLst/>
              <a:rect l="l" t="t" r="r" b="b"/>
              <a:pathLst>
                <a:path w="1138" h="1640">
                  <a:moveTo>
                    <a:pt x="981" y="28"/>
                  </a:moveTo>
                  <a:lnTo>
                    <a:pt x="1089" y="97"/>
                  </a:lnTo>
                  <a:lnTo>
                    <a:pt x="1138" y="176"/>
                  </a:lnTo>
                  <a:lnTo>
                    <a:pt x="1138" y="285"/>
                  </a:lnTo>
                  <a:lnTo>
                    <a:pt x="1074" y="433"/>
                  </a:lnTo>
                  <a:lnTo>
                    <a:pt x="912" y="656"/>
                  </a:lnTo>
                  <a:lnTo>
                    <a:pt x="0" y="1640"/>
                  </a:lnTo>
                  <a:lnTo>
                    <a:pt x="317" y="1213"/>
                  </a:lnTo>
                  <a:lnTo>
                    <a:pt x="713" y="745"/>
                  </a:lnTo>
                  <a:lnTo>
                    <a:pt x="912" y="496"/>
                  </a:lnTo>
                  <a:lnTo>
                    <a:pt x="969" y="336"/>
                  </a:lnTo>
                  <a:lnTo>
                    <a:pt x="981" y="188"/>
                  </a:lnTo>
                  <a:lnTo>
                    <a:pt x="933" y="79"/>
                  </a:lnTo>
                  <a:lnTo>
                    <a:pt x="836" y="0"/>
                  </a:lnTo>
                  <a:lnTo>
                    <a:pt x="981" y="28"/>
                  </a:lnTo>
                  <a:lnTo>
                    <a:pt x="981" y="28"/>
                  </a:lnTo>
                  <a:close/>
                </a:path>
              </a:pathLst>
            </a:custGeom>
            <a:solidFill>
              <a:srgbClr val="e8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996040" y="69480"/>
              <a:ext cx="28080" cy="68760"/>
            </a:xfrm>
            <a:custGeom>
              <a:avLst/>
              <a:gdLst/>
              <a:ahLst/>
              <a:rect l="l" t="t" r="r" b="b"/>
              <a:pathLst>
                <a:path w="713" h="1735">
                  <a:moveTo>
                    <a:pt x="713" y="0"/>
                  </a:moveTo>
                  <a:lnTo>
                    <a:pt x="436" y="254"/>
                  </a:lnTo>
                  <a:lnTo>
                    <a:pt x="245" y="501"/>
                  </a:lnTo>
                  <a:lnTo>
                    <a:pt x="137" y="690"/>
                  </a:lnTo>
                  <a:lnTo>
                    <a:pt x="44" y="948"/>
                  </a:lnTo>
                  <a:lnTo>
                    <a:pt x="4" y="1110"/>
                  </a:lnTo>
                  <a:lnTo>
                    <a:pt x="0" y="1268"/>
                  </a:lnTo>
                  <a:lnTo>
                    <a:pt x="44" y="1444"/>
                  </a:lnTo>
                  <a:lnTo>
                    <a:pt x="133" y="1566"/>
                  </a:lnTo>
                  <a:lnTo>
                    <a:pt x="234" y="1667"/>
                  </a:lnTo>
                  <a:lnTo>
                    <a:pt x="367" y="1724"/>
                  </a:lnTo>
                  <a:lnTo>
                    <a:pt x="533" y="1735"/>
                  </a:lnTo>
                  <a:lnTo>
                    <a:pt x="335" y="1659"/>
                  </a:lnTo>
                  <a:lnTo>
                    <a:pt x="213" y="1547"/>
                  </a:lnTo>
                  <a:lnTo>
                    <a:pt x="126" y="1414"/>
                  </a:lnTo>
                  <a:lnTo>
                    <a:pt x="69" y="1260"/>
                  </a:lnTo>
                  <a:lnTo>
                    <a:pt x="90" y="1026"/>
                  </a:lnTo>
                  <a:lnTo>
                    <a:pt x="145" y="823"/>
                  </a:lnTo>
                  <a:lnTo>
                    <a:pt x="234" y="610"/>
                  </a:lnTo>
                  <a:lnTo>
                    <a:pt x="432" y="327"/>
                  </a:lnTo>
                  <a:lnTo>
                    <a:pt x="633" y="114"/>
                  </a:lnTo>
                  <a:lnTo>
                    <a:pt x="713" y="0"/>
                  </a:lnTo>
                  <a:lnTo>
                    <a:pt x="713" y="0"/>
                  </a:lnTo>
                  <a:close/>
                </a:path>
              </a:pathLst>
            </a:custGeom>
            <a:solidFill>
              <a:srgbClr val="ff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9091440" y="56880"/>
              <a:ext cx="18360" cy="32040"/>
            </a:xfrm>
            <a:custGeom>
              <a:avLst/>
              <a:gdLst/>
              <a:ahLst/>
              <a:rect l="l" t="t" r="r" b="b"/>
              <a:pathLst>
                <a:path w="470" h="812">
                  <a:moveTo>
                    <a:pt x="318" y="0"/>
                  </a:moveTo>
                  <a:lnTo>
                    <a:pt x="371" y="84"/>
                  </a:lnTo>
                  <a:lnTo>
                    <a:pt x="371" y="183"/>
                  </a:lnTo>
                  <a:lnTo>
                    <a:pt x="354" y="301"/>
                  </a:lnTo>
                  <a:lnTo>
                    <a:pt x="289" y="437"/>
                  </a:lnTo>
                  <a:lnTo>
                    <a:pt x="0" y="812"/>
                  </a:lnTo>
                  <a:lnTo>
                    <a:pt x="318" y="487"/>
                  </a:lnTo>
                  <a:lnTo>
                    <a:pt x="415" y="352"/>
                  </a:lnTo>
                  <a:lnTo>
                    <a:pt x="470" y="205"/>
                  </a:lnTo>
                  <a:lnTo>
                    <a:pt x="470" y="122"/>
                  </a:lnTo>
                  <a:lnTo>
                    <a:pt x="443" y="59"/>
                  </a:lnTo>
                  <a:lnTo>
                    <a:pt x="402" y="23"/>
                  </a:lnTo>
                  <a:lnTo>
                    <a:pt x="318" y="0"/>
                  </a:lnTo>
                  <a:lnTo>
                    <a:pt x="318" y="0"/>
                  </a:lnTo>
                  <a:close/>
                </a:path>
              </a:pathLst>
            </a:custGeom>
            <a:solidFill>
              <a:srgbClr val="ff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9033840" y="57960"/>
              <a:ext cx="37800" cy="15840"/>
            </a:xfrm>
            <a:custGeom>
              <a:avLst/>
              <a:gdLst/>
              <a:ahLst/>
              <a:rect l="l" t="t" r="r" b="b"/>
              <a:pathLst>
                <a:path w="961" h="409">
                  <a:moveTo>
                    <a:pt x="0" y="409"/>
                  </a:moveTo>
                  <a:lnTo>
                    <a:pt x="158" y="270"/>
                  </a:lnTo>
                  <a:lnTo>
                    <a:pt x="308" y="163"/>
                  </a:lnTo>
                  <a:lnTo>
                    <a:pt x="478" y="80"/>
                  </a:lnTo>
                  <a:lnTo>
                    <a:pt x="609" y="40"/>
                  </a:lnTo>
                  <a:lnTo>
                    <a:pt x="746" y="0"/>
                  </a:lnTo>
                  <a:lnTo>
                    <a:pt x="864" y="0"/>
                  </a:lnTo>
                  <a:lnTo>
                    <a:pt x="961" y="30"/>
                  </a:lnTo>
                  <a:lnTo>
                    <a:pt x="791" y="51"/>
                  </a:lnTo>
                  <a:lnTo>
                    <a:pt x="628" y="95"/>
                  </a:lnTo>
                  <a:lnTo>
                    <a:pt x="442" y="199"/>
                  </a:lnTo>
                  <a:lnTo>
                    <a:pt x="316" y="295"/>
                  </a:lnTo>
                  <a:lnTo>
                    <a:pt x="177" y="327"/>
                  </a:lnTo>
                  <a:lnTo>
                    <a:pt x="0" y="409"/>
                  </a:lnTo>
                  <a:lnTo>
                    <a:pt x="0" y="409"/>
                  </a:lnTo>
                  <a:close/>
                </a:path>
              </a:pathLst>
            </a:custGeom>
            <a:solidFill>
              <a:srgbClr val="eab7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9023040" y="62640"/>
              <a:ext cx="59760" cy="53640"/>
            </a:xfrm>
            <a:custGeom>
              <a:avLst/>
              <a:gdLst/>
              <a:ahLst/>
              <a:rect l="l" t="t" r="r" b="b"/>
              <a:pathLst>
                <a:path w="1507" h="1355">
                  <a:moveTo>
                    <a:pt x="28" y="795"/>
                  </a:moveTo>
                  <a:lnTo>
                    <a:pt x="0" y="751"/>
                  </a:lnTo>
                  <a:lnTo>
                    <a:pt x="0" y="694"/>
                  </a:lnTo>
                  <a:lnTo>
                    <a:pt x="28" y="644"/>
                  </a:lnTo>
                  <a:lnTo>
                    <a:pt x="91" y="601"/>
                  </a:lnTo>
                  <a:lnTo>
                    <a:pt x="133" y="587"/>
                  </a:lnTo>
                  <a:lnTo>
                    <a:pt x="178" y="568"/>
                  </a:lnTo>
                  <a:lnTo>
                    <a:pt x="214" y="500"/>
                  </a:lnTo>
                  <a:lnTo>
                    <a:pt x="258" y="429"/>
                  </a:lnTo>
                  <a:lnTo>
                    <a:pt x="366" y="361"/>
                  </a:lnTo>
                  <a:lnTo>
                    <a:pt x="465" y="344"/>
                  </a:lnTo>
                  <a:lnTo>
                    <a:pt x="547" y="336"/>
                  </a:lnTo>
                  <a:lnTo>
                    <a:pt x="631" y="340"/>
                  </a:lnTo>
                  <a:lnTo>
                    <a:pt x="692" y="255"/>
                  </a:lnTo>
                  <a:lnTo>
                    <a:pt x="781" y="167"/>
                  </a:lnTo>
                  <a:lnTo>
                    <a:pt x="905" y="93"/>
                  </a:lnTo>
                  <a:lnTo>
                    <a:pt x="1036" y="28"/>
                  </a:lnTo>
                  <a:lnTo>
                    <a:pt x="1155" y="0"/>
                  </a:lnTo>
                  <a:lnTo>
                    <a:pt x="1249" y="15"/>
                  </a:lnTo>
                  <a:lnTo>
                    <a:pt x="1306" y="53"/>
                  </a:lnTo>
                  <a:lnTo>
                    <a:pt x="1336" y="116"/>
                  </a:lnTo>
                  <a:lnTo>
                    <a:pt x="1349" y="179"/>
                  </a:lnTo>
                  <a:lnTo>
                    <a:pt x="1346" y="255"/>
                  </a:lnTo>
                  <a:lnTo>
                    <a:pt x="1321" y="355"/>
                  </a:lnTo>
                  <a:lnTo>
                    <a:pt x="1256" y="466"/>
                  </a:lnTo>
                  <a:lnTo>
                    <a:pt x="1188" y="574"/>
                  </a:lnTo>
                  <a:lnTo>
                    <a:pt x="1311" y="487"/>
                  </a:lnTo>
                  <a:lnTo>
                    <a:pt x="1406" y="380"/>
                  </a:lnTo>
                  <a:lnTo>
                    <a:pt x="1482" y="243"/>
                  </a:lnTo>
                  <a:lnTo>
                    <a:pt x="1507" y="329"/>
                  </a:lnTo>
                  <a:lnTo>
                    <a:pt x="1471" y="449"/>
                  </a:lnTo>
                  <a:lnTo>
                    <a:pt x="1403" y="566"/>
                  </a:lnTo>
                  <a:lnTo>
                    <a:pt x="1264" y="730"/>
                  </a:lnTo>
                  <a:lnTo>
                    <a:pt x="1076" y="918"/>
                  </a:lnTo>
                  <a:lnTo>
                    <a:pt x="792" y="1154"/>
                  </a:lnTo>
                  <a:lnTo>
                    <a:pt x="661" y="1274"/>
                  </a:lnTo>
                  <a:lnTo>
                    <a:pt x="530" y="1348"/>
                  </a:lnTo>
                  <a:lnTo>
                    <a:pt x="467" y="1355"/>
                  </a:lnTo>
                  <a:lnTo>
                    <a:pt x="347" y="1352"/>
                  </a:lnTo>
                  <a:lnTo>
                    <a:pt x="235" y="1319"/>
                  </a:lnTo>
                  <a:lnTo>
                    <a:pt x="161" y="1268"/>
                  </a:lnTo>
                  <a:lnTo>
                    <a:pt x="85" y="1194"/>
                  </a:lnTo>
                  <a:lnTo>
                    <a:pt x="55" y="1085"/>
                  </a:lnTo>
                  <a:lnTo>
                    <a:pt x="55" y="1000"/>
                  </a:lnTo>
                  <a:lnTo>
                    <a:pt x="79" y="910"/>
                  </a:lnTo>
                  <a:lnTo>
                    <a:pt x="129" y="853"/>
                  </a:lnTo>
                  <a:lnTo>
                    <a:pt x="222" y="779"/>
                  </a:lnTo>
                  <a:lnTo>
                    <a:pt x="247" y="703"/>
                  </a:lnTo>
                  <a:lnTo>
                    <a:pt x="224" y="610"/>
                  </a:lnTo>
                  <a:lnTo>
                    <a:pt x="161" y="660"/>
                  </a:lnTo>
                  <a:lnTo>
                    <a:pt x="154" y="722"/>
                  </a:lnTo>
                  <a:lnTo>
                    <a:pt x="129" y="772"/>
                  </a:lnTo>
                  <a:lnTo>
                    <a:pt x="85" y="796"/>
                  </a:lnTo>
                  <a:lnTo>
                    <a:pt x="28" y="795"/>
                  </a:lnTo>
                  <a:lnTo>
                    <a:pt x="28" y="795"/>
                  </a:lnTo>
                  <a:close/>
                </a:path>
              </a:pathLst>
            </a:custGeom>
            <a:solidFill>
              <a:srgbClr val="eab7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9044640" y="67320"/>
              <a:ext cx="15840" cy="13320"/>
            </a:xfrm>
            <a:custGeom>
              <a:avLst/>
              <a:gdLst/>
              <a:ahLst/>
              <a:rect l="l" t="t" r="r" b="b"/>
              <a:pathLst>
                <a:path w="402" h="338">
                  <a:moveTo>
                    <a:pt x="402" y="0"/>
                  </a:moveTo>
                  <a:lnTo>
                    <a:pt x="255" y="96"/>
                  </a:lnTo>
                  <a:lnTo>
                    <a:pt x="170" y="182"/>
                  </a:lnTo>
                  <a:lnTo>
                    <a:pt x="97" y="281"/>
                  </a:lnTo>
                  <a:lnTo>
                    <a:pt x="0" y="298"/>
                  </a:lnTo>
                  <a:lnTo>
                    <a:pt x="118" y="338"/>
                  </a:lnTo>
                  <a:lnTo>
                    <a:pt x="183" y="306"/>
                  </a:lnTo>
                  <a:lnTo>
                    <a:pt x="215" y="197"/>
                  </a:lnTo>
                  <a:lnTo>
                    <a:pt x="337" y="85"/>
                  </a:lnTo>
                  <a:lnTo>
                    <a:pt x="402" y="0"/>
                  </a:lnTo>
                  <a:lnTo>
                    <a:pt x="402" y="0"/>
                  </a:lnTo>
                  <a:close/>
                </a:path>
              </a:pathLst>
            </a:cu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9024840" y="87480"/>
              <a:ext cx="2880" cy="3600"/>
            </a:xfrm>
            <a:custGeom>
              <a:avLst/>
              <a:gdLst/>
              <a:ahLst/>
              <a:rect l="l" t="t" r="r" b="b"/>
              <a:pathLst>
                <a:path w="78" h="97">
                  <a:moveTo>
                    <a:pt x="71" y="0"/>
                  </a:moveTo>
                  <a:lnTo>
                    <a:pt x="0" y="38"/>
                  </a:lnTo>
                  <a:lnTo>
                    <a:pt x="6" y="97"/>
                  </a:lnTo>
                  <a:lnTo>
                    <a:pt x="78" y="55"/>
                  </a:lnTo>
                  <a:lnTo>
                    <a:pt x="71" y="0"/>
                  </a:lnTo>
                  <a:lnTo>
                    <a:pt x="71" y="0"/>
                  </a:lnTo>
                  <a:close/>
                </a:path>
              </a:pathLst>
            </a:cu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9039960" y="61560"/>
              <a:ext cx="14400" cy="8640"/>
            </a:xfrm>
            <a:custGeom>
              <a:avLst/>
              <a:gdLst/>
              <a:ahLst/>
              <a:rect l="l" t="t" r="r" b="b"/>
              <a:pathLst>
                <a:path w="363" h="223">
                  <a:moveTo>
                    <a:pt x="0" y="223"/>
                  </a:moveTo>
                  <a:lnTo>
                    <a:pt x="147" y="105"/>
                  </a:lnTo>
                  <a:lnTo>
                    <a:pt x="251" y="48"/>
                  </a:lnTo>
                  <a:lnTo>
                    <a:pt x="363" y="0"/>
                  </a:lnTo>
                  <a:lnTo>
                    <a:pt x="238" y="89"/>
                  </a:lnTo>
                  <a:lnTo>
                    <a:pt x="120" y="179"/>
                  </a:lnTo>
                  <a:lnTo>
                    <a:pt x="0" y="223"/>
                  </a:lnTo>
                  <a:lnTo>
                    <a:pt x="0" y="223"/>
                  </a:lnTo>
                  <a:close/>
                </a:path>
              </a:pathLst>
            </a:cu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9030600" y="96480"/>
              <a:ext cx="12240" cy="14400"/>
            </a:xfrm>
            <a:custGeom>
              <a:avLst/>
              <a:gdLst/>
              <a:ahLst/>
              <a:rect l="l" t="t" r="r" b="b"/>
              <a:pathLst>
                <a:path w="315" h="365">
                  <a:moveTo>
                    <a:pt x="84" y="0"/>
                  </a:moveTo>
                  <a:lnTo>
                    <a:pt x="0" y="121"/>
                  </a:lnTo>
                  <a:lnTo>
                    <a:pt x="0" y="222"/>
                  </a:lnTo>
                  <a:lnTo>
                    <a:pt x="19" y="279"/>
                  </a:lnTo>
                  <a:lnTo>
                    <a:pt x="97" y="328"/>
                  </a:lnTo>
                  <a:lnTo>
                    <a:pt x="217" y="365"/>
                  </a:lnTo>
                  <a:lnTo>
                    <a:pt x="315" y="338"/>
                  </a:lnTo>
                  <a:lnTo>
                    <a:pt x="198" y="294"/>
                  </a:lnTo>
                  <a:lnTo>
                    <a:pt x="127" y="230"/>
                  </a:lnTo>
                  <a:lnTo>
                    <a:pt x="84" y="161"/>
                  </a:lnTo>
                  <a:lnTo>
                    <a:pt x="84" y="0"/>
                  </a:lnTo>
                  <a:lnTo>
                    <a:pt x="84" y="0"/>
                  </a:lnTo>
                  <a:close/>
                </a:path>
              </a:pathLst>
            </a:cu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9015120" y="55080"/>
              <a:ext cx="81000" cy="69840"/>
            </a:xfrm>
            <a:custGeom>
              <a:avLst/>
              <a:gdLst/>
              <a:ahLst/>
              <a:rect l="l" t="t" r="r" b="b"/>
              <a:pathLst>
                <a:path w="2046" h="1761">
                  <a:moveTo>
                    <a:pt x="523" y="529"/>
                  </a:moveTo>
                  <a:lnTo>
                    <a:pt x="606" y="476"/>
                  </a:lnTo>
                  <a:lnTo>
                    <a:pt x="665" y="457"/>
                  </a:lnTo>
                  <a:lnTo>
                    <a:pt x="732" y="451"/>
                  </a:lnTo>
                  <a:lnTo>
                    <a:pt x="774" y="462"/>
                  </a:lnTo>
                  <a:lnTo>
                    <a:pt x="888" y="362"/>
                  </a:lnTo>
                  <a:lnTo>
                    <a:pt x="1032" y="270"/>
                  </a:lnTo>
                  <a:lnTo>
                    <a:pt x="1188" y="204"/>
                  </a:lnTo>
                  <a:lnTo>
                    <a:pt x="1314" y="170"/>
                  </a:lnTo>
                  <a:lnTo>
                    <a:pt x="1435" y="164"/>
                  </a:lnTo>
                  <a:lnTo>
                    <a:pt x="1542" y="192"/>
                  </a:lnTo>
                  <a:lnTo>
                    <a:pt x="1608" y="248"/>
                  </a:lnTo>
                  <a:lnTo>
                    <a:pt x="1631" y="326"/>
                  </a:lnTo>
                  <a:lnTo>
                    <a:pt x="1625" y="415"/>
                  </a:lnTo>
                  <a:lnTo>
                    <a:pt x="1597" y="504"/>
                  </a:lnTo>
                  <a:lnTo>
                    <a:pt x="1500" y="637"/>
                  </a:lnTo>
                  <a:lnTo>
                    <a:pt x="1597" y="548"/>
                  </a:lnTo>
                  <a:lnTo>
                    <a:pt x="1639" y="468"/>
                  </a:lnTo>
                  <a:lnTo>
                    <a:pt x="1667" y="392"/>
                  </a:lnTo>
                  <a:lnTo>
                    <a:pt x="1675" y="362"/>
                  </a:lnTo>
                  <a:lnTo>
                    <a:pt x="1753" y="367"/>
                  </a:lnTo>
                  <a:lnTo>
                    <a:pt x="1795" y="419"/>
                  </a:lnTo>
                  <a:lnTo>
                    <a:pt x="1812" y="472"/>
                  </a:lnTo>
                  <a:lnTo>
                    <a:pt x="1815" y="571"/>
                  </a:lnTo>
                  <a:lnTo>
                    <a:pt x="1804" y="662"/>
                  </a:lnTo>
                  <a:lnTo>
                    <a:pt x="1758" y="755"/>
                  </a:lnTo>
                  <a:lnTo>
                    <a:pt x="1589" y="951"/>
                  </a:lnTo>
                  <a:lnTo>
                    <a:pt x="1403" y="1141"/>
                  </a:lnTo>
                  <a:lnTo>
                    <a:pt x="1169" y="1333"/>
                  </a:lnTo>
                  <a:lnTo>
                    <a:pt x="950" y="1529"/>
                  </a:lnTo>
                  <a:lnTo>
                    <a:pt x="793" y="1645"/>
                  </a:lnTo>
                  <a:lnTo>
                    <a:pt x="625" y="1689"/>
                  </a:lnTo>
                  <a:lnTo>
                    <a:pt x="405" y="1672"/>
                  </a:lnTo>
                  <a:lnTo>
                    <a:pt x="255" y="1590"/>
                  </a:lnTo>
                  <a:lnTo>
                    <a:pt x="144" y="1478"/>
                  </a:lnTo>
                  <a:lnTo>
                    <a:pt x="289" y="1580"/>
                  </a:lnTo>
                  <a:lnTo>
                    <a:pt x="403" y="1634"/>
                  </a:lnTo>
                  <a:lnTo>
                    <a:pt x="551" y="1664"/>
                  </a:lnTo>
                  <a:lnTo>
                    <a:pt x="414" y="1611"/>
                  </a:lnTo>
                  <a:lnTo>
                    <a:pt x="325" y="1561"/>
                  </a:lnTo>
                  <a:lnTo>
                    <a:pt x="222" y="1483"/>
                  </a:lnTo>
                  <a:lnTo>
                    <a:pt x="156" y="1375"/>
                  </a:lnTo>
                  <a:lnTo>
                    <a:pt x="133" y="1255"/>
                  </a:lnTo>
                  <a:lnTo>
                    <a:pt x="150" y="1135"/>
                  </a:lnTo>
                  <a:lnTo>
                    <a:pt x="114" y="1196"/>
                  </a:lnTo>
                  <a:lnTo>
                    <a:pt x="108" y="1310"/>
                  </a:lnTo>
                  <a:lnTo>
                    <a:pt x="108" y="1394"/>
                  </a:lnTo>
                  <a:lnTo>
                    <a:pt x="66" y="1268"/>
                  </a:lnTo>
                  <a:lnTo>
                    <a:pt x="72" y="1191"/>
                  </a:lnTo>
                  <a:lnTo>
                    <a:pt x="97" y="1069"/>
                  </a:lnTo>
                  <a:lnTo>
                    <a:pt x="169" y="1057"/>
                  </a:lnTo>
                  <a:lnTo>
                    <a:pt x="247" y="1057"/>
                  </a:lnTo>
                  <a:lnTo>
                    <a:pt x="331" y="1010"/>
                  </a:lnTo>
                  <a:lnTo>
                    <a:pt x="378" y="943"/>
                  </a:lnTo>
                  <a:lnTo>
                    <a:pt x="391" y="841"/>
                  </a:lnTo>
                  <a:lnTo>
                    <a:pt x="361" y="926"/>
                  </a:lnTo>
                  <a:lnTo>
                    <a:pt x="331" y="974"/>
                  </a:lnTo>
                  <a:lnTo>
                    <a:pt x="264" y="1016"/>
                  </a:lnTo>
                  <a:lnTo>
                    <a:pt x="199" y="1021"/>
                  </a:lnTo>
                  <a:lnTo>
                    <a:pt x="150" y="999"/>
                  </a:lnTo>
                  <a:lnTo>
                    <a:pt x="133" y="955"/>
                  </a:lnTo>
                  <a:lnTo>
                    <a:pt x="150" y="877"/>
                  </a:lnTo>
                  <a:lnTo>
                    <a:pt x="192" y="805"/>
                  </a:lnTo>
                  <a:lnTo>
                    <a:pt x="247" y="751"/>
                  </a:lnTo>
                  <a:lnTo>
                    <a:pt x="331" y="721"/>
                  </a:lnTo>
                  <a:lnTo>
                    <a:pt x="241" y="732"/>
                  </a:lnTo>
                  <a:lnTo>
                    <a:pt x="175" y="763"/>
                  </a:lnTo>
                  <a:lnTo>
                    <a:pt x="120" y="835"/>
                  </a:lnTo>
                  <a:lnTo>
                    <a:pt x="91" y="907"/>
                  </a:lnTo>
                  <a:lnTo>
                    <a:pt x="66" y="991"/>
                  </a:lnTo>
                  <a:lnTo>
                    <a:pt x="13" y="1113"/>
                  </a:lnTo>
                  <a:lnTo>
                    <a:pt x="0" y="1219"/>
                  </a:lnTo>
                  <a:lnTo>
                    <a:pt x="19" y="1341"/>
                  </a:lnTo>
                  <a:lnTo>
                    <a:pt x="66" y="1466"/>
                  </a:lnTo>
                  <a:lnTo>
                    <a:pt x="186" y="1597"/>
                  </a:lnTo>
                  <a:lnTo>
                    <a:pt x="314" y="1689"/>
                  </a:lnTo>
                  <a:lnTo>
                    <a:pt x="439" y="1736"/>
                  </a:lnTo>
                  <a:lnTo>
                    <a:pt x="570" y="1761"/>
                  </a:lnTo>
                  <a:lnTo>
                    <a:pt x="684" y="1761"/>
                  </a:lnTo>
                  <a:lnTo>
                    <a:pt x="810" y="1736"/>
                  </a:lnTo>
                  <a:lnTo>
                    <a:pt x="943" y="1683"/>
                  </a:lnTo>
                  <a:lnTo>
                    <a:pt x="1080" y="1597"/>
                  </a:lnTo>
                  <a:lnTo>
                    <a:pt x="1213" y="1483"/>
                  </a:lnTo>
                  <a:lnTo>
                    <a:pt x="1386" y="1333"/>
                  </a:lnTo>
                  <a:lnTo>
                    <a:pt x="1561" y="1135"/>
                  </a:lnTo>
                  <a:lnTo>
                    <a:pt x="1703" y="974"/>
                  </a:lnTo>
                  <a:lnTo>
                    <a:pt x="1806" y="829"/>
                  </a:lnTo>
                  <a:lnTo>
                    <a:pt x="1873" y="679"/>
                  </a:lnTo>
                  <a:lnTo>
                    <a:pt x="1884" y="540"/>
                  </a:lnTo>
                  <a:lnTo>
                    <a:pt x="1884" y="476"/>
                  </a:lnTo>
                  <a:lnTo>
                    <a:pt x="1956" y="409"/>
                  </a:lnTo>
                  <a:lnTo>
                    <a:pt x="2023" y="326"/>
                  </a:lnTo>
                  <a:lnTo>
                    <a:pt x="2046" y="217"/>
                  </a:lnTo>
                  <a:lnTo>
                    <a:pt x="2046" y="145"/>
                  </a:lnTo>
                  <a:lnTo>
                    <a:pt x="1998" y="48"/>
                  </a:lnTo>
                  <a:lnTo>
                    <a:pt x="1931" y="0"/>
                  </a:lnTo>
                  <a:lnTo>
                    <a:pt x="1981" y="61"/>
                  </a:lnTo>
                  <a:lnTo>
                    <a:pt x="2009" y="128"/>
                  </a:lnTo>
                  <a:lnTo>
                    <a:pt x="2017" y="204"/>
                  </a:lnTo>
                  <a:lnTo>
                    <a:pt x="1998" y="276"/>
                  </a:lnTo>
                  <a:lnTo>
                    <a:pt x="1956" y="331"/>
                  </a:lnTo>
                  <a:lnTo>
                    <a:pt x="1903" y="373"/>
                  </a:lnTo>
                  <a:lnTo>
                    <a:pt x="1848" y="392"/>
                  </a:lnTo>
                  <a:lnTo>
                    <a:pt x="1776" y="331"/>
                  </a:lnTo>
                  <a:lnTo>
                    <a:pt x="1686" y="295"/>
                  </a:lnTo>
                  <a:lnTo>
                    <a:pt x="1650" y="229"/>
                  </a:lnTo>
                  <a:lnTo>
                    <a:pt x="1597" y="164"/>
                  </a:lnTo>
                  <a:lnTo>
                    <a:pt x="1494" y="128"/>
                  </a:lnTo>
                  <a:lnTo>
                    <a:pt x="1428" y="120"/>
                  </a:lnTo>
                  <a:lnTo>
                    <a:pt x="1319" y="128"/>
                  </a:lnTo>
                  <a:lnTo>
                    <a:pt x="1213" y="151"/>
                  </a:lnTo>
                  <a:lnTo>
                    <a:pt x="1068" y="211"/>
                  </a:lnTo>
                  <a:lnTo>
                    <a:pt x="943" y="284"/>
                  </a:lnTo>
                  <a:lnTo>
                    <a:pt x="810" y="384"/>
                  </a:lnTo>
                  <a:lnTo>
                    <a:pt x="720" y="403"/>
                  </a:lnTo>
                  <a:lnTo>
                    <a:pt x="631" y="428"/>
                  </a:lnTo>
                  <a:lnTo>
                    <a:pt x="559" y="462"/>
                  </a:lnTo>
                  <a:lnTo>
                    <a:pt x="523" y="529"/>
                  </a:lnTo>
                  <a:lnTo>
                    <a:pt x="523" y="5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9023400" y="41040"/>
              <a:ext cx="114480" cy="43920"/>
            </a:xfrm>
            <a:custGeom>
              <a:avLst/>
              <a:gdLst/>
              <a:ahLst/>
              <a:rect l="l" t="t" r="r" b="b"/>
              <a:pathLst>
                <a:path w="2890" h="1116">
                  <a:moveTo>
                    <a:pt x="59" y="1085"/>
                  </a:moveTo>
                  <a:lnTo>
                    <a:pt x="126" y="948"/>
                  </a:lnTo>
                  <a:lnTo>
                    <a:pt x="240" y="815"/>
                  </a:lnTo>
                  <a:lnTo>
                    <a:pt x="383" y="684"/>
                  </a:lnTo>
                  <a:lnTo>
                    <a:pt x="588" y="551"/>
                  </a:lnTo>
                  <a:lnTo>
                    <a:pt x="803" y="456"/>
                  </a:lnTo>
                  <a:lnTo>
                    <a:pt x="978" y="409"/>
                  </a:lnTo>
                  <a:lnTo>
                    <a:pt x="1109" y="395"/>
                  </a:lnTo>
                  <a:lnTo>
                    <a:pt x="1204" y="409"/>
                  </a:lnTo>
                  <a:lnTo>
                    <a:pt x="1289" y="445"/>
                  </a:lnTo>
                  <a:lnTo>
                    <a:pt x="1276" y="395"/>
                  </a:lnTo>
                  <a:lnTo>
                    <a:pt x="1390" y="348"/>
                  </a:lnTo>
                  <a:lnTo>
                    <a:pt x="1504" y="317"/>
                  </a:lnTo>
                  <a:lnTo>
                    <a:pt x="1601" y="312"/>
                  </a:lnTo>
                  <a:lnTo>
                    <a:pt x="1710" y="336"/>
                  </a:lnTo>
                  <a:lnTo>
                    <a:pt x="1732" y="300"/>
                  </a:lnTo>
                  <a:lnTo>
                    <a:pt x="1824" y="287"/>
                  </a:lnTo>
                  <a:lnTo>
                    <a:pt x="1991" y="300"/>
                  </a:lnTo>
                  <a:lnTo>
                    <a:pt x="2141" y="336"/>
                  </a:lnTo>
                  <a:lnTo>
                    <a:pt x="2236" y="384"/>
                  </a:lnTo>
                  <a:lnTo>
                    <a:pt x="2303" y="445"/>
                  </a:lnTo>
                  <a:lnTo>
                    <a:pt x="2350" y="523"/>
                  </a:lnTo>
                  <a:lnTo>
                    <a:pt x="2375" y="450"/>
                  </a:lnTo>
                  <a:lnTo>
                    <a:pt x="2375" y="390"/>
                  </a:lnTo>
                  <a:lnTo>
                    <a:pt x="2328" y="317"/>
                  </a:lnTo>
                  <a:lnTo>
                    <a:pt x="2231" y="251"/>
                  </a:lnTo>
                  <a:lnTo>
                    <a:pt x="2069" y="192"/>
                  </a:lnTo>
                  <a:lnTo>
                    <a:pt x="2423" y="95"/>
                  </a:lnTo>
                  <a:lnTo>
                    <a:pt x="2584" y="70"/>
                  </a:lnTo>
                  <a:lnTo>
                    <a:pt x="2704" y="70"/>
                  </a:lnTo>
                  <a:lnTo>
                    <a:pt x="2771" y="83"/>
                  </a:lnTo>
                  <a:lnTo>
                    <a:pt x="2807" y="114"/>
                  </a:lnTo>
                  <a:lnTo>
                    <a:pt x="2818" y="150"/>
                  </a:lnTo>
                  <a:lnTo>
                    <a:pt x="2807" y="198"/>
                  </a:lnTo>
                  <a:lnTo>
                    <a:pt x="2782" y="251"/>
                  </a:lnTo>
                  <a:lnTo>
                    <a:pt x="2734" y="317"/>
                  </a:lnTo>
                  <a:lnTo>
                    <a:pt x="2831" y="234"/>
                  </a:lnTo>
                  <a:lnTo>
                    <a:pt x="2879" y="167"/>
                  </a:lnTo>
                  <a:lnTo>
                    <a:pt x="2890" y="95"/>
                  </a:lnTo>
                  <a:lnTo>
                    <a:pt x="2860" y="42"/>
                  </a:lnTo>
                  <a:lnTo>
                    <a:pt x="2782" y="0"/>
                  </a:lnTo>
                  <a:lnTo>
                    <a:pt x="2670" y="0"/>
                  </a:lnTo>
                  <a:lnTo>
                    <a:pt x="2512" y="36"/>
                  </a:lnTo>
                  <a:lnTo>
                    <a:pt x="2236" y="101"/>
                  </a:lnTo>
                  <a:lnTo>
                    <a:pt x="2002" y="167"/>
                  </a:lnTo>
                  <a:lnTo>
                    <a:pt x="1738" y="217"/>
                  </a:lnTo>
                  <a:lnTo>
                    <a:pt x="1457" y="264"/>
                  </a:lnTo>
                  <a:lnTo>
                    <a:pt x="1086" y="336"/>
                  </a:lnTo>
                  <a:lnTo>
                    <a:pt x="875" y="384"/>
                  </a:lnTo>
                  <a:lnTo>
                    <a:pt x="653" y="473"/>
                  </a:lnTo>
                  <a:lnTo>
                    <a:pt x="443" y="601"/>
                  </a:lnTo>
                  <a:lnTo>
                    <a:pt x="263" y="745"/>
                  </a:lnTo>
                  <a:lnTo>
                    <a:pt x="132" y="893"/>
                  </a:lnTo>
                  <a:lnTo>
                    <a:pt x="54" y="1021"/>
                  </a:lnTo>
                  <a:lnTo>
                    <a:pt x="0" y="1116"/>
                  </a:lnTo>
                  <a:lnTo>
                    <a:pt x="59" y="1085"/>
                  </a:lnTo>
                  <a:lnTo>
                    <a:pt x="59" y="10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9002880" y="85320"/>
              <a:ext cx="30960" cy="47880"/>
            </a:xfrm>
            <a:custGeom>
              <a:avLst/>
              <a:gdLst/>
              <a:ahLst/>
              <a:rect l="l" t="t" r="r" b="b"/>
              <a:pathLst>
                <a:path w="787" h="1207">
                  <a:moveTo>
                    <a:pt x="265" y="150"/>
                  </a:moveTo>
                  <a:lnTo>
                    <a:pt x="259" y="211"/>
                  </a:lnTo>
                  <a:lnTo>
                    <a:pt x="198" y="234"/>
                  </a:lnTo>
                  <a:lnTo>
                    <a:pt x="211" y="283"/>
                  </a:lnTo>
                  <a:lnTo>
                    <a:pt x="162" y="312"/>
                  </a:lnTo>
                  <a:lnTo>
                    <a:pt x="192" y="348"/>
                  </a:lnTo>
                  <a:lnTo>
                    <a:pt x="145" y="403"/>
                  </a:lnTo>
                  <a:lnTo>
                    <a:pt x="133" y="506"/>
                  </a:lnTo>
                  <a:lnTo>
                    <a:pt x="67" y="576"/>
                  </a:lnTo>
                  <a:lnTo>
                    <a:pt x="103" y="643"/>
                  </a:lnTo>
                  <a:lnTo>
                    <a:pt x="50" y="679"/>
                  </a:lnTo>
                  <a:lnTo>
                    <a:pt x="92" y="732"/>
                  </a:lnTo>
                  <a:lnTo>
                    <a:pt x="61" y="812"/>
                  </a:lnTo>
                  <a:lnTo>
                    <a:pt x="120" y="818"/>
                  </a:lnTo>
                  <a:lnTo>
                    <a:pt x="92" y="907"/>
                  </a:lnTo>
                  <a:lnTo>
                    <a:pt x="162" y="907"/>
                  </a:lnTo>
                  <a:lnTo>
                    <a:pt x="181" y="943"/>
                  </a:lnTo>
                  <a:lnTo>
                    <a:pt x="253" y="949"/>
                  </a:lnTo>
                  <a:lnTo>
                    <a:pt x="265" y="1032"/>
                  </a:lnTo>
                  <a:lnTo>
                    <a:pt x="312" y="1040"/>
                  </a:lnTo>
                  <a:lnTo>
                    <a:pt x="331" y="1088"/>
                  </a:lnTo>
                  <a:lnTo>
                    <a:pt x="426" y="1088"/>
                  </a:lnTo>
                  <a:lnTo>
                    <a:pt x="468" y="1160"/>
                  </a:lnTo>
                  <a:lnTo>
                    <a:pt x="607" y="1146"/>
                  </a:lnTo>
                  <a:lnTo>
                    <a:pt x="649" y="1183"/>
                  </a:lnTo>
                  <a:lnTo>
                    <a:pt x="787" y="1183"/>
                  </a:lnTo>
                  <a:lnTo>
                    <a:pt x="649" y="1207"/>
                  </a:lnTo>
                  <a:lnTo>
                    <a:pt x="523" y="1207"/>
                  </a:lnTo>
                  <a:lnTo>
                    <a:pt x="390" y="1177"/>
                  </a:lnTo>
                  <a:lnTo>
                    <a:pt x="223" y="1105"/>
                  </a:lnTo>
                  <a:lnTo>
                    <a:pt x="109" y="1004"/>
                  </a:lnTo>
                  <a:lnTo>
                    <a:pt x="36" y="901"/>
                  </a:lnTo>
                  <a:lnTo>
                    <a:pt x="0" y="762"/>
                  </a:lnTo>
                  <a:lnTo>
                    <a:pt x="0" y="612"/>
                  </a:lnTo>
                  <a:lnTo>
                    <a:pt x="55" y="445"/>
                  </a:lnTo>
                  <a:lnTo>
                    <a:pt x="114" y="312"/>
                  </a:lnTo>
                  <a:lnTo>
                    <a:pt x="217" y="150"/>
                  </a:lnTo>
                  <a:lnTo>
                    <a:pt x="343" y="0"/>
                  </a:lnTo>
                  <a:lnTo>
                    <a:pt x="265" y="150"/>
                  </a:lnTo>
                  <a:lnTo>
                    <a:pt x="265" y="1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9040320" y="34920"/>
              <a:ext cx="102240" cy="25200"/>
            </a:xfrm>
            <a:custGeom>
              <a:avLst/>
              <a:gdLst/>
              <a:ahLst/>
              <a:rect l="l" t="t" r="r" b="b"/>
              <a:pathLst>
                <a:path w="2582" h="639">
                  <a:moveTo>
                    <a:pt x="0" y="639"/>
                  </a:moveTo>
                  <a:lnTo>
                    <a:pt x="88" y="529"/>
                  </a:lnTo>
                  <a:lnTo>
                    <a:pt x="169" y="464"/>
                  </a:lnTo>
                  <a:lnTo>
                    <a:pt x="274" y="418"/>
                  </a:lnTo>
                  <a:lnTo>
                    <a:pt x="348" y="373"/>
                  </a:lnTo>
                  <a:lnTo>
                    <a:pt x="436" y="291"/>
                  </a:lnTo>
                  <a:lnTo>
                    <a:pt x="506" y="266"/>
                  </a:lnTo>
                  <a:lnTo>
                    <a:pt x="761" y="243"/>
                  </a:lnTo>
                  <a:lnTo>
                    <a:pt x="1086" y="203"/>
                  </a:lnTo>
                  <a:lnTo>
                    <a:pt x="1428" y="139"/>
                  </a:lnTo>
                  <a:lnTo>
                    <a:pt x="1898" y="57"/>
                  </a:lnTo>
                  <a:lnTo>
                    <a:pt x="2169" y="11"/>
                  </a:lnTo>
                  <a:lnTo>
                    <a:pt x="2361" y="0"/>
                  </a:lnTo>
                  <a:lnTo>
                    <a:pt x="2477" y="29"/>
                  </a:lnTo>
                  <a:lnTo>
                    <a:pt x="2557" y="82"/>
                  </a:lnTo>
                  <a:lnTo>
                    <a:pt x="2582" y="139"/>
                  </a:lnTo>
                  <a:lnTo>
                    <a:pt x="2582" y="198"/>
                  </a:lnTo>
                  <a:lnTo>
                    <a:pt x="2557" y="297"/>
                  </a:lnTo>
                  <a:lnTo>
                    <a:pt x="2472" y="435"/>
                  </a:lnTo>
                  <a:lnTo>
                    <a:pt x="2401" y="529"/>
                  </a:lnTo>
                  <a:lnTo>
                    <a:pt x="2489" y="354"/>
                  </a:lnTo>
                  <a:lnTo>
                    <a:pt x="2512" y="266"/>
                  </a:lnTo>
                  <a:lnTo>
                    <a:pt x="2489" y="186"/>
                  </a:lnTo>
                  <a:lnTo>
                    <a:pt x="2407" y="139"/>
                  </a:lnTo>
                  <a:lnTo>
                    <a:pt x="2320" y="116"/>
                  </a:lnTo>
                  <a:lnTo>
                    <a:pt x="2215" y="116"/>
                  </a:lnTo>
                  <a:lnTo>
                    <a:pt x="2048" y="152"/>
                  </a:lnTo>
                  <a:lnTo>
                    <a:pt x="1683" y="257"/>
                  </a:lnTo>
                  <a:lnTo>
                    <a:pt x="1417" y="314"/>
                  </a:lnTo>
                  <a:lnTo>
                    <a:pt x="1137" y="354"/>
                  </a:lnTo>
                  <a:lnTo>
                    <a:pt x="1468" y="274"/>
                  </a:lnTo>
                  <a:lnTo>
                    <a:pt x="1618" y="226"/>
                  </a:lnTo>
                  <a:lnTo>
                    <a:pt x="1821" y="158"/>
                  </a:lnTo>
                  <a:lnTo>
                    <a:pt x="1491" y="203"/>
                  </a:lnTo>
                  <a:lnTo>
                    <a:pt x="1242" y="243"/>
                  </a:lnTo>
                  <a:lnTo>
                    <a:pt x="1080" y="279"/>
                  </a:lnTo>
                  <a:lnTo>
                    <a:pt x="1004" y="314"/>
                  </a:lnTo>
                  <a:lnTo>
                    <a:pt x="947" y="348"/>
                  </a:lnTo>
                  <a:lnTo>
                    <a:pt x="806" y="359"/>
                  </a:lnTo>
                  <a:lnTo>
                    <a:pt x="707" y="390"/>
                  </a:lnTo>
                  <a:lnTo>
                    <a:pt x="633" y="390"/>
                  </a:lnTo>
                  <a:lnTo>
                    <a:pt x="569" y="447"/>
                  </a:lnTo>
                  <a:lnTo>
                    <a:pt x="523" y="424"/>
                  </a:lnTo>
                  <a:lnTo>
                    <a:pt x="447" y="447"/>
                  </a:lnTo>
                  <a:lnTo>
                    <a:pt x="396" y="424"/>
                  </a:lnTo>
                  <a:lnTo>
                    <a:pt x="325" y="475"/>
                  </a:lnTo>
                  <a:lnTo>
                    <a:pt x="209" y="511"/>
                  </a:lnTo>
                  <a:lnTo>
                    <a:pt x="93" y="568"/>
                  </a:lnTo>
                  <a:lnTo>
                    <a:pt x="0" y="639"/>
                  </a:lnTo>
                  <a:lnTo>
                    <a:pt x="0" y="6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9108000" y="56520"/>
              <a:ext cx="19800" cy="19800"/>
            </a:xfrm>
            <a:custGeom>
              <a:avLst/>
              <a:gdLst/>
              <a:ahLst/>
              <a:rect l="l" t="t" r="r" b="b"/>
              <a:pathLst>
                <a:path w="503" h="500">
                  <a:moveTo>
                    <a:pt x="503" y="0"/>
                  </a:moveTo>
                  <a:lnTo>
                    <a:pt x="283" y="203"/>
                  </a:lnTo>
                  <a:lnTo>
                    <a:pt x="127" y="384"/>
                  </a:lnTo>
                  <a:lnTo>
                    <a:pt x="0" y="500"/>
                  </a:lnTo>
                  <a:lnTo>
                    <a:pt x="121" y="336"/>
                  </a:lnTo>
                  <a:lnTo>
                    <a:pt x="260" y="150"/>
                  </a:lnTo>
                  <a:lnTo>
                    <a:pt x="283" y="76"/>
                  </a:lnTo>
                  <a:lnTo>
                    <a:pt x="325" y="81"/>
                  </a:lnTo>
                  <a:lnTo>
                    <a:pt x="382" y="70"/>
                  </a:lnTo>
                  <a:lnTo>
                    <a:pt x="503" y="0"/>
                  </a:lnTo>
                  <a:lnTo>
                    <a:pt x="50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991000" y="50760"/>
              <a:ext cx="143640" cy="93600"/>
            </a:xfrm>
            <a:custGeom>
              <a:avLst/>
              <a:gdLst/>
              <a:ahLst/>
              <a:rect l="l" t="t" r="r" b="b"/>
              <a:pathLst>
                <a:path w="3623" h="2369">
                  <a:moveTo>
                    <a:pt x="1553" y="0"/>
                  </a:moveTo>
                  <a:lnTo>
                    <a:pt x="1309" y="69"/>
                  </a:lnTo>
                  <a:lnTo>
                    <a:pt x="1038" y="185"/>
                  </a:lnTo>
                  <a:lnTo>
                    <a:pt x="817" y="331"/>
                  </a:lnTo>
                  <a:lnTo>
                    <a:pt x="602" y="529"/>
                  </a:lnTo>
                  <a:lnTo>
                    <a:pt x="330" y="871"/>
                  </a:lnTo>
                  <a:lnTo>
                    <a:pt x="138" y="1236"/>
                  </a:lnTo>
                  <a:lnTo>
                    <a:pt x="34" y="1544"/>
                  </a:lnTo>
                  <a:lnTo>
                    <a:pt x="0" y="1753"/>
                  </a:lnTo>
                  <a:lnTo>
                    <a:pt x="34" y="1962"/>
                  </a:lnTo>
                  <a:lnTo>
                    <a:pt x="173" y="2171"/>
                  </a:lnTo>
                  <a:lnTo>
                    <a:pt x="399" y="2310"/>
                  </a:lnTo>
                  <a:lnTo>
                    <a:pt x="718" y="2369"/>
                  </a:lnTo>
                  <a:lnTo>
                    <a:pt x="1024" y="2369"/>
                  </a:lnTo>
                  <a:lnTo>
                    <a:pt x="1408" y="2287"/>
                  </a:lnTo>
                  <a:lnTo>
                    <a:pt x="1714" y="2112"/>
                  </a:lnTo>
                  <a:lnTo>
                    <a:pt x="1977" y="1869"/>
                  </a:lnTo>
                  <a:lnTo>
                    <a:pt x="2311" y="1451"/>
                  </a:lnTo>
                  <a:lnTo>
                    <a:pt x="2625" y="1103"/>
                  </a:lnTo>
                  <a:lnTo>
                    <a:pt x="2950" y="772"/>
                  </a:lnTo>
                  <a:lnTo>
                    <a:pt x="3270" y="464"/>
                  </a:lnTo>
                  <a:lnTo>
                    <a:pt x="3623" y="139"/>
                  </a:lnTo>
                  <a:lnTo>
                    <a:pt x="3292" y="388"/>
                  </a:lnTo>
                  <a:lnTo>
                    <a:pt x="3100" y="563"/>
                  </a:lnTo>
                  <a:lnTo>
                    <a:pt x="2834" y="823"/>
                  </a:lnTo>
                  <a:lnTo>
                    <a:pt x="2446" y="1185"/>
                  </a:lnTo>
                  <a:lnTo>
                    <a:pt x="2156" y="1479"/>
                  </a:lnTo>
                  <a:lnTo>
                    <a:pt x="1790" y="1897"/>
                  </a:lnTo>
                  <a:lnTo>
                    <a:pt x="1484" y="2160"/>
                  </a:lnTo>
                  <a:lnTo>
                    <a:pt x="1135" y="2282"/>
                  </a:lnTo>
                  <a:lnTo>
                    <a:pt x="735" y="2316"/>
                  </a:lnTo>
                  <a:lnTo>
                    <a:pt x="435" y="2259"/>
                  </a:lnTo>
                  <a:lnTo>
                    <a:pt x="184" y="2090"/>
                  </a:lnTo>
                  <a:lnTo>
                    <a:pt x="62" y="1897"/>
                  </a:lnTo>
                  <a:lnTo>
                    <a:pt x="51" y="1648"/>
                  </a:lnTo>
                  <a:lnTo>
                    <a:pt x="127" y="1358"/>
                  </a:lnTo>
                  <a:lnTo>
                    <a:pt x="325" y="945"/>
                  </a:lnTo>
                  <a:lnTo>
                    <a:pt x="579" y="639"/>
                  </a:lnTo>
                  <a:lnTo>
                    <a:pt x="846" y="382"/>
                  </a:lnTo>
                  <a:lnTo>
                    <a:pt x="1060" y="238"/>
                  </a:lnTo>
                  <a:lnTo>
                    <a:pt x="1292" y="133"/>
                  </a:lnTo>
                  <a:lnTo>
                    <a:pt x="1465" y="74"/>
                  </a:lnTo>
                  <a:lnTo>
                    <a:pt x="1553" y="0"/>
                  </a:lnTo>
                  <a:lnTo>
                    <a:pt x="155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938080" y="1440"/>
              <a:ext cx="127440" cy="57600"/>
            </a:xfrm>
            <a:custGeom>
              <a:avLst/>
              <a:gdLst/>
              <a:ahLst/>
              <a:rect l="l" t="t" r="r" b="b"/>
              <a:pathLst>
                <a:path w="3223" h="1458">
                  <a:moveTo>
                    <a:pt x="236" y="755"/>
                  </a:moveTo>
                  <a:lnTo>
                    <a:pt x="375" y="650"/>
                  </a:lnTo>
                  <a:lnTo>
                    <a:pt x="610" y="525"/>
                  </a:lnTo>
                  <a:lnTo>
                    <a:pt x="956" y="409"/>
                  </a:lnTo>
                  <a:lnTo>
                    <a:pt x="1428" y="293"/>
                  </a:lnTo>
                  <a:lnTo>
                    <a:pt x="2717" y="23"/>
                  </a:lnTo>
                  <a:lnTo>
                    <a:pt x="2928" y="0"/>
                  </a:lnTo>
                  <a:lnTo>
                    <a:pt x="3069" y="13"/>
                  </a:lnTo>
                  <a:lnTo>
                    <a:pt x="3147" y="38"/>
                  </a:lnTo>
                  <a:lnTo>
                    <a:pt x="3198" y="91"/>
                  </a:lnTo>
                  <a:lnTo>
                    <a:pt x="3223" y="145"/>
                  </a:lnTo>
                  <a:lnTo>
                    <a:pt x="3150" y="76"/>
                  </a:lnTo>
                  <a:lnTo>
                    <a:pt x="3069" y="48"/>
                  </a:lnTo>
                  <a:lnTo>
                    <a:pt x="2968" y="53"/>
                  </a:lnTo>
                  <a:lnTo>
                    <a:pt x="2848" y="101"/>
                  </a:lnTo>
                  <a:lnTo>
                    <a:pt x="2751" y="164"/>
                  </a:lnTo>
                  <a:lnTo>
                    <a:pt x="2704" y="230"/>
                  </a:lnTo>
                  <a:lnTo>
                    <a:pt x="2603" y="221"/>
                  </a:lnTo>
                  <a:lnTo>
                    <a:pt x="2531" y="230"/>
                  </a:lnTo>
                  <a:lnTo>
                    <a:pt x="2458" y="270"/>
                  </a:lnTo>
                  <a:lnTo>
                    <a:pt x="2415" y="321"/>
                  </a:lnTo>
                  <a:lnTo>
                    <a:pt x="2390" y="371"/>
                  </a:lnTo>
                  <a:lnTo>
                    <a:pt x="2342" y="361"/>
                  </a:lnTo>
                  <a:lnTo>
                    <a:pt x="2217" y="437"/>
                  </a:lnTo>
                  <a:lnTo>
                    <a:pt x="2245" y="365"/>
                  </a:lnTo>
                  <a:lnTo>
                    <a:pt x="2314" y="279"/>
                  </a:lnTo>
                  <a:lnTo>
                    <a:pt x="2202" y="337"/>
                  </a:lnTo>
                  <a:lnTo>
                    <a:pt x="2135" y="384"/>
                  </a:lnTo>
                  <a:lnTo>
                    <a:pt x="2063" y="452"/>
                  </a:lnTo>
                  <a:lnTo>
                    <a:pt x="2025" y="519"/>
                  </a:lnTo>
                  <a:lnTo>
                    <a:pt x="2031" y="414"/>
                  </a:lnTo>
                  <a:lnTo>
                    <a:pt x="1977" y="443"/>
                  </a:lnTo>
                  <a:lnTo>
                    <a:pt x="1924" y="496"/>
                  </a:lnTo>
                  <a:lnTo>
                    <a:pt x="1856" y="553"/>
                  </a:lnTo>
                  <a:lnTo>
                    <a:pt x="1774" y="639"/>
                  </a:lnTo>
                  <a:lnTo>
                    <a:pt x="1736" y="597"/>
                  </a:lnTo>
                  <a:lnTo>
                    <a:pt x="1669" y="610"/>
                  </a:lnTo>
                  <a:lnTo>
                    <a:pt x="1610" y="679"/>
                  </a:lnTo>
                  <a:lnTo>
                    <a:pt x="1548" y="785"/>
                  </a:lnTo>
                  <a:lnTo>
                    <a:pt x="1553" y="692"/>
                  </a:lnTo>
                  <a:lnTo>
                    <a:pt x="1491" y="675"/>
                  </a:lnTo>
                  <a:lnTo>
                    <a:pt x="1396" y="688"/>
                  </a:lnTo>
                  <a:lnTo>
                    <a:pt x="1299" y="726"/>
                  </a:lnTo>
                  <a:lnTo>
                    <a:pt x="1173" y="804"/>
                  </a:lnTo>
                  <a:lnTo>
                    <a:pt x="1048" y="905"/>
                  </a:lnTo>
                  <a:lnTo>
                    <a:pt x="903" y="1068"/>
                  </a:lnTo>
                  <a:lnTo>
                    <a:pt x="1029" y="890"/>
                  </a:lnTo>
                  <a:lnTo>
                    <a:pt x="1116" y="779"/>
                  </a:lnTo>
                  <a:lnTo>
                    <a:pt x="1232" y="675"/>
                  </a:lnTo>
                  <a:lnTo>
                    <a:pt x="1327" y="606"/>
                  </a:lnTo>
                  <a:lnTo>
                    <a:pt x="1481" y="525"/>
                  </a:lnTo>
                  <a:lnTo>
                    <a:pt x="1717" y="433"/>
                  </a:lnTo>
                  <a:lnTo>
                    <a:pt x="2164" y="279"/>
                  </a:lnTo>
                  <a:lnTo>
                    <a:pt x="1745" y="394"/>
                  </a:lnTo>
                  <a:lnTo>
                    <a:pt x="1569" y="462"/>
                  </a:lnTo>
                  <a:lnTo>
                    <a:pt x="1396" y="534"/>
                  </a:lnTo>
                  <a:lnTo>
                    <a:pt x="1240" y="625"/>
                  </a:lnTo>
                  <a:lnTo>
                    <a:pt x="1120" y="726"/>
                  </a:lnTo>
                  <a:lnTo>
                    <a:pt x="981" y="901"/>
                  </a:lnTo>
                  <a:lnTo>
                    <a:pt x="884" y="1049"/>
                  </a:lnTo>
                  <a:lnTo>
                    <a:pt x="846" y="1165"/>
                  </a:lnTo>
                  <a:lnTo>
                    <a:pt x="812" y="1310"/>
                  </a:lnTo>
                  <a:lnTo>
                    <a:pt x="799" y="1179"/>
                  </a:lnTo>
                  <a:lnTo>
                    <a:pt x="808" y="1074"/>
                  </a:lnTo>
                  <a:lnTo>
                    <a:pt x="761" y="1156"/>
                  </a:lnTo>
                  <a:lnTo>
                    <a:pt x="736" y="1228"/>
                  </a:lnTo>
                  <a:lnTo>
                    <a:pt x="736" y="1310"/>
                  </a:lnTo>
                  <a:lnTo>
                    <a:pt x="745" y="1392"/>
                  </a:lnTo>
                  <a:lnTo>
                    <a:pt x="780" y="1458"/>
                  </a:lnTo>
                  <a:lnTo>
                    <a:pt x="736" y="1411"/>
                  </a:lnTo>
                  <a:lnTo>
                    <a:pt x="711" y="1357"/>
                  </a:lnTo>
                  <a:lnTo>
                    <a:pt x="698" y="1266"/>
                  </a:lnTo>
                  <a:lnTo>
                    <a:pt x="707" y="1175"/>
                  </a:lnTo>
                  <a:lnTo>
                    <a:pt x="736" y="1078"/>
                  </a:lnTo>
                  <a:lnTo>
                    <a:pt x="799" y="968"/>
                  </a:lnTo>
                  <a:lnTo>
                    <a:pt x="871" y="861"/>
                  </a:lnTo>
                  <a:lnTo>
                    <a:pt x="975" y="755"/>
                  </a:lnTo>
                  <a:lnTo>
                    <a:pt x="837" y="829"/>
                  </a:lnTo>
                  <a:lnTo>
                    <a:pt x="755" y="909"/>
                  </a:lnTo>
                  <a:lnTo>
                    <a:pt x="707" y="992"/>
                  </a:lnTo>
                  <a:lnTo>
                    <a:pt x="673" y="1078"/>
                  </a:lnTo>
                  <a:lnTo>
                    <a:pt x="692" y="981"/>
                  </a:lnTo>
                  <a:lnTo>
                    <a:pt x="749" y="880"/>
                  </a:lnTo>
                  <a:lnTo>
                    <a:pt x="831" y="795"/>
                  </a:lnTo>
                  <a:lnTo>
                    <a:pt x="953" y="707"/>
                  </a:lnTo>
                  <a:lnTo>
                    <a:pt x="1101" y="631"/>
                  </a:lnTo>
                  <a:lnTo>
                    <a:pt x="1384" y="506"/>
                  </a:lnTo>
                  <a:lnTo>
                    <a:pt x="1588" y="428"/>
                  </a:lnTo>
                  <a:lnTo>
                    <a:pt x="2207" y="240"/>
                  </a:lnTo>
                  <a:lnTo>
                    <a:pt x="1947" y="293"/>
                  </a:lnTo>
                  <a:lnTo>
                    <a:pt x="1702" y="371"/>
                  </a:lnTo>
                  <a:lnTo>
                    <a:pt x="1424" y="437"/>
                  </a:lnTo>
                  <a:lnTo>
                    <a:pt x="1713" y="352"/>
                  </a:lnTo>
                  <a:lnTo>
                    <a:pt x="2000" y="260"/>
                  </a:lnTo>
                  <a:lnTo>
                    <a:pt x="2242" y="192"/>
                  </a:lnTo>
                  <a:lnTo>
                    <a:pt x="2034" y="211"/>
                  </a:lnTo>
                  <a:lnTo>
                    <a:pt x="1726" y="274"/>
                  </a:lnTo>
                  <a:lnTo>
                    <a:pt x="1380" y="361"/>
                  </a:lnTo>
                  <a:lnTo>
                    <a:pt x="1063" y="456"/>
                  </a:lnTo>
                  <a:lnTo>
                    <a:pt x="827" y="553"/>
                  </a:lnTo>
                  <a:lnTo>
                    <a:pt x="688" y="622"/>
                  </a:lnTo>
                  <a:lnTo>
                    <a:pt x="534" y="722"/>
                  </a:lnTo>
                  <a:lnTo>
                    <a:pt x="390" y="833"/>
                  </a:lnTo>
                  <a:lnTo>
                    <a:pt x="472" y="736"/>
                  </a:lnTo>
                  <a:lnTo>
                    <a:pt x="607" y="631"/>
                  </a:lnTo>
                  <a:lnTo>
                    <a:pt x="789" y="519"/>
                  </a:lnTo>
                  <a:lnTo>
                    <a:pt x="626" y="578"/>
                  </a:lnTo>
                  <a:lnTo>
                    <a:pt x="466" y="654"/>
                  </a:lnTo>
                  <a:lnTo>
                    <a:pt x="318" y="736"/>
                  </a:lnTo>
                  <a:lnTo>
                    <a:pt x="154" y="852"/>
                  </a:lnTo>
                  <a:lnTo>
                    <a:pt x="0" y="992"/>
                  </a:lnTo>
                  <a:lnTo>
                    <a:pt x="114" y="848"/>
                  </a:lnTo>
                  <a:lnTo>
                    <a:pt x="236" y="755"/>
                  </a:lnTo>
                  <a:lnTo>
                    <a:pt x="236" y="7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966520" y="19800"/>
              <a:ext cx="24480" cy="14040"/>
            </a:xfrm>
            <a:custGeom>
              <a:avLst/>
              <a:gdLst/>
              <a:ahLst/>
              <a:rect l="l" t="t" r="r" b="b"/>
              <a:pathLst>
                <a:path w="625" h="357">
                  <a:moveTo>
                    <a:pt x="625" y="0"/>
                  </a:moveTo>
                  <a:lnTo>
                    <a:pt x="258" y="144"/>
                  </a:lnTo>
                  <a:lnTo>
                    <a:pt x="95" y="251"/>
                  </a:lnTo>
                  <a:lnTo>
                    <a:pt x="0" y="357"/>
                  </a:lnTo>
                  <a:lnTo>
                    <a:pt x="125" y="256"/>
                  </a:lnTo>
                  <a:lnTo>
                    <a:pt x="274" y="165"/>
                  </a:lnTo>
                  <a:lnTo>
                    <a:pt x="374" y="112"/>
                  </a:lnTo>
                  <a:lnTo>
                    <a:pt x="625" y="0"/>
                  </a:lnTo>
                  <a:lnTo>
                    <a:pt x="6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974080" y="11160"/>
              <a:ext cx="41040" cy="13320"/>
            </a:xfrm>
            <a:custGeom>
              <a:avLst/>
              <a:gdLst/>
              <a:ahLst/>
              <a:rect l="l" t="t" r="r" b="b"/>
              <a:pathLst>
                <a:path w="1038" h="342">
                  <a:moveTo>
                    <a:pt x="1038" y="0"/>
                  </a:moveTo>
                  <a:lnTo>
                    <a:pt x="576" y="130"/>
                  </a:lnTo>
                  <a:lnTo>
                    <a:pt x="226" y="246"/>
                  </a:lnTo>
                  <a:lnTo>
                    <a:pt x="0" y="342"/>
                  </a:lnTo>
                  <a:lnTo>
                    <a:pt x="336" y="227"/>
                  </a:lnTo>
                  <a:lnTo>
                    <a:pt x="654" y="130"/>
                  </a:lnTo>
                  <a:lnTo>
                    <a:pt x="1038" y="0"/>
                  </a:lnTo>
                  <a:lnTo>
                    <a:pt x="103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942040" y="29880"/>
              <a:ext cx="98640" cy="59400"/>
            </a:xfrm>
            <a:custGeom>
              <a:avLst/>
              <a:gdLst/>
              <a:ahLst/>
              <a:rect l="l" t="t" r="r" b="b"/>
              <a:pathLst>
                <a:path w="2490" h="1502">
                  <a:moveTo>
                    <a:pt x="393" y="428"/>
                  </a:moveTo>
                  <a:lnTo>
                    <a:pt x="342" y="582"/>
                  </a:lnTo>
                  <a:lnTo>
                    <a:pt x="331" y="736"/>
                  </a:lnTo>
                  <a:lnTo>
                    <a:pt x="361" y="858"/>
                  </a:lnTo>
                  <a:lnTo>
                    <a:pt x="403" y="959"/>
                  </a:lnTo>
                  <a:lnTo>
                    <a:pt x="352" y="871"/>
                  </a:lnTo>
                  <a:lnTo>
                    <a:pt x="312" y="780"/>
                  </a:lnTo>
                  <a:lnTo>
                    <a:pt x="293" y="664"/>
                  </a:lnTo>
                  <a:lnTo>
                    <a:pt x="298" y="601"/>
                  </a:lnTo>
                  <a:lnTo>
                    <a:pt x="236" y="732"/>
                  </a:lnTo>
                  <a:lnTo>
                    <a:pt x="230" y="833"/>
                  </a:lnTo>
                  <a:lnTo>
                    <a:pt x="255" y="934"/>
                  </a:lnTo>
                  <a:lnTo>
                    <a:pt x="327" y="1037"/>
                  </a:lnTo>
                  <a:lnTo>
                    <a:pt x="255" y="978"/>
                  </a:lnTo>
                  <a:lnTo>
                    <a:pt x="201" y="881"/>
                  </a:lnTo>
                  <a:lnTo>
                    <a:pt x="198" y="991"/>
                  </a:lnTo>
                  <a:lnTo>
                    <a:pt x="230" y="1094"/>
                  </a:lnTo>
                  <a:lnTo>
                    <a:pt x="188" y="1037"/>
                  </a:lnTo>
                  <a:lnTo>
                    <a:pt x="207" y="1141"/>
                  </a:lnTo>
                  <a:lnTo>
                    <a:pt x="283" y="1232"/>
                  </a:lnTo>
                  <a:lnTo>
                    <a:pt x="403" y="1276"/>
                  </a:lnTo>
                  <a:lnTo>
                    <a:pt x="553" y="1276"/>
                  </a:lnTo>
                  <a:lnTo>
                    <a:pt x="751" y="1219"/>
                  </a:lnTo>
                  <a:lnTo>
                    <a:pt x="962" y="1116"/>
                  </a:lnTo>
                  <a:lnTo>
                    <a:pt x="1217" y="953"/>
                  </a:lnTo>
                  <a:lnTo>
                    <a:pt x="1616" y="664"/>
                  </a:lnTo>
                  <a:lnTo>
                    <a:pt x="1971" y="424"/>
                  </a:lnTo>
                  <a:lnTo>
                    <a:pt x="2251" y="236"/>
                  </a:lnTo>
                  <a:lnTo>
                    <a:pt x="2490" y="63"/>
                  </a:lnTo>
                  <a:lnTo>
                    <a:pt x="2173" y="322"/>
                  </a:lnTo>
                  <a:lnTo>
                    <a:pt x="1899" y="538"/>
                  </a:lnTo>
                  <a:lnTo>
                    <a:pt x="1606" y="774"/>
                  </a:lnTo>
                  <a:lnTo>
                    <a:pt x="1279" y="1025"/>
                  </a:lnTo>
                  <a:lnTo>
                    <a:pt x="1462" y="858"/>
                  </a:lnTo>
                  <a:lnTo>
                    <a:pt x="1644" y="673"/>
                  </a:lnTo>
                  <a:lnTo>
                    <a:pt x="1346" y="900"/>
                  </a:lnTo>
                  <a:lnTo>
                    <a:pt x="1082" y="1094"/>
                  </a:lnTo>
                  <a:lnTo>
                    <a:pt x="899" y="1189"/>
                  </a:lnTo>
                  <a:lnTo>
                    <a:pt x="1059" y="1141"/>
                  </a:lnTo>
                  <a:lnTo>
                    <a:pt x="1198" y="1065"/>
                  </a:lnTo>
                  <a:lnTo>
                    <a:pt x="1044" y="1179"/>
                  </a:lnTo>
                  <a:lnTo>
                    <a:pt x="918" y="1257"/>
                  </a:lnTo>
                  <a:lnTo>
                    <a:pt x="1072" y="1210"/>
                  </a:lnTo>
                  <a:lnTo>
                    <a:pt x="937" y="1305"/>
                  </a:lnTo>
                  <a:lnTo>
                    <a:pt x="783" y="1392"/>
                  </a:lnTo>
                  <a:lnTo>
                    <a:pt x="568" y="1474"/>
                  </a:lnTo>
                  <a:lnTo>
                    <a:pt x="433" y="1502"/>
                  </a:lnTo>
                  <a:lnTo>
                    <a:pt x="591" y="1449"/>
                  </a:lnTo>
                  <a:lnTo>
                    <a:pt x="764" y="1343"/>
                  </a:lnTo>
                  <a:lnTo>
                    <a:pt x="597" y="1402"/>
                  </a:lnTo>
                  <a:lnTo>
                    <a:pt x="452" y="1405"/>
                  </a:lnTo>
                  <a:lnTo>
                    <a:pt x="635" y="1348"/>
                  </a:lnTo>
                  <a:lnTo>
                    <a:pt x="833" y="1238"/>
                  </a:lnTo>
                  <a:lnTo>
                    <a:pt x="610" y="1320"/>
                  </a:lnTo>
                  <a:lnTo>
                    <a:pt x="433" y="1324"/>
                  </a:lnTo>
                  <a:lnTo>
                    <a:pt x="321" y="1295"/>
                  </a:lnTo>
                  <a:lnTo>
                    <a:pt x="236" y="1232"/>
                  </a:lnTo>
                  <a:lnTo>
                    <a:pt x="179" y="1166"/>
                  </a:lnTo>
                  <a:lnTo>
                    <a:pt x="139" y="1050"/>
                  </a:lnTo>
                  <a:lnTo>
                    <a:pt x="120" y="924"/>
                  </a:lnTo>
                  <a:lnTo>
                    <a:pt x="91" y="1065"/>
                  </a:lnTo>
                  <a:lnTo>
                    <a:pt x="91" y="909"/>
                  </a:lnTo>
                  <a:lnTo>
                    <a:pt x="101" y="795"/>
                  </a:lnTo>
                  <a:lnTo>
                    <a:pt x="139" y="654"/>
                  </a:lnTo>
                  <a:lnTo>
                    <a:pt x="220" y="478"/>
                  </a:lnTo>
                  <a:lnTo>
                    <a:pt x="116" y="597"/>
                  </a:lnTo>
                  <a:lnTo>
                    <a:pt x="34" y="761"/>
                  </a:lnTo>
                  <a:lnTo>
                    <a:pt x="0" y="877"/>
                  </a:lnTo>
                  <a:lnTo>
                    <a:pt x="28" y="721"/>
                  </a:lnTo>
                  <a:lnTo>
                    <a:pt x="76" y="588"/>
                  </a:lnTo>
                  <a:lnTo>
                    <a:pt x="201" y="375"/>
                  </a:lnTo>
                  <a:lnTo>
                    <a:pt x="374" y="179"/>
                  </a:lnTo>
                  <a:lnTo>
                    <a:pt x="601" y="0"/>
                  </a:lnTo>
                  <a:lnTo>
                    <a:pt x="390" y="192"/>
                  </a:lnTo>
                  <a:lnTo>
                    <a:pt x="255" y="394"/>
                  </a:lnTo>
                  <a:lnTo>
                    <a:pt x="317" y="365"/>
                  </a:lnTo>
                  <a:lnTo>
                    <a:pt x="255" y="491"/>
                  </a:lnTo>
                  <a:lnTo>
                    <a:pt x="211" y="635"/>
                  </a:lnTo>
                  <a:lnTo>
                    <a:pt x="321" y="478"/>
                  </a:lnTo>
                  <a:lnTo>
                    <a:pt x="393" y="428"/>
                  </a:lnTo>
                  <a:lnTo>
                    <a:pt x="393" y="4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915400" y="34920"/>
              <a:ext cx="37800" cy="74160"/>
            </a:xfrm>
            <a:custGeom>
              <a:avLst/>
              <a:gdLst/>
              <a:ahLst/>
              <a:rect l="l" t="t" r="r" b="b"/>
              <a:pathLst>
                <a:path w="960" h="1875">
                  <a:moveTo>
                    <a:pt x="768" y="380"/>
                  </a:moveTo>
                  <a:lnTo>
                    <a:pt x="683" y="601"/>
                  </a:lnTo>
                  <a:lnTo>
                    <a:pt x="633" y="814"/>
                  </a:lnTo>
                  <a:lnTo>
                    <a:pt x="624" y="977"/>
                  </a:lnTo>
                  <a:lnTo>
                    <a:pt x="648" y="1156"/>
                  </a:lnTo>
                  <a:lnTo>
                    <a:pt x="730" y="1301"/>
                  </a:lnTo>
                  <a:lnTo>
                    <a:pt x="812" y="1363"/>
                  </a:lnTo>
                  <a:lnTo>
                    <a:pt x="960" y="1398"/>
                  </a:lnTo>
                  <a:lnTo>
                    <a:pt x="840" y="1392"/>
                  </a:lnTo>
                  <a:lnTo>
                    <a:pt x="743" y="1354"/>
                  </a:lnTo>
                  <a:lnTo>
                    <a:pt x="639" y="1272"/>
                  </a:lnTo>
                  <a:lnTo>
                    <a:pt x="662" y="1354"/>
                  </a:lnTo>
                  <a:lnTo>
                    <a:pt x="749" y="1420"/>
                  </a:lnTo>
                  <a:lnTo>
                    <a:pt x="913" y="1451"/>
                  </a:lnTo>
                  <a:lnTo>
                    <a:pt x="768" y="1445"/>
                  </a:lnTo>
                  <a:lnTo>
                    <a:pt x="667" y="1411"/>
                  </a:lnTo>
                  <a:lnTo>
                    <a:pt x="589" y="1306"/>
                  </a:lnTo>
                  <a:lnTo>
                    <a:pt x="586" y="1407"/>
                  </a:lnTo>
                  <a:lnTo>
                    <a:pt x="532" y="1285"/>
                  </a:lnTo>
                  <a:lnTo>
                    <a:pt x="523" y="1150"/>
                  </a:lnTo>
                  <a:lnTo>
                    <a:pt x="532" y="958"/>
                  </a:lnTo>
                  <a:lnTo>
                    <a:pt x="586" y="704"/>
                  </a:lnTo>
                  <a:lnTo>
                    <a:pt x="489" y="949"/>
                  </a:lnTo>
                  <a:lnTo>
                    <a:pt x="464" y="1118"/>
                  </a:lnTo>
                  <a:lnTo>
                    <a:pt x="470" y="1247"/>
                  </a:lnTo>
                  <a:lnTo>
                    <a:pt x="451" y="1118"/>
                  </a:lnTo>
                  <a:lnTo>
                    <a:pt x="451" y="977"/>
                  </a:lnTo>
                  <a:lnTo>
                    <a:pt x="494" y="742"/>
                  </a:lnTo>
                  <a:lnTo>
                    <a:pt x="432" y="949"/>
                  </a:lnTo>
                  <a:lnTo>
                    <a:pt x="407" y="1103"/>
                  </a:lnTo>
                  <a:lnTo>
                    <a:pt x="416" y="1234"/>
                  </a:lnTo>
                  <a:lnTo>
                    <a:pt x="451" y="1358"/>
                  </a:lnTo>
                  <a:lnTo>
                    <a:pt x="508" y="1493"/>
                  </a:lnTo>
                  <a:lnTo>
                    <a:pt x="416" y="1398"/>
                  </a:lnTo>
                  <a:lnTo>
                    <a:pt x="464" y="1512"/>
                  </a:lnTo>
                  <a:lnTo>
                    <a:pt x="542" y="1590"/>
                  </a:lnTo>
                  <a:lnTo>
                    <a:pt x="662" y="1647"/>
                  </a:lnTo>
                  <a:lnTo>
                    <a:pt x="561" y="1628"/>
                  </a:lnTo>
                  <a:lnTo>
                    <a:pt x="475" y="1576"/>
                  </a:lnTo>
                  <a:lnTo>
                    <a:pt x="392" y="1479"/>
                  </a:lnTo>
                  <a:lnTo>
                    <a:pt x="359" y="1344"/>
                  </a:lnTo>
                  <a:lnTo>
                    <a:pt x="344" y="1209"/>
                  </a:lnTo>
                  <a:lnTo>
                    <a:pt x="365" y="1074"/>
                  </a:lnTo>
                  <a:lnTo>
                    <a:pt x="302" y="1276"/>
                  </a:lnTo>
                  <a:lnTo>
                    <a:pt x="293" y="1382"/>
                  </a:lnTo>
                  <a:lnTo>
                    <a:pt x="281" y="1253"/>
                  </a:lnTo>
                  <a:lnTo>
                    <a:pt x="312" y="1031"/>
                  </a:lnTo>
                  <a:lnTo>
                    <a:pt x="369" y="829"/>
                  </a:lnTo>
                  <a:lnTo>
                    <a:pt x="460" y="607"/>
                  </a:lnTo>
                  <a:lnTo>
                    <a:pt x="335" y="848"/>
                  </a:lnTo>
                  <a:lnTo>
                    <a:pt x="281" y="993"/>
                  </a:lnTo>
                  <a:lnTo>
                    <a:pt x="259" y="1131"/>
                  </a:lnTo>
                  <a:lnTo>
                    <a:pt x="259" y="1257"/>
                  </a:lnTo>
                  <a:lnTo>
                    <a:pt x="240" y="1046"/>
                  </a:lnTo>
                  <a:lnTo>
                    <a:pt x="200" y="1190"/>
                  </a:lnTo>
                  <a:lnTo>
                    <a:pt x="186" y="1291"/>
                  </a:lnTo>
                  <a:lnTo>
                    <a:pt x="190" y="1401"/>
                  </a:lnTo>
                  <a:lnTo>
                    <a:pt x="243" y="1527"/>
                  </a:lnTo>
                  <a:lnTo>
                    <a:pt x="331" y="1647"/>
                  </a:lnTo>
                  <a:lnTo>
                    <a:pt x="460" y="1730"/>
                  </a:lnTo>
                  <a:lnTo>
                    <a:pt x="325" y="1677"/>
                  </a:lnTo>
                  <a:lnTo>
                    <a:pt x="253" y="1609"/>
                  </a:lnTo>
                  <a:lnTo>
                    <a:pt x="162" y="1479"/>
                  </a:lnTo>
                  <a:lnTo>
                    <a:pt x="127" y="1325"/>
                  </a:lnTo>
                  <a:lnTo>
                    <a:pt x="114" y="1156"/>
                  </a:lnTo>
                  <a:lnTo>
                    <a:pt x="99" y="1329"/>
                  </a:lnTo>
                  <a:lnTo>
                    <a:pt x="118" y="1512"/>
                  </a:lnTo>
                  <a:lnTo>
                    <a:pt x="167" y="1593"/>
                  </a:lnTo>
                  <a:lnTo>
                    <a:pt x="108" y="1571"/>
                  </a:lnTo>
                  <a:lnTo>
                    <a:pt x="148" y="1647"/>
                  </a:lnTo>
                  <a:lnTo>
                    <a:pt x="272" y="1782"/>
                  </a:lnTo>
                  <a:lnTo>
                    <a:pt x="451" y="1875"/>
                  </a:lnTo>
                  <a:lnTo>
                    <a:pt x="344" y="1850"/>
                  </a:lnTo>
                  <a:lnTo>
                    <a:pt x="234" y="1791"/>
                  </a:lnTo>
                  <a:lnTo>
                    <a:pt x="133" y="1690"/>
                  </a:lnTo>
                  <a:lnTo>
                    <a:pt x="51" y="1555"/>
                  </a:lnTo>
                  <a:lnTo>
                    <a:pt x="8" y="1430"/>
                  </a:lnTo>
                  <a:lnTo>
                    <a:pt x="0" y="1310"/>
                  </a:lnTo>
                  <a:lnTo>
                    <a:pt x="0" y="1194"/>
                  </a:lnTo>
                  <a:lnTo>
                    <a:pt x="48" y="1027"/>
                  </a:lnTo>
                  <a:lnTo>
                    <a:pt x="177" y="732"/>
                  </a:lnTo>
                  <a:lnTo>
                    <a:pt x="312" y="477"/>
                  </a:lnTo>
                  <a:lnTo>
                    <a:pt x="485" y="223"/>
                  </a:lnTo>
                  <a:lnTo>
                    <a:pt x="696" y="0"/>
                  </a:lnTo>
                  <a:lnTo>
                    <a:pt x="605" y="160"/>
                  </a:lnTo>
                  <a:lnTo>
                    <a:pt x="715" y="110"/>
                  </a:lnTo>
                  <a:lnTo>
                    <a:pt x="633" y="245"/>
                  </a:lnTo>
                  <a:lnTo>
                    <a:pt x="797" y="97"/>
                  </a:lnTo>
                  <a:lnTo>
                    <a:pt x="671" y="299"/>
                  </a:lnTo>
                  <a:lnTo>
                    <a:pt x="835" y="164"/>
                  </a:lnTo>
                  <a:lnTo>
                    <a:pt x="721" y="314"/>
                  </a:lnTo>
                  <a:lnTo>
                    <a:pt x="629" y="472"/>
                  </a:lnTo>
                  <a:lnTo>
                    <a:pt x="648" y="358"/>
                  </a:lnTo>
                  <a:lnTo>
                    <a:pt x="580" y="462"/>
                  </a:lnTo>
                  <a:lnTo>
                    <a:pt x="513" y="616"/>
                  </a:lnTo>
                  <a:lnTo>
                    <a:pt x="610" y="544"/>
                  </a:lnTo>
                  <a:lnTo>
                    <a:pt x="618" y="647"/>
                  </a:lnTo>
                  <a:lnTo>
                    <a:pt x="696" y="481"/>
                  </a:lnTo>
                  <a:lnTo>
                    <a:pt x="768" y="380"/>
                  </a:lnTo>
                  <a:lnTo>
                    <a:pt x="768" y="3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936640" y="9720"/>
              <a:ext cx="128520" cy="101160"/>
            </a:xfrm>
            <a:custGeom>
              <a:avLst/>
              <a:gdLst/>
              <a:ahLst/>
              <a:rect l="l" t="t" r="r" b="b"/>
              <a:pathLst>
                <a:path w="3247" h="2551">
                  <a:moveTo>
                    <a:pt x="3074" y="211"/>
                  </a:moveTo>
                  <a:lnTo>
                    <a:pt x="2555" y="678"/>
                  </a:lnTo>
                  <a:lnTo>
                    <a:pt x="2236" y="948"/>
                  </a:lnTo>
                  <a:lnTo>
                    <a:pt x="1876" y="1256"/>
                  </a:lnTo>
                  <a:lnTo>
                    <a:pt x="1684" y="1410"/>
                  </a:lnTo>
                  <a:lnTo>
                    <a:pt x="1525" y="1561"/>
                  </a:lnTo>
                  <a:lnTo>
                    <a:pt x="1367" y="1728"/>
                  </a:lnTo>
                  <a:lnTo>
                    <a:pt x="1201" y="1891"/>
                  </a:lnTo>
                  <a:lnTo>
                    <a:pt x="1059" y="2026"/>
                  </a:lnTo>
                  <a:lnTo>
                    <a:pt x="1245" y="1882"/>
                  </a:lnTo>
                  <a:lnTo>
                    <a:pt x="1471" y="1656"/>
                  </a:lnTo>
                  <a:lnTo>
                    <a:pt x="1684" y="1458"/>
                  </a:lnTo>
                  <a:lnTo>
                    <a:pt x="1817" y="1348"/>
                  </a:lnTo>
                  <a:lnTo>
                    <a:pt x="1631" y="1570"/>
                  </a:lnTo>
                  <a:lnTo>
                    <a:pt x="1390" y="1878"/>
                  </a:lnTo>
                  <a:lnTo>
                    <a:pt x="1612" y="1642"/>
                  </a:lnTo>
                  <a:lnTo>
                    <a:pt x="1776" y="1454"/>
                  </a:lnTo>
                  <a:lnTo>
                    <a:pt x="1905" y="1319"/>
                  </a:lnTo>
                  <a:lnTo>
                    <a:pt x="2068" y="1165"/>
                  </a:lnTo>
                  <a:lnTo>
                    <a:pt x="2348" y="895"/>
                  </a:lnTo>
                  <a:lnTo>
                    <a:pt x="2597" y="692"/>
                  </a:lnTo>
                  <a:lnTo>
                    <a:pt x="2757" y="572"/>
                  </a:lnTo>
                  <a:lnTo>
                    <a:pt x="2411" y="886"/>
                  </a:lnTo>
                  <a:lnTo>
                    <a:pt x="2150" y="1140"/>
                  </a:lnTo>
                  <a:lnTo>
                    <a:pt x="1943" y="1357"/>
                  </a:lnTo>
                  <a:lnTo>
                    <a:pt x="1726" y="1580"/>
                  </a:lnTo>
                  <a:lnTo>
                    <a:pt x="1544" y="1796"/>
                  </a:lnTo>
                  <a:lnTo>
                    <a:pt x="1304" y="2042"/>
                  </a:lnTo>
                  <a:lnTo>
                    <a:pt x="1122" y="2180"/>
                  </a:lnTo>
                  <a:lnTo>
                    <a:pt x="918" y="2281"/>
                  </a:lnTo>
                  <a:lnTo>
                    <a:pt x="654" y="2388"/>
                  </a:lnTo>
                  <a:lnTo>
                    <a:pt x="943" y="2291"/>
                  </a:lnTo>
                  <a:lnTo>
                    <a:pt x="1122" y="2209"/>
                  </a:lnTo>
                  <a:lnTo>
                    <a:pt x="1304" y="2108"/>
                  </a:lnTo>
                  <a:lnTo>
                    <a:pt x="1049" y="2312"/>
                  </a:lnTo>
                  <a:lnTo>
                    <a:pt x="755" y="2456"/>
                  </a:lnTo>
                  <a:lnTo>
                    <a:pt x="528" y="2513"/>
                  </a:lnTo>
                  <a:lnTo>
                    <a:pt x="323" y="2523"/>
                  </a:lnTo>
                  <a:lnTo>
                    <a:pt x="0" y="2519"/>
                  </a:lnTo>
                  <a:lnTo>
                    <a:pt x="173" y="2542"/>
                  </a:lnTo>
                  <a:lnTo>
                    <a:pt x="374" y="2551"/>
                  </a:lnTo>
                  <a:lnTo>
                    <a:pt x="644" y="2523"/>
                  </a:lnTo>
                  <a:lnTo>
                    <a:pt x="905" y="2441"/>
                  </a:lnTo>
                  <a:lnTo>
                    <a:pt x="1141" y="2312"/>
                  </a:lnTo>
                  <a:lnTo>
                    <a:pt x="1314" y="2177"/>
                  </a:lnTo>
                  <a:lnTo>
                    <a:pt x="1471" y="1988"/>
                  </a:lnTo>
                  <a:lnTo>
                    <a:pt x="1688" y="1724"/>
                  </a:lnTo>
                  <a:lnTo>
                    <a:pt x="1848" y="1542"/>
                  </a:lnTo>
                  <a:lnTo>
                    <a:pt x="2059" y="1310"/>
                  </a:lnTo>
                  <a:lnTo>
                    <a:pt x="2295" y="1074"/>
                  </a:lnTo>
                  <a:lnTo>
                    <a:pt x="2709" y="678"/>
                  </a:lnTo>
                  <a:lnTo>
                    <a:pt x="2914" y="467"/>
                  </a:lnTo>
                  <a:lnTo>
                    <a:pt x="3106" y="264"/>
                  </a:lnTo>
                  <a:lnTo>
                    <a:pt x="3194" y="148"/>
                  </a:lnTo>
                  <a:lnTo>
                    <a:pt x="3232" y="82"/>
                  </a:lnTo>
                  <a:lnTo>
                    <a:pt x="3247" y="0"/>
                  </a:lnTo>
                  <a:lnTo>
                    <a:pt x="3219" y="72"/>
                  </a:lnTo>
                  <a:lnTo>
                    <a:pt x="3165" y="144"/>
                  </a:lnTo>
                  <a:lnTo>
                    <a:pt x="3074" y="270"/>
                  </a:lnTo>
                  <a:lnTo>
                    <a:pt x="2977" y="355"/>
                  </a:lnTo>
                  <a:lnTo>
                    <a:pt x="3074" y="211"/>
                  </a:lnTo>
                  <a:lnTo>
                    <a:pt x="3074" y="2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962560" y="48600"/>
              <a:ext cx="3960" cy="12600"/>
            </a:xfrm>
            <a:custGeom>
              <a:avLst/>
              <a:gdLst/>
              <a:ahLst/>
              <a:rect l="l" t="t" r="r" b="b"/>
              <a:pathLst>
                <a:path w="105" h="320">
                  <a:moveTo>
                    <a:pt x="29" y="0"/>
                  </a:moveTo>
                  <a:lnTo>
                    <a:pt x="29" y="131"/>
                  </a:lnTo>
                  <a:lnTo>
                    <a:pt x="57" y="238"/>
                  </a:lnTo>
                  <a:lnTo>
                    <a:pt x="105" y="320"/>
                  </a:lnTo>
                  <a:lnTo>
                    <a:pt x="38" y="251"/>
                  </a:lnTo>
                  <a:lnTo>
                    <a:pt x="0" y="135"/>
                  </a:lnTo>
                  <a:lnTo>
                    <a:pt x="4" y="59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029520" y="9000"/>
              <a:ext cx="33120" cy="29160"/>
            </a:xfrm>
            <a:custGeom>
              <a:avLst/>
              <a:gdLst/>
              <a:ahLst/>
              <a:rect l="l" t="t" r="r" b="b"/>
              <a:pathLst>
                <a:path w="842" h="738">
                  <a:moveTo>
                    <a:pt x="818" y="91"/>
                  </a:moveTo>
                  <a:lnTo>
                    <a:pt x="751" y="97"/>
                  </a:lnTo>
                  <a:lnTo>
                    <a:pt x="726" y="173"/>
                  </a:lnTo>
                  <a:lnTo>
                    <a:pt x="666" y="179"/>
                  </a:lnTo>
                  <a:lnTo>
                    <a:pt x="650" y="129"/>
                  </a:lnTo>
                  <a:lnTo>
                    <a:pt x="603" y="126"/>
                  </a:lnTo>
                  <a:lnTo>
                    <a:pt x="563" y="160"/>
                  </a:lnTo>
                  <a:lnTo>
                    <a:pt x="519" y="141"/>
                  </a:lnTo>
                  <a:lnTo>
                    <a:pt x="531" y="107"/>
                  </a:lnTo>
                  <a:lnTo>
                    <a:pt x="582" y="87"/>
                  </a:lnTo>
                  <a:lnTo>
                    <a:pt x="588" y="34"/>
                  </a:lnTo>
                  <a:lnTo>
                    <a:pt x="531" y="0"/>
                  </a:lnTo>
                  <a:lnTo>
                    <a:pt x="472" y="29"/>
                  </a:lnTo>
                  <a:lnTo>
                    <a:pt x="424" y="107"/>
                  </a:lnTo>
                  <a:lnTo>
                    <a:pt x="418" y="202"/>
                  </a:lnTo>
                  <a:lnTo>
                    <a:pt x="453" y="207"/>
                  </a:lnTo>
                  <a:lnTo>
                    <a:pt x="472" y="160"/>
                  </a:lnTo>
                  <a:lnTo>
                    <a:pt x="519" y="188"/>
                  </a:lnTo>
                  <a:lnTo>
                    <a:pt x="531" y="236"/>
                  </a:lnTo>
                  <a:lnTo>
                    <a:pt x="491" y="255"/>
                  </a:lnTo>
                  <a:lnTo>
                    <a:pt x="458" y="295"/>
                  </a:lnTo>
                  <a:lnTo>
                    <a:pt x="443" y="352"/>
                  </a:lnTo>
                  <a:lnTo>
                    <a:pt x="453" y="405"/>
                  </a:lnTo>
                  <a:lnTo>
                    <a:pt x="434" y="458"/>
                  </a:lnTo>
                  <a:lnTo>
                    <a:pt x="386" y="447"/>
                  </a:lnTo>
                  <a:lnTo>
                    <a:pt x="367" y="409"/>
                  </a:lnTo>
                  <a:lnTo>
                    <a:pt x="318" y="390"/>
                  </a:lnTo>
                  <a:lnTo>
                    <a:pt x="230" y="399"/>
                  </a:lnTo>
                  <a:lnTo>
                    <a:pt x="154" y="439"/>
                  </a:lnTo>
                  <a:lnTo>
                    <a:pt x="101" y="477"/>
                  </a:lnTo>
                  <a:lnTo>
                    <a:pt x="63" y="530"/>
                  </a:lnTo>
                  <a:lnTo>
                    <a:pt x="44" y="578"/>
                  </a:lnTo>
                  <a:lnTo>
                    <a:pt x="44" y="622"/>
                  </a:lnTo>
                  <a:lnTo>
                    <a:pt x="82" y="637"/>
                  </a:lnTo>
                  <a:lnTo>
                    <a:pt x="72" y="679"/>
                  </a:lnTo>
                  <a:lnTo>
                    <a:pt x="0" y="738"/>
                  </a:lnTo>
                  <a:lnTo>
                    <a:pt x="261" y="584"/>
                  </a:lnTo>
                  <a:lnTo>
                    <a:pt x="371" y="506"/>
                  </a:lnTo>
                  <a:lnTo>
                    <a:pt x="217" y="709"/>
                  </a:lnTo>
                  <a:lnTo>
                    <a:pt x="569" y="405"/>
                  </a:lnTo>
                  <a:lnTo>
                    <a:pt x="764" y="213"/>
                  </a:lnTo>
                  <a:lnTo>
                    <a:pt x="833" y="145"/>
                  </a:lnTo>
                  <a:lnTo>
                    <a:pt x="842" y="107"/>
                  </a:lnTo>
                  <a:lnTo>
                    <a:pt x="818" y="91"/>
                  </a:lnTo>
                  <a:lnTo>
                    <a:pt x="818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8973360" y="30600"/>
              <a:ext cx="56520" cy="31680"/>
            </a:xfrm>
            <a:custGeom>
              <a:avLst/>
              <a:gdLst/>
              <a:ahLst/>
              <a:rect l="l" t="t" r="r" b="b"/>
              <a:pathLst>
                <a:path w="1428" h="800">
                  <a:moveTo>
                    <a:pt x="1424" y="0"/>
                  </a:moveTo>
                  <a:lnTo>
                    <a:pt x="1327" y="87"/>
                  </a:lnTo>
                  <a:lnTo>
                    <a:pt x="1245" y="144"/>
                  </a:lnTo>
                  <a:lnTo>
                    <a:pt x="1110" y="216"/>
                  </a:lnTo>
                  <a:lnTo>
                    <a:pt x="977" y="260"/>
                  </a:lnTo>
                  <a:lnTo>
                    <a:pt x="880" y="270"/>
                  </a:lnTo>
                  <a:lnTo>
                    <a:pt x="783" y="266"/>
                  </a:lnTo>
                  <a:lnTo>
                    <a:pt x="701" y="216"/>
                  </a:lnTo>
                  <a:lnTo>
                    <a:pt x="726" y="260"/>
                  </a:lnTo>
                  <a:lnTo>
                    <a:pt x="793" y="304"/>
                  </a:lnTo>
                  <a:lnTo>
                    <a:pt x="918" y="313"/>
                  </a:lnTo>
                  <a:lnTo>
                    <a:pt x="1072" y="289"/>
                  </a:lnTo>
                  <a:lnTo>
                    <a:pt x="1201" y="270"/>
                  </a:lnTo>
                  <a:lnTo>
                    <a:pt x="1038" y="329"/>
                  </a:lnTo>
                  <a:lnTo>
                    <a:pt x="893" y="351"/>
                  </a:lnTo>
                  <a:lnTo>
                    <a:pt x="779" y="361"/>
                  </a:lnTo>
                  <a:lnTo>
                    <a:pt x="808" y="429"/>
                  </a:lnTo>
                  <a:lnTo>
                    <a:pt x="673" y="429"/>
                  </a:lnTo>
                  <a:lnTo>
                    <a:pt x="595" y="458"/>
                  </a:lnTo>
                  <a:lnTo>
                    <a:pt x="475" y="536"/>
                  </a:lnTo>
                  <a:lnTo>
                    <a:pt x="384" y="627"/>
                  </a:lnTo>
                  <a:lnTo>
                    <a:pt x="321" y="741"/>
                  </a:lnTo>
                  <a:lnTo>
                    <a:pt x="201" y="775"/>
                  </a:lnTo>
                  <a:lnTo>
                    <a:pt x="110" y="775"/>
                  </a:lnTo>
                  <a:lnTo>
                    <a:pt x="0" y="747"/>
                  </a:lnTo>
                  <a:lnTo>
                    <a:pt x="76" y="791"/>
                  </a:lnTo>
                  <a:lnTo>
                    <a:pt x="173" y="800"/>
                  </a:lnTo>
                  <a:lnTo>
                    <a:pt x="298" y="794"/>
                  </a:lnTo>
                  <a:lnTo>
                    <a:pt x="443" y="760"/>
                  </a:lnTo>
                  <a:lnTo>
                    <a:pt x="625" y="675"/>
                  </a:lnTo>
                  <a:lnTo>
                    <a:pt x="890" y="536"/>
                  </a:lnTo>
                  <a:lnTo>
                    <a:pt x="1201" y="329"/>
                  </a:lnTo>
                  <a:lnTo>
                    <a:pt x="1390" y="207"/>
                  </a:lnTo>
                  <a:lnTo>
                    <a:pt x="1428" y="83"/>
                  </a:lnTo>
                  <a:lnTo>
                    <a:pt x="1424" y="0"/>
                  </a:lnTo>
                  <a:lnTo>
                    <a:pt x="14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934480" y="89280"/>
              <a:ext cx="37800" cy="20160"/>
            </a:xfrm>
            <a:custGeom>
              <a:avLst/>
              <a:gdLst/>
              <a:ahLst/>
              <a:rect l="l" t="t" r="r" b="b"/>
              <a:pathLst>
                <a:path w="962" h="511">
                  <a:moveTo>
                    <a:pt x="273" y="116"/>
                  </a:moveTo>
                  <a:lnTo>
                    <a:pt x="414" y="127"/>
                  </a:lnTo>
                  <a:lnTo>
                    <a:pt x="562" y="112"/>
                  </a:lnTo>
                  <a:lnTo>
                    <a:pt x="779" y="49"/>
                  </a:lnTo>
                  <a:lnTo>
                    <a:pt x="962" y="0"/>
                  </a:lnTo>
                  <a:lnTo>
                    <a:pt x="654" y="127"/>
                  </a:lnTo>
                  <a:lnTo>
                    <a:pt x="481" y="175"/>
                  </a:lnTo>
                  <a:lnTo>
                    <a:pt x="673" y="165"/>
                  </a:lnTo>
                  <a:lnTo>
                    <a:pt x="832" y="135"/>
                  </a:lnTo>
                  <a:lnTo>
                    <a:pt x="578" y="213"/>
                  </a:lnTo>
                  <a:lnTo>
                    <a:pt x="481" y="232"/>
                  </a:lnTo>
                  <a:lnTo>
                    <a:pt x="612" y="256"/>
                  </a:lnTo>
                  <a:lnTo>
                    <a:pt x="496" y="323"/>
                  </a:lnTo>
                  <a:lnTo>
                    <a:pt x="684" y="310"/>
                  </a:lnTo>
                  <a:lnTo>
                    <a:pt x="509" y="376"/>
                  </a:lnTo>
                  <a:lnTo>
                    <a:pt x="732" y="376"/>
                  </a:lnTo>
                  <a:lnTo>
                    <a:pt x="616" y="429"/>
                  </a:lnTo>
                  <a:lnTo>
                    <a:pt x="775" y="429"/>
                  </a:lnTo>
                  <a:lnTo>
                    <a:pt x="553" y="498"/>
                  </a:lnTo>
                  <a:lnTo>
                    <a:pt x="226" y="511"/>
                  </a:lnTo>
                  <a:lnTo>
                    <a:pt x="0" y="448"/>
                  </a:lnTo>
                  <a:lnTo>
                    <a:pt x="178" y="429"/>
                  </a:lnTo>
                  <a:lnTo>
                    <a:pt x="40" y="357"/>
                  </a:lnTo>
                  <a:lnTo>
                    <a:pt x="264" y="395"/>
                  </a:lnTo>
                  <a:lnTo>
                    <a:pt x="386" y="401"/>
                  </a:lnTo>
                  <a:lnTo>
                    <a:pt x="150" y="313"/>
                  </a:lnTo>
                  <a:lnTo>
                    <a:pt x="332" y="323"/>
                  </a:lnTo>
                  <a:lnTo>
                    <a:pt x="424" y="313"/>
                  </a:lnTo>
                  <a:lnTo>
                    <a:pt x="232" y="256"/>
                  </a:lnTo>
                  <a:lnTo>
                    <a:pt x="72" y="156"/>
                  </a:lnTo>
                  <a:lnTo>
                    <a:pt x="254" y="213"/>
                  </a:lnTo>
                  <a:lnTo>
                    <a:pt x="376" y="232"/>
                  </a:lnTo>
                  <a:lnTo>
                    <a:pt x="308" y="184"/>
                  </a:lnTo>
                  <a:lnTo>
                    <a:pt x="342" y="165"/>
                  </a:lnTo>
                  <a:lnTo>
                    <a:pt x="273" y="116"/>
                  </a:lnTo>
                  <a:lnTo>
                    <a:pt x="273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3735360" y="3306600"/>
            <a:ext cx="4084560" cy="25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5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5T15:35:42Z</dcterms:created>
  <dc:creator>lslibrary</dc:creator>
  <dc:description/>
  <dc:language>en-US</dc:language>
  <cp:lastModifiedBy>lslibrary</cp:lastModifiedBy>
  <dcterms:modified xsi:type="dcterms:W3CDTF">2009-04-01T14:38:16Z</dcterms:modified>
  <cp:revision>3</cp:revision>
  <dc:subject/>
  <dc:title>Who is a library thief?</dc:title>
</cp:coreProperties>
</file>