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FDE5-DFA6-41DE-B0F3-A7B5D14C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4E5E-436D-4C03-A21C-3EFAA4BE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4AE6-BE16-4A9A-8D7A-FDF87CC5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A78D-DD4C-407F-BF22-2573F0AF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BAF2-9722-4AFF-A2F7-2A39FFD5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D41-93C0-472B-9B0D-2DF650E3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6776-9553-4CF1-BFAC-EA071716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4161-B18B-4281-8C11-342DAED5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F3B5-91CD-4DE5-BB9F-4E30DA8A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449B-5E24-46B3-99FD-2B180EB7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28ED-234A-4751-A568-AF89BF23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620-5C54-4425-A65F-8B678B57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8E9A-6809-46E5-B9AE-A41481767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296280" y="12087360"/>
            <a:ext cx="34290000" cy="409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37160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bakery's favorite c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kery bake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464832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94360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thing that likes to hold thing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ck a p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1625400" cy="18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172200" y="2590920"/>
            <a:ext cx="259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lazy 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943600" y="3657600"/>
            <a:ext cx="2668680" cy="289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03Z</dcterms:created>
  <dc:creator>lslibrary</dc:creator>
  <dc:description/>
  <dc:language>en-US</dc:language>
  <cp:lastModifiedBy>lslibrary</cp:lastModifiedBy>
  <dcterms:modified xsi:type="dcterms:W3CDTF">2009-04-01T14:38:17Z</dcterms:modified>
  <cp:revision>3</cp:revision>
  <dc:subject/>
  <dc:title>Who is a library thief?</dc:title>
</cp:coreProperties>
</file>