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99F-8BB3-44D6-A232-8FD9B518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BEE-B4F5-4B07-8392-8497E063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DD0E-FDE0-4CB9-B58C-7C2D3A71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24FD-9814-48B3-9124-545D0ECA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6F2-E4BE-4D8E-B8B2-97FE39E1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8AFC-DF61-473E-A5D2-C928CC58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B4D-E05C-46A4-BE82-7694D5D6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E9D-5DFF-4C1C-AFF9-0CB99EBDE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13F3-D57C-4C34-BDA4-08739F94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5FA4-3937-482D-BE08-672FA051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98EA-1A23-4BCE-AF9B-94DF31B4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95D4-1DE4-4608-BD61-141AF4BB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E341-1837-4465-84F0-41F4F0963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296280" y="12087360"/>
            <a:ext cx="34290000" cy="409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371600" y="48006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bakery's favorite c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kery baker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4648320"/>
            <a:ext cx="1844640" cy="1844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94360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a thing that likes to hold things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ck a p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1625400" cy="18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172200" y="2590920"/>
            <a:ext cx="2590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lazy 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668680" cy="289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04920" y="3505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03Z</dcterms:created>
  <dc:creator>lslibrary</dc:creator>
  <dc:description/>
  <dc:language>en-US</dc:language>
  <cp:lastModifiedBy>lslibrary</cp:lastModifiedBy>
  <dcterms:modified xsi:type="dcterms:W3CDTF">2009-04-01T14:38:17Z</dcterms:modified>
  <cp:revision>3</cp:revision>
  <dc:subject/>
  <dc:title>Who is a library thief?</dc:title>
</cp:coreProperties>
</file>