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E765-F1A2-431C-B4BB-861B47D9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5DA0-35AE-43B8-8079-4C39CB5F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3124-95A7-47EE-B18A-D78596FD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4550-1BFA-42B5-9EB6-DAC1BBD0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105D-562A-42C2-AF84-2A2A78E4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EA66-B98B-4454-BF2D-5EA67BFC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2BCF-11CF-43BD-839C-686F0647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907D-A071-42A5-9314-1236CDB5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57BF-2FB6-4541-A768-426E62AD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A56E-5FF1-4E44-A7C8-F50FE09F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89F7-CDC7-45E4-A08F-20E8B710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1046-7F1E-4707-B5F6-B34910BB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2EC7-76B6-4406-94D6-D9206759C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296280" y="12087360"/>
            <a:ext cx="34290000" cy="409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371600" y="4800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bakery's favorite c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kery bake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4648320"/>
            <a:ext cx="1844640" cy="184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94360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a thing that likes to hold thing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ck a p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1625400" cy="18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172200" y="2590920"/>
            <a:ext cx="2590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lazy f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zy da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943600" y="3657600"/>
            <a:ext cx="2668680" cy="2898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6:03Z</dcterms:created>
  <dc:creator>lslibrary</dc:creator>
  <dc:description/>
  <dc:language>en-US</dc:language>
  <cp:lastModifiedBy>lslibrary</cp:lastModifiedBy>
  <dcterms:modified xsi:type="dcterms:W3CDTF">2009-04-01T14:38:17Z</dcterms:modified>
  <cp:revision>3</cp:revision>
  <dc:subject/>
  <dc:title>Who is a library thief?</dc:title>
</cp:coreProperties>
</file>