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879E-2C18-4DC4-AD14-766D5585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2A8D-D902-4495-8BEC-C967EE26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E72-901E-4FC7-BE33-8039660A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C3E-921A-4279-B870-2E84C515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505-2F8D-44D1-8F96-A11034BF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5F6-75FA-4D69-96B2-ED7EC5F1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1850-D2C9-4277-8577-6E51922C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927-0F73-4085-8AEC-1E40BBEC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36A-9595-427B-900E-BF82C48A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57B9-815A-40E1-BBF0-6145270A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FCDB-DBA3-495A-A9A7-5443FA8E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370-7686-472F-B429-F8B48EA2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B9E2-541F-4400-B86A-04A17138E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96280" y="12087360"/>
            <a:ext cx="34290000" cy="40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akery's favorite c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kery bake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thing that likes to hold thing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ck a 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625400" cy="18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668680" cy="289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3Z</dcterms:created>
  <dc:creator>lslibrary</dc:creator>
  <dc:description/>
  <dc:language>en-US</dc:language>
  <cp:lastModifiedBy>lslibrary</cp:lastModifiedBy>
  <dcterms:modified xsi:type="dcterms:W3CDTF">2009-04-01T14:38:17Z</dcterms:modified>
  <cp:revision>3</cp:revision>
  <dc:subject/>
  <dc:title>Who is a library thief?</dc:title>
</cp:coreProperties>
</file>