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4.wmf" ContentType="image/x-wmf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34EC-E8CA-40CB-94E3-1FEF973F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7B5-7CD5-4686-A29A-5CB3027F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9CB-E089-4B24-B4B9-2B4C1EE2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2AA0-9B82-4137-8B2B-EFF4928F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EE2-7D8E-42F8-82FA-B59A8CF2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2A4B-1C98-4C9E-AE6B-CD899985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368-F9B0-467A-BD73-FF119A3F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FF2-6AA6-42E0-B6CF-211A1E68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456-38CE-4C50-A853-08C160CC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DC3-D412-4370-BD44-53E6CA9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2696-ABB2-46D5-96D6-10560386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254A-CE5E-4907-B794-575D3B1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8BA3-AE34-4851-AA31-04843BA48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86200" y="4648320"/>
            <a:ext cx="1870200" cy="1730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0572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38080" y="3321000"/>
            <a:ext cx="2127240" cy="3537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934320" y="1219320"/>
            <a:ext cx="1668240" cy="181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1447920" y="762120"/>
            <a:ext cx="1815840" cy="1662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5410080" y="457200"/>
            <a:ext cx="1554120" cy="18637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3276720" y="4844880"/>
            <a:ext cx="280188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500"/>
                            </p:stCondLst>
                            <p:childTnLst>
                              <p:par>
                                <p:cTn id="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call a flower that doesn’t like to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343400"/>
            <a:ext cx="2401920" cy="344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971800" y="32767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324480" y="4419720"/>
            <a:ext cx="1702080" cy="1831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1600200" y="4343400"/>
            <a:ext cx="1496880" cy="1819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4724280" y="2971800"/>
            <a:ext cx="1898640" cy="13795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6"/>
          <a:stretch/>
        </p:blipFill>
        <p:spPr>
          <a:xfrm>
            <a:off x="4114800" y="5334120"/>
            <a:ext cx="1824120" cy="177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6908760" y="990720"/>
            <a:ext cx="2235240" cy="3468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8"/>
          <a:stretch/>
        </p:blipFill>
        <p:spPr>
          <a:xfrm>
            <a:off x="-44280" y="3200400"/>
            <a:ext cx="139356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1Z</dcterms:created>
  <dc:creator>lslibrary</dc:creator>
  <dc:description/>
  <dc:language>en-US</dc:language>
  <cp:lastModifiedBy>lslibrary</cp:lastModifiedBy>
  <dcterms:modified xsi:type="dcterms:W3CDTF">2009-04-01T14:44:08Z</dcterms:modified>
  <cp:revision>6</cp:revision>
  <dc:subject/>
  <dc:title>Who is a library thief?</dc:title>
</cp:coreProperties>
</file>