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003-0694-4C1E-9D1A-5F991BC1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8F6-EDDA-45CF-A03C-37F514A7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B5F-3CA7-44E9-B685-0DAF13D0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266-3C58-4643-8A81-8F67CA4C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43C-B602-4B4E-80BA-9E213C8E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E81-1CF4-4EEE-AE06-0DE6127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453-A0B0-4474-A4BC-F93C13A0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5AD-9CAB-4B6E-92E6-CF497B8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576-C194-499F-B4CB-1D0AC182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C0D-6EC8-4BB4-8986-2074860E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861-A2E2-4229-88BB-9D64589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F7E-603B-4A87-99E1-E55DFB18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4FD0-77C7-488B-88FC-3B6718FA3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1219320"/>
            <a:ext cx="16682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47920" y="762120"/>
            <a:ext cx="181584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457200"/>
            <a:ext cx="155412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8448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n’t like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401920" cy="34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02080" cy="183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149688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24280" y="2971800"/>
            <a:ext cx="1898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114800" y="5334120"/>
            <a:ext cx="18241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908760" y="990720"/>
            <a:ext cx="2235240" cy="34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-44280" y="3200400"/>
            <a:ext cx="13935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1Z</dcterms:created>
  <dc:creator>lslibrary</dc:creator>
  <dc:description/>
  <dc:language>en-US</dc:language>
  <cp:lastModifiedBy>lslibrary</cp:lastModifiedBy>
  <dcterms:modified xsi:type="dcterms:W3CDTF">2009-04-01T14:44:08Z</dcterms:modified>
  <cp:revision>6</cp:revision>
  <dc:subject/>
  <dc:title>Who is a library thief?</dc:title>
</cp:coreProperties>
</file>