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7494-D332-4564-B916-65E45C86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9E7-1581-42D2-9E82-A2E9CE51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2074-8446-48AE-B9CE-1E72066B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4CCB-B022-4FF3-B0DC-F734CAE7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4739-14EE-4E37-8AAC-2094B625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14A5-4E09-4AB6-B6D0-E9A8E9ED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9049-B080-4039-8337-C892F4B1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73DE-DEA2-4122-BBC0-FA11AEB2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7D7-3A29-420C-953C-B061A26C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8D54-E7A3-47C8-9F26-2875DBDA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626E-965C-4CC3-876C-51A0274CF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E7B7-B789-45D7-897D-AB0C9B4E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2244-E594-4E99-8B14-CA5F4497E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4648320"/>
            <a:ext cx="1870200" cy="1730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05720" y="3321000"/>
            <a:ext cx="2127240" cy="3537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3321000"/>
            <a:ext cx="2127240" cy="3537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934320" y="1219320"/>
            <a:ext cx="1668240" cy="181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447920" y="762120"/>
            <a:ext cx="1815840" cy="166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410080" y="457200"/>
            <a:ext cx="1554120" cy="186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276720" y="48448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500"/>
                            </p:stCondLst>
                            <p:childTnLst>
                              <p:par>
                                <p:cTn id="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flower that doesn’t like to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343400"/>
            <a:ext cx="2401920" cy="3449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71800" y="32767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1702080" cy="1831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600200" y="4343400"/>
            <a:ext cx="1496880" cy="181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724280" y="2971800"/>
            <a:ext cx="1898640" cy="1379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114800" y="5334120"/>
            <a:ext cx="1824120" cy="1776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908760" y="990720"/>
            <a:ext cx="2235240" cy="3468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-44280" y="3200400"/>
            <a:ext cx="13935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01Z</dcterms:created>
  <dc:creator>lslibrary</dc:creator>
  <dc:description/>
  <dc:language>en-US</dc:language>
  <cp:lastModifiedBy>lslibrary</cp:lastModifiedBy>
  <dcterms:modified xsi:type="dcterms:W3CDTF">2009-04-01T14:44:08Z</dcterms:modified>
  <cp:revision>6</cp:revision>
  <dc:subject/>
  <dc:title>Who is a library thief?</dc:title>
</cp:coreProperties>
</file>