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7C6-1A22-45DB-9459-626E08DA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8DC-0D43-41C0-BBF1-F443EF2C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9D1-F8AB-449F-95B9-EAD9339C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EC4-F050-4596-A369-2FC1F239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2C3-136D-4BCD-85C7-667A00A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9E0-9DFC-4A1A-8190-125E20B1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198-AC82-4A71-A924-D55F8468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AA5-F17F-44D5-A377-1F1DD35B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702-141C-44D5-9E7F-C22EEC4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1CB-4F91-49A0-8923-B1DB9132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A97-4CC9-4291-9457-0D93F91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136-4F25-40CB-88C7-8B3C98B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C33E-5741-472C-9E2E-905FE28A6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70200" cy="173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1219320"/>
            <a:ext cx="1668240" cy="181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447920" y="762120"/>
            <a:ext cx="1815840" cy="16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410080" y="457200"/>
            <a:ext cx="1554120" cy="186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276720" y="48448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n’t like to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2401920" cy="344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702080" cy="1831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00200" y="4343400"/>
            <a:ext cx="149688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724280" y="2971800"/>
            <a:ext cx="189864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114800" y="5334120"/>
            <a:ext cx="1824120" cy="17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908760" y="990720"/>
            <a:ext cx="2235240" cy="34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-44280" y="3200400"/>
            <a:ext cx="13935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1Z</dcterms:created>
  <dc:creator>lslibrary</dc:creator>
  <dc:description/>
  <dc:language>en-US</dc:language>
  <cp:lastModifiedBy>lslibrary</cp:lastModifiedBy>
  <dcterms:modified xsi:type="dcterms:W3CDTF">2009-04-01T14:44:08Z</dcterms:modified>
  <cp:revision>6</cp:revision>
  <dc:subject/>
  <dc:title>Who is a library thief?</dc:title>
</cp:coreProperties>
</file>