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2D2-71E8-4EFA-9000-FBDEBD51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4CC-DC94-430C-B191-AB3561EB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923-9038-44EB-929F-2F7702C6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FDC-75F4-46FD-BAC1-A6D47D8D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E12-1899-4141-B3D4-CC5A871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763-3158-41E5-B44C-854DA18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EF3-EA38-4F3C-B5F8-C461D6E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A60-6121-4E0F-862F-B56A23BA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9D8-99CA-42CF-90A6-E685A83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90D-6A2E-4AD6-BBD2-48127D1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E4E-02B9-46D6-A1FD-C1211B1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D53-82B2-49B4-8C55-AC1C613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D896-3440-47EC-B78D-0ADDDC82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0120" y="4608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90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>
            <a:off x="5638320" y="1447920"/>
            <a:ext cx="28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heart and a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rt f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80600">
            <a:off x="464796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0800800">
            <a:off x="609552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8Z</dcterms:created>
  <dc:creator>lslibrary</dc:creator>
  <dc:description/>
  <dc:language>en-US</dc:language>
  <cp:lastModifiedBy>lslibrary</cp:lastModifiedBy>
  <dcterms:modified xsi:type="dcterms:W3CDTF">2009-04-01T14:54:16Z</dcterms:modified>
  <cp:revision>3</cp:revision>
  <dc:subject/>
  <dc:title>Who is a library thief?</dc:title>
</cp:coreProperties>
</file>