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B93-5732-4812-8C91-D86A8630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7466-F3F0-4E26-B975-E00BC5917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53D3-0838-427C-8C8F-96147869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748B-443A-4828-BE16-52963A2C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740A-D980-46D7-AB16-3EB4C08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A030-455C-466A-A95B-0959C620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036F-D1E0-4184-BB84-A47A0A6F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4E9-667E-406F-A025-3A0A7D8F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69B-57FC-459A-8050-72F76ECB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5EF4-A908-4420-9D77-EEC88E51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32A-47C6-4D37-8028-316750EF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1E8-4194-4202-B3D3-BBFA668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44335-CF19-45B5-AB3B-43AB8A081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02920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0120" y="46080"/>
            <a:ext cx="1949400" cy="1650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10280" y="304920"/>
            <a:ext cx="199080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500"/>
                            </p:stCondLst>
                            <p:childTnLst>
                              <p:par>
                                <p:cTn id="1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.33302 E">
                                      <p:cBhvr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4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5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9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0" dur="25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can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ggy dog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flipH="1">
            <a:off x="5638320" y="1447920"/>
            <a:ext cx="2832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heart and a fl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heart fla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80600">
            <a:off x="4647960" y="43434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20800800">
            <a:off x="6095520" y="2133720"/>
            <a:ext cx="1714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8Z</dcterms:created>
  <dc:creator>lslibrary</dc:creator>
  <dc:description/>
  <dc:language>en-US</dc:language>
  <cp:lastModifiedBy>lslibrary</cp:lastModifiedBy>
  <dcterms:modified xsi:type="dcterms:W3CDTF">2009-04-01T14:54:16Z</dcterms:modified>
  <cp:revision>3</cp:revision>
  <dc:subject/>
  <dc:title>Who is a library thief?</dc:title>
</cp:coreProperties>
</file>