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B5DE-73E0-4E0B-B6C9-2F763A345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F3BA-E0CD-4F41-A000-89F316B5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A3A2-A0D5-4F19-951A-F2FF34CD8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DFD6-0ED0-4D50-BA16-CDB036B65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880B-F723-434A-874C-029A6091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8DE6-6512-404D-AC98-43104245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E313-73E2-4A63-BD4B-CDC509C39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306C-3B69-45FF-ACF9-7F351508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E79E-0876-4400-B600-0CBED925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63A7-CDFE-48AB-B8AA-625EB6F5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4967-F5C1-43CC-B35A-35050D42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27C4-6B09-4407-BE30-A920B30B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BB98-07B8-478D-8F81-9BB9E1BB3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a library thie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5029200"/>
            <a:ext cx="1949400" cy="1650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0120" y="46080"/>
            <a:ext cx="1949400" cy="1650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010280" y="304920"/>
            <a:ext cx="199080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" dur="5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500"/>
                            </p:stCondLst>
                            <p:childTnLst>
                              <p:par>
                                <p:cTn id="1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6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02 E">
                                      <p:cBhvr>
                                        <p:cTn id="27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1500"/>
                            </p:stCondLst>
                            <p:childTnLst>
                              <p:par>
                                <p:cTn id="4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25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4" dur="25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" dur="25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25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9" dur="25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" dur="25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500"/>
                            </p:stCondLst>
                            <p:childTnLst>
                              <p:par>
                                <p:cTn id="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wet can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oggy dog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 flipH="1">
            <a:off x="5638320" y="1447920"/>
            <a:ext cx="28321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you call a heart and a fla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eart fla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 rot="20580600">
            <a:off x="4647960" y="43434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 rot="20800800">
            <a:off x="6095520" y="213372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35:48Z</dcterms:created>
  <dc:creator>lslibrary</dc:creator>
  <dc:description/>
  <dc:language>en-US</dc:language>
  <cp:lastModifiedBy>lslibrary</cp:lastModifiedBy>
  <dcterms:modified xsi:type="dcterms:W3CDTF">2009-04-01T14:54:16Z</dcterms:modified>
  <cp:revision>3</cp:revision>
  <dc:subject/>
  <dc:title>Who is a library thief?</dc:title>
</cp:coreProperties>
</file>