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5C0-638B-4C78-89F4-E5F05418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A77B-4EFD-47E5-B321-54220274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7DB-7B95-47B9-A775-90260D43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F8EE-05D8-4C94-8AA9-7BE8F1A4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DAB-E4BD-4BFC-8D4D-9ABBCD47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C43E-17C7-4C3F-BD9F-7251A0DB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CACB-847D-4EB8-82FC-31E4C6EC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B8F5-F46E-4C60-8D9C-25D98786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8B1B-5FC2-4688-8738-0E4AB753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58FB-E612-46D9-B528-BBBD858C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5BB-B4A4-46E5-9ADB-B245ECCE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977-2BFD-4A6D-AF06-13BB7A85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2742-D7ED-443C-ABCA-0915E729A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5029200"/>
            <a:ext cx="1949400" cy="165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0120" y="46080"/>
            <a:ext cx="1949400" cy="1650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10280" y="304920"/>
            <a:ext cx="19908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can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ggy dog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flipH="1">
            <a:off x="5638320" y="1447920"/>
            <a:ext cx="2832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heart and a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eart fla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20580600">
            <a:off x="4647960" y="43434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20800800">
            <a:off x="6095520" y="21337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5:48Z</dcterms:created>
  <dc:creator>lslibrary</dc:creator>
  <dc:description/>
  <dc:language>en-US</dc:language>
  <cp:lastModifiedBy>lslibrary</cp:lastModifiedBy>
  <dcterms:modified xsi:type="dcterms:W3CDTF">2009-04-01T14:54:16Z</dcterms:modified>
  <cp:revision>3</cp:revision>
  <dc:subject/>
  <dc:title>Who is a library thief?</dc:title>
</cp:coreProperties>
</file>