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05E1-3F3A-4683-8377-89A9BA922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BC89-915E-4463-850A-8D7989FC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03FA-064F-4AC0-B3EA-C51D616F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964-5C96-4C98-A714-3FAAD5526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001-999C-4ACA-AAA4-A102829D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835-E177-4E35-9AC4-6CEC5E07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02C-D5B4-44D7-A541-C3787D08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B1CD-70F8-4032-A255-CDBCA24E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67A3-1E61-4DF3-9A97-683447A0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9AD7-C552-41BE-95DB-07C0E25E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2A35-CD69-4509-83CE-D3BE1F61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8652-5655-4EA1-AC59-35C8B24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C541-7E68-4568-BF2D-B98FB9DA0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553080" y="685800"/>
            <a:ext cx="1981440" cy="138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219320" y="4419720"/>
            <a:ext cx="146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dancing prim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533412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ky Monke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3429000"/>
            <a:ext cx="2895840" cy="2771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1295280"/>
            <a:ext cx="190800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n animal that’s eating a l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0040" y="2361960"/>
            <a:ext cx="2590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t Ca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246852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295280" y="3505320"/>
            <a:ext cx="1833840" cy="1981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553080" y="1600200"/>
            <a:ext cx="18478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a person who likes to load thin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14600" y="2514600"/>
            <a:ext cx="4648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Reboo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8080" y="3962520"/>
            <a:ext cx="1795680" cy="1833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315200" y="2438280"/>
            <a:ext cx="1214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60"/>
                            </p:stCondLst>
                            <p:childTnLst>
                              <p:par>
                                <p:cTn id="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760"/>
                            </p:stCondLst>
                            <p:childTnLst>
                              <p:par>
                                <p:cTn id="5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27:12Z</dcterms:created>
  <dc:creator>lslibrary</dc:creator>
  <dc:description/>
  <dc:language>en-US</dc:language>
  <cp:lastModifiedBy>lslibrary</cp:lastModifiedBy>
  <dcterms:modified xsi:type="dcterms:W3CDTF">2009-04-01T14:25:29Z</dcterms:modified>
  <cp:revision>5</cp:revision>
  <dc:subject/>
  <dc:title>Who is a library thief?</dc:title>
</cp:coreProperties>
</file>