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8FBB-8128-4DA0-AD81-C939425E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C2A9-AE72-4657-B86A-6734A2F5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2ED4-9C14-4978-BF27-45E748B42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446F-AFF3-4579-AECE-F1A5AC6F2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826E-CC40-4444-B83D-8F24235B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2AD3-377D-419B-857C-8D0BEACB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BDCD-6CE6-47FA-89C6-44F93062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4574-05F9-4B8B-A034-D7B1528B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9ABF-B364-46EA-B62F-A34C9B43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21ED-D058-4477-A627-679C4347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52D2-BCC4-4DD6-8803-961F0D78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7ABE-C692-4514-A438-2CE81020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A43C-3A15-4F54-816B-8B46A51EE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553080" y="685800"/>
            <a:ext cx="1981440" cy="1380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219320" y="4419720"/>
            <a:ext cx="14605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call a dancing prim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742840" y="2285640"/>
            <a:ext cx="533412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ky Monke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3429000"/>
            <a:ext cx="2895840" cy="2771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400800" y="1295280"/>
            <a:ext cx="19080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call an animal that’s eating a l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0040" y="2361960"/>
            <a:ext cx="259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at C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181480" y="3505320"/>
            <a:ext cx="2468520" cy="3124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95280" y="3505320"/>
            <a:ext cx="1833840" cy="1981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553080" y="1600200"/>
            <a:ext cx="1847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is a person who likes to load th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14600" y="2514600"/>
            <a:ext cx="4648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uter Reboot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3962520"/>
            <a:ext cx="1795680" cy="1833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315200" y="2438280"/>
            <a:ext cx="1214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60"/>
                            </p:stCondLst>
                            <p:childTnLst>
                              <p:par>
                                <p:cTn id="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760"/>
                            </p:stCondLst>
                            <p:childTnLst>
                              <p:par>
                                <p:cTn id="5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27:12Z</dcterms:created>
  <dc:creator>lslibrary</dc:creator>
  <dc:description/>
  <dc:language>en-US</dc:language>
  <cp:lastModifiedBy>lslibrary</cp:lastModifiedBy>
  <dcterms:modified xsi:type="dcterms:W3CDTF">2009-04-01T14:25:29Z</dcterms:modified>
  <cp:revision>5</cp:revision>
  <dc:subject/>
  <dc:title>Who is a library thief?</dc:title>
</cp:coreProperties>
</file>