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1F2-AA9C-491E-8680-E5B80D45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F52-AAE7-4AC2-82A3-483494DE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449-6AC4-4D46-BEFE-1366C0E5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E74-9F0C-4F8D-9BE4-8261DC5D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FE1-4DB0-4C16-A222-0A88FDD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45A-CF6C-4E97-B1D5-D1A8D1D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75E-628E-4D66-8AB0-8EB7DF16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1BD-4585-4B7E-BF00-1FF53E4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51E-BE71-4777-BDB8-E717C304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C3C-3DDE-44F3-962D-F6BFF832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8C8-89A3-4A1E-B337-88712A2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915-A473-4CC5-B0E1-40DA4F9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2054-CB23-42C4-BF58-A7C285E34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198144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460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dancing pr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53341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ky Mon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895840" cy="27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1908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n animal that’s eating a 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040" y="2361960"/>
            <a:ext cx="259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t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4685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18338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1847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a person who likes to load th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600" y="25146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Reboo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15200" y="243828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6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7:12Z</dcterms:created>
  <dc:creator>lslibrary</dc:creator>
  <dc:description/>
  <dc:language>en-US</dc:language>
  <cp:lastModifiedBy>lslibrary</cp:lastModifiedBy>
  <dcterms:modified xsi:type="dcterms:W3CDTF">2009-04-01T14:25:29Z</dcterms:modified>
  <cp:revision>5</cp:revision>
  <dc:subject/>
  <dc:title>Who is a library thief?</dc:title>
</cp:coreProperties>
</file>