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92C1-2727-4B07-B6B7-4A5D2E9E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142-BFDE-4DC4-9226-41566923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8DF3-8DDF-4A4A-A8D4-369D58D9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B200-4C3F-47E9-88E7-14F5BF32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AFF7-FBF4-47EC-9FCF-35BA73F6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03ED-B7D3-4626-BD7C-81933583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F5D1-6F5A-47A7-8BBE-AA252AE1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1BE-05F4-4C63-A13C-CDE75F4B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C8C0-4168-403E-B863-C1B74C46D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E142-0A0A-41DF-B177-04F1EB65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7E40-2A6E-42C6-9E39-072D9C26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1BDA-8D64-4BB6-920D-645A4C3F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410E-3063-472E-B29A-D997D4E97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53080" y="685800"/>
            <a:ext cx="1981440" cy="1380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19320" y="4419720"/>
            <a:ext cx="1460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 dancing pri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742840" y="2285640"/>
            <a:ext cx="53341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ky Monk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2895840" cy="2771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400800" y="1295280"/>
            <a:ext cx="19080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n animal that’s eating a l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0040" y="2361960"/>
            <a:ext cx="259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t C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81480" y="3505320"/>
            <a:ext cx="2468520" cy="3124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95280" y="3505320"/>
            <a:ext cx="183384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553080" y="1600200"/>
            <a:ext cx="1847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is a person who likes to load th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14600" y="2514600"/>
            <a:ext cx="4648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uter Reboo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1795680" cy="1833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315200" y="2438280"/>
            <a:ext cx="1214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6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760"/>
                            </p:stCondLst>
                            <p:childTnLst>
                              <p:par>
                                <p:cTn id="5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27:12Z</dcterms:created>
  <dc:creator>lslibrary</dc:creator>
  <dc:description/>
  <dc:language>en-US</dc:language>
  <cp:lastModifiedBy>lslibrary</cp:lastModifiedBy>
  <dcterms:modified xsi:type="dcterms:W3CDTF">2009-04-01T14:25:29Z</dcterms:modified>
  <cp:revision>5</cp:revision>
  <dc:subject/>
  <dc:title>Who is a library thief?</dc:title>
</cp:coreProperties>
</file>