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9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DA9-1466-402D-B8BB-1C098AE4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DAC-71E6-40A9-A459-14145C52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9DF-BAB0-4259-8F6A-B50B58E8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BF1-0E24-4228-9DAA-B2EDC666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CBA-C88C-41D1-97EF-80EC4253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807E-7EB8-44B6-A834-EF4C5825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AA2-8299-46D4-9437-4E451E33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90C9-8FED-4CD2-95EC-0EB67E8E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FEF-E99B-4CA2-988A-BDDF5353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66C-6493-4D1E-A187-8C02EBDD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833-8309-48F2-B696-DC001BCC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FD4-19E6-4DF3-83A2-27F6C143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56F3-9BDC-462A-BCEE-71D670D39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4952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53080" y="3809880"/>
            <a:ext cx="2298960" cy="274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00400" y="4800600"/>
            <a:ext cx="2514600" cy="184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10280" y="304920"/>
            <a:ext cx="187020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bunny made of hon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ney bunn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1851120" cy="1501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1765440" cy="1994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176040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477120" y="152280"/>
            <a:ext cx="23619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500"/>
                            </p:stCondLst>
                            <p:childTnLst>
                              <p:par>
                                <p:cTn id="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dog that looks like a 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ggie dogg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4800600"/>
            <a:ext cx="1962000" cy="148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638680" y="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crazy flow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azy dais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4120" y="4521240"/>
            <a:ext cx="3504960" cy="2336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2127240" cy="2362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356600" y="0"/>
            <a:ext cx="1787400" cy="176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74 0.1155 L 0.02274 0.44884 E">
                                      <p:cBhvr>
                                        <p:cTn id="11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 do you call a puppy that plays pok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ker pupp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1501920" cy="185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901880" cy="163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648080" cy="181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1933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4:50Z</dcterms:created>
  <dc:creator>lslibrary</dc:creator>
  <dc:description/>
  <dc:language>en-US</dc:language>
  <cp:lastModifiedBy>lslibrary</cp:lastModifiedBy>
  <dcterms:modified xsi:type="dcterms:W3CDTF">2009-04-01T14:33:49Z</dcterms:modified>
  <cp:revision>3</cp:revision>
  <dc:subject/>
  <dc:title>Who is a library thief?</dc:title>
</cp:coreProperties>
</file>