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19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7.wmf" ContentType="image/x-wmf"/>
  <Override PartName="/ppt/media/image20.jpeg" ContentType="image/jpeg"/>
  <Override PartName="/ppt/media/image16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9B8-C52B-43E0-9B7B-3B5EC332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DDC-D6AF-4DAC-962F-CBD9DFBA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B19-45E5-44FC-9C18-DB43636B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C0B-5DFF-40AF-80BE-FD0B3FD5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5251-44D7-41AA-9831-C1ADD024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3F5B-48D5-4D97-B55F-92AC96AE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F9B4-C60D-41BE-A524-3D2BFF5E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47EF-47DD-4D96-98C9-0CC3D6FC1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97DA-0F4C-4B6B-B2BC-A7693A864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0D38-B9B8-427B-9BF3-12BAE463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CF6-336F-45F7-A1B7-0C29AD50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3FC-BC47-42BE-B0A7-576E0F9A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99CD-9E84-45BD-8485-865411C94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4952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553080" y="3809880"/>
            <a:ext cx="2298960" cy="2748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2514600" cy="1841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10280" y="304920"/>
            <a:ext cx="187020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made of hone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oney bunn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1851120" cy="1501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4495680"/>
            <a:ext cx="1765440" cy="1994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304920"/>
            <a:ext cx="1760400" cy="2133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477120" y="152280"/>
            <a:ext cx="23619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500"/>
                            </p:stCondLst>
                            <p:childTnLst>
                              <p:par>
                                <p:cTn id="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8500"/>
                            </p:stCondLst>
                            <p:childTnLst>
                              <p:par>
                                <p:cTn id="57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dog that looks like a lo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ggie dogg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705720" y="4800600"/>
            <a:ext cx="1962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4197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638680" y="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8000"/>
                            </p:stCondLst>
                            <p:childTnLst>
                              <p:par>
                                <p:cTn id="88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057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crazy flow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r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4120" y="4521240"/>
            <a:ext cx="3504960" cy="2336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2127240" cy="2362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7356600" y="0"/>
            <a:ext cx="1787400" cy="1768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274 0.1155 L 0.02274 0.44884 E">
                                      <p:cBhvr>
                                        <p:cTn id="10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9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 do you call a puppy that plays pok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ker pup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1501920" cy="185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901880" cy="1631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1648080" cy="181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6934320" y="3657600"/>
            <a:ext cx="19335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2000" fill="hold"/>
                                        <p:tgtEl>
                                          <p:spTgt spid="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4:50Z</dcterms:created>
  <dc:creator>lslibrary</dc:creator>
  <dc:description/>
  <dc:language>en-US</dc:language>
  <cp:lastModifiedBy>lslibrary</cp:lastModifiedBy>
  <dcterms:modified xsi:type="dcterms:W3CDTF">2009-04-01T14:33:49Z</dcterms:modified>
  <cp:revision>3</cp:revision>
  <dc:subject/>
  <dc:title>Who is a library thief?</dc:title>
</cp:coreProperties>
</file>