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0.jpeg" ContentType="image/jpeg"/>
  <Override PartName="/ppt/media/image9.wmf" ContentType="image/x-wmf"/>
  <Override PartName="/ppt/media/image8.wmf" ContentType="image/x-wmf"/>
  <Override PartName="/ppt/media/image12.jpeg" ContentType="image/jpeg"/>
  <Override PartName="/ppt/media/image11.jpeg" ContentType="image/jpeg"/>
  <Override PartName="/ppt/media/image19.wmf" ContentType="image/x-wmf"/>
  <Override PartName="/ppt/media/image18.wmf" ContentType="image/x-wmf"/>
  <Override PartName="/ppt/media/image3.jpeg" ContentType="image/jpeg"/>
  <Override PartName="/ppt/media/image17.wmf" ContentType="image/x-wmf"/>
  <Override PartName="/ppt/media/image7.wmf" ContentType="image/x-wmf"/>
  <Override PartName="/ppt/media/image20.jpeg" ContentType="image/jpeg"/>
  <Override PartName="/ppt/media/image16.jpeg" ContentType="image/jpeg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CFC13-B31B-4355-8BD8-16616B35C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5D66A-7946-4035-B440-9AEEC6DB1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80090-C39F-45BD-A574-02B8C1AA5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53E82-98E7-40A2-A6A8-DF7FFC7AE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A4B4E-371B-4060-AF10-6E653F369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262DF-1AB2-4E10-B49C-35E203019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AAC39-AB9F-4C01-BBEF-609358BF7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1CFC0-CEF5-4734-8AF2-CA33AF079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73E14-4F05-4FC7-9FCB-737912720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4862A-A645-477E-8A92-4DD2A2FA0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F0560-8C6C-4553-B669-8A82CAAA9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F1A26-7C04-432C-B12C-EEDCE5CDB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908B0-6B31-4475-A5F3-DCA9B487F1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o is a library thief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49528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Book Crook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819520" cy="18828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6553080" y="3809880"/>
            <a:ext cx="2298960" cy="27482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3200400" y="4800600"/>
            <a:ext cx="2514600" cy="18414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7010280" y="304920"/>
            <a:ext cx="1870200" cy="173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2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0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500"/>
                            </p:stCondLst>
                            <p:childTnLst>
                              <p:par>
                                <p:cTn id="13" nodeType="after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4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4500"/>
                            </p:stCondLst>
                            <p:childTnLst>
                              <p:par>
                                <p:cTn id="17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" dur="20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20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6500"/>
                            </p:stCondLst>
                            <p:childTnLst>
                              <p:par>
                                <p:cTn id="22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3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do you call a bunny made of hone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honey bunny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553080" y="4800600"/>
            <a:ext cx="1851120" cy="15019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80880" y="4495680"/>
            <a:ext cx="1765440" cy="19940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0" y="304920"/>
            <a:ext cx="1760400" cy="21333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6477120" y="152280"/>
            <a:ext cx="2361960" cy="201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1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000"/>
                            </p:stCondLst>
                            <p:childTnLst>
                              <p:par>
                                <p:cTn id="33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4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500"/>
                            </p:stCondLst>
                            <p:childTnLst>
                              <p:par>
                                <p:cTn id="3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3500"/>
                            </p:stCondLst>
                            <p:childTnLst>
                              <p:par>
                                <p:cTn id="41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2" dur="5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4000"/>
                            </p:stCondLst>
                            <p:childTnLst>
                              <p:par>
                                <p:cTn id="46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7" dur="2000" fill="hold"/>
                                        <p:tgtEl>
                                          <p:spTgt spid="5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6000"/>
                            </p:stCondLst>
                            <p:childTnLst>
                              <p:par>
                                <p:cTn id="49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0" dur="5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6500"/>
                            </p:stCondLst>
                            <p:childTnLst>
                              <p:par>
                                <p:cTn id="5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5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8500"/>
                            </p:stCondLst>
                            <p:childTnLst>
                              <p:par>
                                <p:cTn id="57" nodeType="after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8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0500"/>
                            </p:stCondLst>
                            <p:childTnLst>
                              <p:par>
                                <p:cTn id="6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0500"/>
                            </p:stCondLst>
                            <p:childTnLst>
                              <p:par>
                                <p:cTn id="68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9" dur="5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do you call a dog that looks like a lo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loggie doggi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6705720" y="4800600"/>
            <a:ext cx="1962000" cy="14828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0" y="4419720"/>
            <a:ext cx="2438280" cy="24382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819520" cy="2114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5638680" y="0"/>
            <a:ext cx="3276720" cy="21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8" dur="2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2000"/>
                            </p:stCondLst>
                            <p:childTnLst>
                              <p:par>
                                <p:cTn id="8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1" dur="2000" fill="hold"/>
                                        <p:tgtEl>
                                          <p:spTgt spid="5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4000"/>
                            </p:stCondLst>
                            <p:childTnLst>
                              <p:par>
                                <p:cTn id="83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4" dur="20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20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6000"/>
                            </p:stCondLst>
                            <p:childTnLst>
                              <p:par>
                                <p:cTn id="8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9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8000"/>
                            </p:stCondLst>
                            <p:childTnLst>
                              <p:par>
                                <p:cTn id="91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92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2057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do you call a crazy flow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razy dais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5334120" y="4521240"/>
            <a:ext cx="3504960" cy="23367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762120" y="4267080"/>
            <a:ext cx="2127240" cy="23623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7356600" y="0"/>
            <a:ext cx="1787400" cy="17683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0" y="0"/>
            <a:ext cx="20574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00" dur="1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3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3000"/>
                            </p:stCondLst>
                            <p:childTnLst>
                              <p:par>
                                <p:cTn id="10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0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3500"/>
                            </p:stCondLst>
                            <p:childTnLst>
                              <p:par>
                                <p:cTn id="109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274 0.1155 L 0.02274 0.44884 E">
                                      <p:cBhvr>
                                        <p:cTn id="110" dur="200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114" dur="2000" fill="hold"/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118" dur="2000" fill="hold"/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22" dur="2000" fill="hold"/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 do you call a puppy that plays pok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oker pupp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28600" y="0"/>
            <a:ext cx="1501920" cy="18572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705720" y="304920"/>
            <a:ext cx="1901880" cy="16318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380880" y="4648320"/>
            <a:ext cx="1648080" cy="18190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6934320" y="3657600"/>
            <a:ext cx="193356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8" dur="2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2000"/>
                            </p:stCondLst>
                            <p:childTnLst>
                              <p:par>
                                <p:cTn id="13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2500"/>
                            </p:stCondLst>
                            <p:childTnLst>
                              <p:par>
                                <p:cTn id="135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136" dur="2000" fill="hold"/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4500"/>
                            </p:stCondLst>
                            <p:childTnLst>
                              <p:par>
                                <p:cTn id="138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9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5500"/>
                            </p:stCondLst>
                            <p:childTnLst>
                              <p:par>
                                <p:cTn id="14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2" dur="2000" fill="hold"/>
                                        <p:tgtEl>
                                          <p:spTgt spid="6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5T15:34:50Z</dcterms:created>
  <dc:creator>lslibrary</dc:creator>
  <dc:description/>
  <dc:language>en-US</dc:language>
  <cp:lastModifiedBy>lslibrary</cp:lastModifiedBy>
  <dcterms:modified xsi:type="dcterms:W3CDTF">2009-04-01T14:33:49Z</dcterms:modified>
  <cp:revision>3</cp:revision>
  <dc:subject/>
  <dc:title>Who is a library thief?</dc:title>
</cp:coreProperties>
</file>