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F19-166F-4D8D-B8F6-5E782E5E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5E6-4960-42F9-AA72-5DAC28F5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004-2921-4225-A07E-1CFB965A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CE8-A6D7-4602-82D7-3F331587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156-EE8C-41EE-87CA-D5EC2486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5A8-87AF-467A-90EF-2FFFE8C5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C87-4E72-4E84-ABB8-EEB05EEB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4EE-30D8-4D66-9328-80E6941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49E-251E-4B28-B497-312BA3AF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872-A944-41AA-93ED-8FD235A5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C40-74E5-41FA-BE08-69B42F4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C14-0577-4C3B-AA92-88F4608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5D5B-AD6B-429A-B58A-C7820D749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3809880"/>
            <a:ext cx="22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251460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70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made of h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ney bunn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51120" cy="150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1765440" cy="199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176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61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dog that looks like a 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ggie dogg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1962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r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52124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12724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0.1155 L 0.02274 0.44884 E">
                                      <p:cBhvr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 do you call a puppy that plays pok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ker pup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50192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0188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64808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4:50Z</dcterms:created>
  <dc:creator>lslibrary</dc:creator>
  <dc:description/>
  <dc:language>en-US</dc:language>
  <cp:lastModifiedBy>lslibrary</cp:lastModifiedBy>
  <dcterms:modified xsi:type="dcterms:W3CDTF">2009-04-01T14:33:49Z</dcterms:modified>
  <cp:revision>3</cp:revision>
  <dc:subject/>
  <dc:title>Who is a library thief?</dc:title>
</cp:coreProperties>
</file>