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B0E3-C586-4A5C-82F3-3AF06B747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C84-51F9-4908-8D93-BBCA270B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C83-3B4A-486D-9ECD-AF4544F2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9AAC-953B-4F49-A21E-CDAB9843F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57D-6156-47F9-BC3D-1339760B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7DF6-D864-4653-988D-7D6F446A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6A11-720B-4D70-A052-F462E8C2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F69-0224-4A47-BD4C-93F682B4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BD7-DC00-406D-BF7D-418A4573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F591-1761-4393-9ED9-7F4EA0BA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EF1A-D3CD-4345-A528-0FBAB887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963-3CB5-4A11-B019-C22720BF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E01C-6756-4E4C-8D68-AE274FA34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steals a book from the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2422800" cy="1623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41400" cy="160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019920" y="29718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0880" y="4419720"/>
            <a:ext cx="6943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Queen that’s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n Qu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1422360" cy="198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1814400" cy="1814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657600" y="4343400"/>
            <a:ext cx="20876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57Z</dcterms:created>
  <dc:creator>lslibrary</dc:creator>
  <dc:description/>
  <dc:language>en-US</dc:language>
  <cp:lastModifiedBy>lslibrary</cp:lastModifiedBy>
  <dcterms:modified xsi:type="dcterms:W3CDTF">2009-04-01T14:32:48Z</dcterms:modified>
  <cp:revision>3</cp:revision>
  <dc:subject/>
  <dc:title>Who steals a book from the library?</dc:title>
</cp:coreProperties>
</file>