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AB5-1BCA-4D0A-86DA-D2D4F344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4CF-D222-4BA7-B7D6-C74C0E15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4B3-BD57-41D8-B06F-59309C7D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795-B3AC-4D3B-8252-C0C441F7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065-7478-41AD-BD5B-E0F5128F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614-9196-403C-BE24-5D150A1F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A56-847C-4C2D-AB16-6B1B6A38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BDB-77BA-40B1-906A-D1EA014C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594-8C72-454E-AC41-F9EAB7F8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22B-ACE5-4A13-8B0E-C2D6EE57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310-793B-44A2-B2DF-E9EC49C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6DD-F236-4175-B5E4-6F27238A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9FEE-5149-4AC5-AB27-33E8932FB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eals a book from the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2422800" cy="16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41400" cy="160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19920" y="29718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880" y="4419720"/>
            <a:ext cx="6943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Queen that’s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142236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814400" cy="18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57600" y="4343400"/>
            <a:ext cx="20876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57Z</dcterms:created>
  <dc:creator>lslibrary</dc:creator>
  <dc:description/>
  <dc:language>en-US</dc:language>
  <cp:lastModifiedBy>lslibrary</cp:lastModifiedBy>
  <dcterms:modified xsi:type="dcterms:W3CDTF">2009-04-01T14:32:48Z</dcterms:modified>
  <cp:revision>3</cp:revision>
  <dc:subject/>
  <dc:title>Who steals a book from the library?</dc:title>
</cp:coreProperties>
</file>