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7.wmf" ContentType="image/x-wmf"/>
  <Override PartName="/ppt/media/image17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8025-9D64-4BA8-AAE9-D9A18A2E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5236-9A39-4217-8505-1FDBBD3E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B242-0B79-4D34-8124-77DCDE251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CC26-08C3-481B-9B3D-8D92A173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85C6-6F54-40C4-BE8C-53E00A86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7C1-8D44-49B9-AA7A-5269C6BDE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E675-C987-499D-9E15-AED4F747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4890-28CE-4772-BD7C-20DEE91B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144-65DF-4A6C-A071-73F8CCE6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B4A-65B7-42EE-B537-32F7DB24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11A-D10B-4021-8B4D-1EC9B873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4367-58FB-4108-B1B0-420A8BB66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3564-F1C9-4851-BF51-66EC3E96D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 steals a book from a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584440" cy="195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834000">
            <a:off x="2133360" y="3581280"/>
            <a:ext cx="9126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20374800">
            <a:off x="1066320" y="22824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ippen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6035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4824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175716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14032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lower that does not want t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917720" cy="152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58000" y="3581280"/>
            <a:ext cx="2085840" cy="271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581280" y="609480"/>
            <a:ext cx="16034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0880" y="-129528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17524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5146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call a car that sits on a he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4191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y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27464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524240" cy="1162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24280" y="-152280"/>
            <a:ext cx="183060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that is fun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ny B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560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7Z</dcterms:created>
  <dc:creator>lslab</dc:creator>
  <dc:description/>
  <dc:language>en-US</dc:language>
  <cp:lastModifiedBy>lslab</cp:lastModifiedBy>
  <dcterms:modified xsi:type="dcterms:W3CDTF">2009-04-01T14:38:06Z</dcterms:modified>
  <cp:revision>3</cp:revision>
  <dc:subject/>
  <dc:title>Who  steals a book from a library?</dc:title>
</cp:coreProperties>
</file>