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1.png" ContentType="image/png"/>
  <Override PartName="/ppt/media/image6.wmf" ContentType="image/x-wmf"/>
  <Override PartName="/ppt/media/image4.jpeg" ContentType="image/jpeg"/>
  <Override PartName="/ppt/media/image16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jpeg" ContentType="image/jpeg"/>
  <Override PartName="/ppt/media/image7.wmf" ContentType="image/x-wmf"/>
  <Override PartName="/ppt/media/image17.wmf" ContentType="image/x-wmf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E6A0-D5D3-4328-8C95-1E885C36D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6F97-AF90-4A07-BA05-3B864B0D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2F24-1E2E-4AFF-A21C-DD3C234E0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A603-3986-4F70-8CAD-7224E5F5F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24D9-206E-4F30-AC85-736F57E4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5CF2-D47E-421E-A0DE-CFCF447C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E456-0D1E-4C8B-A60A-C7C1B1AB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CA95-DBBE-456F-8C26-CB938DE1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43E7-8336-4075-BDBE-E1497FDA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BFF9-C6F2-4C4B-8D0B-CBCF3D0C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5F55-367D-4A1B-AF37-12861109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E0B8-62BA-4EBE-864C-FAFAE7C8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92C3-9F6F-45B0-AC24-502D270BB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image" Target="../media/image15.jpe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 steals a book from a libra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19920" y="3276720"/>
            <a:ext cx="2584440" cy="1955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834000">
            <a:off x="2133360" y="3581280"/>
            <a:ext cx="91260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rot="20374800">
            <a:off x="1066320" y="228240"/>
            <a:ext cx="1332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wet kitt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rippen K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324480" y="3581280"/>
            <a:ext cx="2603520" cy="3276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34320" y="380880"/>
            <a:ext cx="1482480" cy="1876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819520" y="838080"/>
            <a:ext cx="1757160" cy="1568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990720" y="4038480"/>
            <a:ext cx="140328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flower that does not want to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zy Dai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1917720" cy="1528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1555920" cy="155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257800" y="228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858000" y="3581280"/>
            <a:ext cx="2085840" cy="2714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3581280" y="609480"/>
            <a:ext cx="160344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380880" y="-1295280"/>
            <a:ext cx="9524880" cy="9524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5800" y="17524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2514600"/>
            <a:ext cx="4343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you call a car that sits on a hea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41911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rty 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181480" y="3352680"/>
            <a:ext cx="274644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524240" cy="1162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724280" y="-152280"/>
            <a:ext cx="183060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bunny that is funn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ny Bun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456084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6:17Z</dcterms:created>
  <dc:creator>lslab</dc:creator>
  <dc:description/>
  <dc:language>en-US</dc:language>
  <cp:lastModifiedBy>lslab</cp:lastModifiedBy>
  <dcterms:modified xsi:type="dcterms:W3CDTF">2009-04-01T14:38:06Z</dcterms:modified>
  <cp:revision>3</cp:revision>
  <dc:subject/>
  <dc:title>Who  steals a book from a library?</dc:title>
</cp:coreProperties>
</file>