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55C-82AF-4B20-98DC-BFD322AB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EDF-2D54-450E-9C21-6998CB13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079-38A8-4058-80D4-F95C9479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A53-FA1C-4306-A2A6-3615A0B0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761-8B81-4464-AF23-B1679216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107-D18D-406F-AAC9-105CCB6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F2B-6739-4648-8877-FA107CC9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B41-EF60-4AA1-918D-80F36F9F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045-3253-427D-AA4F-C876C26B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8F2-AEA8-460D-8CEE-AB79A80B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110-BEAE-4949-BB32-9381EB0B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0FF-698A-459E-AC6D-01B82991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C43C-6879-45C7-87A5-CA4C25E6D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12748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5127480"/>
            <a:ext cx="1869840" cy="1730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1370600">
            <a:off x="3809160" y="512676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6200000">
            <a:off x="5867280" y="512712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126200" y="3243240"/>
            <a:ext cx="18702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avers like to 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1625400" cy="1176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3683160"/>
            <a:ext cx="3886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30Z</dcterms:created>
  <dc:creator>lslibrary</dc:creator>
  <dc:description/>
  <dc:language>en-US</dc:language>
  <cp:lastModifiedBy>lslibrary</cp:lastModifiedBy>
  <dcterms:modified xsi:type="dcterms:W3CDTF">2009-04-01T14:50:22Z</dcterms:modified>
  <cp:revision>3</cp:revision>
  <dc:subject/>
  <dc:title>Who is a library thief ?</dc:title>
</cp:coreProperties>
</file>