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5731-0DA8-4064-9C27-13A0D4EC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914E-4C8E-4D01-BEE8-5D74885A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73FD-A317-4054-BB48-E004C590D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44C0-D41D-4369-B886-46A768670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B454-9637-48D4-BC84-8F9D39CC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32D4-CF48-4748-B461-7A6E01DB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59BB-8837-4D1C-A3C2-67E9EF31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0944-5B6C-4FAB-AA22-104880EE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F69F-0253-452E-86FF-1126AC26B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6897-68C9-4B15-8E18-7CD067F7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C14C-CF4D-4E56-9FEB-FD7858FA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B173-E605-40DD-8B42-575367C8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8392-B650-4C4B-AAFE-0BDADA72E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296280" y="12087360"/>
            <a:ext cx="34290000" cy="409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371600" y="4800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bakery's favorite c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kery bake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4648320"/>
            <a:ext cx="1844640" cy="1844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943600" y="4114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a thing that likes to hold thing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ck a p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1625400" cy="18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172200" y="2590920"/>
            <a:ext cx="2590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lazy fl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zy dai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943600" y="3657600"/>
            <a:ext cx="2668680" cy="2898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24955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6:03Z</dcterms:created>
  <dc:creator>lslibrary</dc:creator>
  <dc:description/>
  <dc:language>en-US</dc:language>
  <cp:lastModifiedBy>lslibrary</cp:lastModifiedBy>
  <dcterms:modified xsi:type="dcterms:W3CDTF">2009-04-01T14:38:17Z</dcterms:modified>
  <cp:revision>3</cp:revision>
  <dc:subject/>
  <dc:title>Who is a library thief?</dc:title>
</cp:coreProperties>
</file>