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DCA-4AA6-4854-BBA7-3A2A041B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DE4-87D7-4B33-953A-A634CDAB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712-98AE-4E89-ABB9-44124805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665-CC4D-4857-9419-E974C8B3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6EC-208D-4859-8CCD-BD3D3A99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C1D-27C9-4F62-87D6-903CE5C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C36-1F23-4E0B-A220-2CB782E7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7DD-85AC-43CC-880F-C6B81538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C4B-4F5E-468D-933F-BBC156DF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85D-531C-4E23-99A5-4EBB589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B48-3FDA-45E2-A03C-6C24FC5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E1E-362F-4E6D-9B52-28351151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9762-1B2D-4736-A2BA-35D6EC2D3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96280" y="12087360"/>
            <a:ext cx="34290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akery's favorite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ry bake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thing that likes to hold thing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k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254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668680" cy="289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3Z</dcterms:created>
  <dc:creator>lslibrary</dc:creator>
  <dc:description/>
  <dc:language>en-US</dc:language>
  <cp:lastModifiedBy>lslibrary</cp:lastModifiedBy>
  <dcterms:modified xsi:type="dcterms:W3CDTF">2009-04-01T14:38:17Z</dcterms:modified>
  <cp:revision>3</cp:revision>
  <dc:subject/>
  <dc:title>Who is a library thief?</dc:title>
</cp:coreProperties>
</file>