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65F-941D-42CF-96FF-979B2E3D7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2F6-0F38-408F-9DBB-CF1D8F77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699-E4A9-46AF-BC4C-B8E70A931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AE2-BA4B-43A1-A17E-22FB6312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635-151E-4C61-A716-EAB4A483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8E9-5F4C-487E-AA0C-29523F63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273-FB1B-4E3F-9619-C8C3ED83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EAFA-D4F0-4E72-BE25-135BD958C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A72-83D8-48BC-823A-EF9A48CE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13F9-B1DA-4291-93B8-0734AE21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C2E-2638-46B5-B4A3-814200FA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469-FDB7-4457-A49F-A76EDB59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4EFC-579A-4D17-8B15-7C5B6147B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70200" cy="173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1219320"/>
            <a:ext cx="1668240" cy="181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447920" y="762120"/>
            <a:ext cx="1815840" cy="16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410080" y="457200"/>
            <a:ext cx="1554120" cy="186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276720" y="48448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n’t like to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2401920" cy="344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702080" cy="1831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600200" y="4343400"/>
            <a:ext cx="149688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724280" y="2971800"/>
            <a:ext cx="189864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114800" y="5334120"/>
            <a:ext cx="1824120" cy="177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908760" y="990720"/>
            <a:ext cx="2235240" cy="34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-44280" y="3200400"/>
            <a:ext cx="13935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1Z</dcterms:created>
  <dc:creator>lslibrary</dc:creator>
  <dc:description/>
  <dc:language>en-US</dc:language>
  <cp:lastModifiedBy>lslibrary</cp:lastModifiedBy>
  <dcterms:modified xsi:type="dcterms:W3CDTF">2009-04-01T14:44:08Z</dcterms:modified>
  <cp:revision>6</cp:revision>
  <dc:subject/>
  <dc:title>Who is a library thief?</dc:title>
</cp:coreProperties>
</file>