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974-1CC1-4787-BA4E-E37A8E4A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367-7CAC-462E-B890-73A48ACC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256-9E2E-45D4-88B0-EFDB9948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E7B-F5B6-4F5F-A7F7-B2BBE61A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6A8-2FA1-417D-8B22-3E255D2E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91D-AD09-4308-A6CD-32CDA78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551-187B-42C6-97AA-8AF8AC28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1B0-10A1-486E-8414-D34C29CE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B78-A719-49B7-B583-CE0E01D9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C87-5A0B-48B4-B2B8-A25D2D12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093-1B7F-4BD5-BF2D-45AD1E74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2EF-4649-46D5-BE92-85CECF85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B366-FDB2-40EF-8C23-59CACC2BD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1981440" cy="138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1460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dancing pr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42840" y="2285640"/>
            <a:ext cx="53341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ky Mon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2895840" cy="277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1908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n animal that’s eating a 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040" y="2361960"/>
            <a:ext cx="259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t C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46852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18338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553080" y="1600200"/>
            <a:ext cx="1847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a person who likes to load th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14600" y="251460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uter Reboo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15200" y="243828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6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7:12Z</dcterms:created>
  <dc:creator>lslibrary</dc:creator>
  <dc:description/>
  <dc:language>en-US</dc:language>
  <cp:lastModifiedBy>lslibrary</cp:lastModifiedBy>
  <dcterms:modified xsi:type="dcterms:W3CDTF">2009-04-01T14:25:29Z</dcterms:modified>
  <cp:revision>5</cp:revision>
  <dc:subject/>
  <dc:title>Who is a library thief?</dc:title>
</cp:coreProperties>
</file>