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68F-4647-4848-90EB-7192C20B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A966-6ADE-499D-8005-C66D39F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A1C4-62DE-4C52-931C-A90F3AF79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C5B-E250-43C3-B234-D492DDD6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E6F8-A825-46F2-BCD1-5B9FFA40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E372-3D97-4152-8FAF-E25D3C88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89D-B3D6-4F68-A02E-3E9D9F99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B388-7481-41B6-9D47-634B190E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B54-4E10-4DA1-B8C6-B6E488D9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4E9-58AF-4027-956D-E1CF9273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B25-7701-4B88-8AE6-98A0C9F6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8B7-95D8-4822-9FBF-DEF8D173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DF18-3E7C-4179-BF64-BA0039917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3809880"/>
            <a:ext cx="22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251460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70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made of h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ney bunn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51120" cy="150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1765440" cy="199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76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61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dog that looks like a 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gie dog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1962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r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52124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12724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0.1155 L 0.02274 0.44884 E">
                                      <p:cBhvr>
                                        <p:cTn id="10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call a puppy that plays pok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ker pup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50192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0188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64808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4:50Z</dcterms:created>
  <dc:creator>lslibrary</dc:creator>
  <dc:description/>
  <dc:language>en-US</dc:language>
  <cp:lastModifiedBy>lslibrary</cp:lastModifiedBy>
  <dcterms:modified xsi:type="dcterms:W3CDTF">2009-04-01T14:33:49Z</dcterms:modified>
  <cp:revision>3</cp:revision>
  <dc:subject/>
  <dc:title>Who is a library thief?</dc:title>
</cp:coreProperties>
</file>