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0A1E-B3D1-4D9F-BD45-922D09A35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FAA0-0C0C-4180-96DE-E1F3B5E67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6D42-9E33-41D4-93AA-CB8FBBD85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2AEF-49B5-4110-9FCB-5D62E99C2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8B22-07B5-40CB-8FA4-109DB7CDA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79D1-F3E7-4BB6-9052-7D5DA8EA8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3E9E-EBC3-4EDA-91FA-42E483CDB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67A9-CB27-4457-9838-BB823264B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A33B-067D-4B6F-A5C7-C7917F293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A17B-A5A2-4EBD-B912-BA676F5C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DAAC-B044-4DD7-B8BA-2094032A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9BAB-C9B2-43B9-B8C0-42E26E4D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ABD3B-5318-4BA3-8801-1589C871A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kra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tal Kie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09680" y="1295280"/>
            <a:ext cx="5000760" cy="52484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905120" y="1219320"/>
            <a:ext cx="5943600" cy="44193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baby dog for show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ab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828800" y="1600200"/>
            <a:ext cx="5029200" cy="36576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3b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295280" y="1581120"/>
            <a:ext cx="6381720" cy="52768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ny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14680" y="1523880"/>
            <a:ext cx="5715000" cy="3810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 Ukraine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162920" cy="5638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Ukraine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or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38480" y="1328760"/>
            <a:ext cx="466704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3295800" cy="23432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uses in ukra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038480" y="1143000"/>
            <a:ext cx="4457880" cy="4762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0" y="3352680"/>
            <a:ext cx="3581280" cy="26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 rot="20715000">
            <a:off x="2123640" y="1790280"/>
            <a:ext cx="4896000" cy="32767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696080" cy="52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7010280" cy="51055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547640" y="1162080"/>
            <a:ext cx="6048720" cy="45338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4:18:49Z</dcterms:created>
  <dc:creator>lslibrary</dc:creator>
  <dc:description/>
  <dc:language>en-US</dc:language>
  <cp:lastModifiedBy>lslibrary</cp:lastModifiedBy>
  <dcterms:modified xsi:type="dcterms:W3CDTF">2009-05-20T15:03:31Z</dcterms:modified>
  <cp:revision>3</cp:revision>
  <dc:subject/>
  <dc:title>Ukraine </dc:title>
</cp:coreProperties>
</file>