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83BC-FF0D-4E8B-85D3-3A196FFE0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B96A-665F-4F77-8413-9974A5A47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3A26-6AB2-45A5-9134-6B7A368F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EC2C-01ED-4B02-99F3-2D80B0397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B1F2-32EB-427A-A315-B6F84D08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55DF-3A98-4A22-B84A-A655CBBC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7AA2-8B7C-4AD2-BE7D-5DA2D649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0EE2-F891-4B06-9C4F-41F3512B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7BE7-B92E-4849-BD5D-7DA58608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EC94-DE6F-4F47-90DD-48758EB1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3F57-60E7-4B29-AE78-7BB20321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D354-61C0-4DD8-854C-CE26B529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3FB1-884A-42CD-85BA-8350E9AE6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kra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ital Kie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5000760" cy="52484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943600" cy="44193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aby dog for sh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ab3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029200" cy="36576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e3b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95280" y="1581120"/>
            <a:ext cx="6381720" cy="5276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ny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 Ukraine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162920" cy="5638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krain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or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38480" y="1328760"/>
            <a:ext cx="46670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3295800" cy="23432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uses in ukra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038480" y="1143000"/>
            <a:ext cx="4457880" cy="4762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3352680"/>
            <a:ext cx="3581280" cy="26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rot="20715000">
            <a:off x="2123640" y="1790280"/>
            <a:ext cx="4896000" cy="3276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696080" cy="52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7010280" cy="51055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547640" y="1162080"/>
            <a:ext cx="6048720" cy="45338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4:18:49Z</dcterms:created>
  <dc:creator>lslibrary</dc:creator>
  <dc:description/>
  <dc:language>en-US</dc:language>
  <cp:lastModifiedBy>lslibrary</cp:lastModifiedBy>
  <dcterms:modified xsi:type="dcterms:W3CDTF">2009-05-20T15:03:31Z</dcterms:modified>
  <cp:revision>3</cp:revision>
  <dc:subject/>
  <dc:title>Ukraine </dc:title>
</cp:coreProperties>
</file>