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703-4BDC-4EDB-B836-BF63BC01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C610-53BC-4B83-A407-550E4D40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CFB-364B-493F-8736-29A9F355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4C63-93C6-47D2-AE5F-53B7E7F0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6876-E1EC-43A3-B10F-A8AA6B32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51B4-AEE1-443F-BF70-A096ADC5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699-30F2-496B-AF89-594FB53E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403-2BC6-4510-823A-8FB9F0F5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9F4B-F737-444F-8F3E-2FE4A98B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BF3B-22EC-4328-BEF5-EEED419C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21C-6C2B-4408-89AC-0E929460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E652-1D9E-4B91-9831-E7E71597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5DE6-6158-4A22-AE42-23241568A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kra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Kie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5000760" cy="5248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943600" cy="4419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aby dog for sh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ab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02920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3b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5280" y="1581120"/>
            <a:ext cx="6381720" cy="5276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ny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 Ukraine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16292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krain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38480" y="1328760"/>
            <a:ext cx="46670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3295800" cy="2343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s in ukr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038480" y="1143000"/>
            <a:ext cx="4457880" cy="4762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352680"/>
            <a:ext cx="358128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rot="20715000">
            <a:off x="2123640" y="1790280"/>
            <a:ext cx="4896000" cy="3276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9608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47640" y="1162080"/>
            <a:ext cx="6048720" cy="4533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4:18:49Z</dcterms:created>
  <dc:creator>lslibrary</dc:creator>
  <dc:description/>
  <dc:language>en-US</dc:language>
  <cp:lastModifiedBy>lslibrary</cp:lastModifiedBy>
  <dcterms:modified xsi:type="dcterms:W3CDTF">2009-05-20T15:03:31Z</dcterms:modified>
  <cp:revision>3</cp:revision>
  <dc:subject/>
  <dc:title>Ukraine </dc:title>
</cp:coreProperties>
</file>