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E69D-3E52-4483-BE99-9CF61DE86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6F93-F09B-47A0-B7EF-6ADFDA740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C7BE-A5E5-48F3-B807-19A8BCD0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ADEB-6557-4629-9FDA-497327A99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EF4-985D-40A4-AFA7-5C3FD145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C234-B4AB-4CE0-B902-A0F979E4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253E-3FE7-4D57-84CD-5B410C85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FBE-2A19-42F1-9041-AD179EC1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3E2-306E-4D62-BD1D-930C5121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347A-7BD6-4A7F-97C9-1C1D47AA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67A-33EE-45F6-9E6C-460849C8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121-E686-4667-9493-BB136B4E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EF3D-E738-42C0-8BC9-685AB73D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ra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Ki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007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by dog for sh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a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3b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581120"/>
            <a:ext cx="6381720" cy="5276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Ukrain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krai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8480" y="1328760"/>
            <a:ext cx="466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95800" cy="23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s in 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457880" cy="476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0715000">
            <a:off x="2123640" y="1790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162080"/>
            <a:ext cx="604872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8:49Z</dcterms:created>
  <dc:creator>lslibrary</dc:creator>
  <dc:description/>
  <dc:language>en-US</dc:language>
  <cp:lastModifiedBy>lslibrary</cp:lastModifiedBy>
  <dcterms:modified xsi:type="dcterms:W3CDTF">2009-05-20T15:03:31Z</dcterms:modified>
  <cp:revision>3</cp:revision>
  <dc:subject/>
  <dc:title>Ukraine </dc:title>
</cp:coreProperties>
</file>