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A5C3-74F1-4295-B5C1-D60B218E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4C05-D855-46EC-9EC7-3E8528C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B6A-E9A8-499B-B275-33EFA9CD6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AA2-1020-4924-97E5-939B5D50F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7BC-AF51-4B40-B693-E67DDDE6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C14E-46A0-4BBA-B854-854B1817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C6F9-06C7-4AB8-BD7F-C146CA5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D318-D81C-41D2-BF35-A4B0C882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3495-5B4D-4687-9DC6-CBCF13953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176A-EA44-4E6F-B676-4BEA1026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655D-5277-49CF-8955-7FBA6FAD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D70-29BD-4AE7-A4F5-959FDA3D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D861-3895-4557-B23A-3D94E9E0E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ra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Ki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007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by dog for sh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a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3b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581120"/>
            <a:ext cx="6381720" cy="5276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Ukrain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krai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8480" y="1328760"/>
            <a:ext cx="466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95800" cy="23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s in 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457880" cy="476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0715000">
            <a:off x="2123640" y="1790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162080"/>
            <a:ext cx="604872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8:49Z</dcterms:created>
  <dc:creator>lslibrary</dc:creator>
  <dc:description/>
  <dc:language>en-US</dc:language>
  <cp:lastModifiedBy>lslibrary</cp:lastModifiedBy>
  <dcterms:modified xsi:type="dcterms:W3CDTF">2009-05-20T15:03:31Z</dcterms:modified>
  <cp:revision>3</cp:revision>
  <dc:subject/>
  <dc:title>Ukraine </dc:title>
</cp:coreProperties>
</file>