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21C-97E7-4C26-94C3-C7CE1B1B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0FA-20A5-4ECB-8818-4CEBAE28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07A-615C-44E8-8610-691BAAA1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7AA-D2D4-44D1-A834-F2E0D0B3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A2F-7301-4C20-87AD-A6C25BD1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F55-833B-4D8B-B054-EE972B3D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55D-4A89-4AD1-B9A7-7C578580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ED3-5516-4D4A-B12F-77F92999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E29-171E-4B56-BEA0-D9981095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FBE-6C87-4BC2-9D4F-C0A1A07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698-0EA6-4F7D-BEC8-0453ACA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7A0-352B-4ACB-B99A-BCF420A3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A5EE-35F1-469B-A631-0F494869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Classic"/>
              </a:rPr>
              <a:t>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Classic"/>
              </a:rPr>
              <a:t>Capital: B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3200400" cy="210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The flag of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This is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gi"/>
              </a:rPr>
              <a:t>Switzerland has many mountains and is very 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8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6:09Z</dcterms:created>
  <dc:creator>lslibrary</dc:creator>
  <dc:description/>
  <dc:language>en-US</dc:language>
  <cp:lastModifiedBy>lslibrary</cp:lastModifiedBy>
  <dcterms:modified xsi:type="dcterms:W3CDTF">2009-05-06T14:56:26Z</dcterms:modified>
  <cp:revision>4</cp:revision>
  <dc:subject/>
  <dc:title>Switzerland</dc:title>
</cp:coreProperties>
</file>