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6F2F-52D5-4FFC-8809-F4B0F3EC1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3EF3-5F97-4740-8EC7-CB3686AD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099-2ACA-4445-BAA3-637295DE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6353-4849-48EF-904C-FC0770CD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0FA-818F-47B5-9B8D-FC7FD0B7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306A-60EB-4B72-B527-77FB65E6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8E3-96F5-4F1F-89D6-75E29020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9FEC-EECB-4BE2-BA67-BC66EEED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AFB2-2210-48F8-AB60-671F7B6D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FF41-723E-4E33-9474-7DCD00DD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2FE5-8840-4B7C-94DE-AAD1D9DF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DFF5-EDD8-46B1-98EA-2CB8C008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1784-4C9C-4323-8ECF-08432E194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J Classic"/>
              </a:rPr>
              <a:t>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J Classic"/>
              </a:rPr>
              <a:t>Capital: B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00400" y="3808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04920" y="4419720"/>
            <a:ext cx="3200400" cy="2109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943600" y="342900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ee Marker Ink"/>
              </a:rPr>
              <a:t>The flag of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781680" cy="50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This is Switz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gi"/>
              </a:rPr>
              <a:t>Switzerland has many mountains and is very beauti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81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26:09Z</dcterms:created>
  <dc:creator>lslibrary</dc:creator>
  <dc:description/>
  <dc:language>en-US</dc:language>
  <cp:lastModifiedBy>lslibrary</cp:lastModifiedBy>
  <dcterms:modified xsi:type="dcterms:W3CDTF">2009-05-06T14:56:26Z</dcterms:modified>
  <cp:revision>4</cp:revision>
  <dc:subject/>
  <dc:title>Switzerland</dc:title>
</cp:coreProperties>
</file>