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6793-2A1D-4B3A-95BA-B4E742125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E5EE-01ED-42A1-AD82-2F7D4BD74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F155-DA11-4D13-B10B-059EDB888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C5D4-3A04-4113-B9D7-64A671313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69E4-1262-4352-8E21-8E82A3995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FA2A-BE33-4768-82DA-CADBD91CD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3420-7E88-4AAA-A631-C9AB284EC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8592-16D0-4FA6-8843-3EDB91793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ABA0-C8FB-4051-9988-6972FBF91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CFC6-091E-4DC1-8888-58B2AE2CB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A70C-C51D-4D12-AFF9-1E462A566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3025-6A2B-44D9-951D-55A0CC76A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7EF49-2726-48BA-9B9D-BC66FAE3C5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ovak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atisl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770" fill="hold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8" dur="1230" fill="hold"/>
                                        <p:tgtEl>
                                          <p:spTgt spid="41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9" dur="123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10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11" dur="123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12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" dur="770" fill="hold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19" dur="123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20" dur="123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21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22" dur="123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23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Slovakia's  fla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6705720" cy="44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map of Slovaki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Slovakia Map"/>
          <p:cNvPicPr/>
          <p:nvPr/>
        </p:nvPicPr>
        <p:blipFill>
          <a:blip r:embed="rId1"/>
          <a:stretch/>
        </p:blipFill>
        <p:spPr>
          <a:xfrm>
            <a:off x="1219320" y="1447920"/>
            <a:ext cx="54100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" dur="770" fill="hold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39" dur="1230" fill="hold"/>
                                        <p:tgtEl>
                                          <p:spTgt spid="48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40" dur="123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41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42" dur="123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43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" dur="250" autoRev="1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9" dur="250" autoRev="1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0" dur="250" autoRev="1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4" dur="5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0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Slovakia’s s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Slovakia, Slovakia Sports Travel, photo, picture, image"/>
          <p:cNvPicPr/>
          <p:nvPr/>
        </p:nvPicPr>
        <p:blipFill>
          <a:blip r:embed="rId1"/>
          <a:stretch/>
        </p:blipFill>
        <p:spPr>
          <a:xfrm>
            <a:off x="533520" y="1558800"/>
            <a:ext cx="7543800" cy="45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9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93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ter pa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Aquathermal Senec"/>
          <p:cNvPicPr/>
          <p:nvPr/>
        </p:nvPicPr>
        <p:blipFill>
          <a:blip r:embed="rId1"/>
          <a:stretch/>
        </p:blipFill>
        <p:spPr>
          <a:xfrm>
            <a:off x="457200" y="1600200"/>
            <a:ext cx="6858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6T14:25:54Z</dcterms:created>
  <dc:creator>lslibrary</dc:creator>
  <dc:description/>
  <dc:language>en-US</dc:language>
  <cp:lastModifiedBy>lslibrary</cp:lastModifiedBy>
  <dcterms:modified xsi:type="dcterms:W3CDTF">2009-05-13T14:48:04Z</dcterms:modified>
  <cp:revision>4</cp:revision>
  <dc:subject/>
  <dc:title>Slovakia</dc:title>
</cp:coreProperties>
</file>