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6BC9-DA1E-41C7-8538-CA84BEC5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0474-841C-4D29-A3DE-4F8AABD8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938F-5B41-4422-8E78-EAB557B5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29B-CD1E-4734-80F0-F1FB2832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B88B-66DF-4396-967D-FF995192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D7E-C45E-4134-B55C-DE2EF346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586-224A-4A8B-8694-1179BBDF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178-505A-470C-BAD1-837C884D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455C-2A44-4B3E-81B1-152D0671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8CE3-54F3-44EF-BD5C-0EFF0CA1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C1E-0102-4076-9A06-95FB3F07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F198-F56E-4DA6-BC95-258BD2F56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069C-AF93-4FF5-9F72-124E2578C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vak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tisl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" dur="123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" dur="123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9" dur="123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0" dur="123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2" dur="123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Slovakia's 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670572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Slovak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lovakia Map"/>
          <p:cNvPicPr/>
          <p:nvPr/>
        </p:nvPicPr>
        <p:blipFill>
          <a:blip r:embed="rId1"/>
          <a:stretch/>
        </p:blipFill>
        <p:spPr>
          <a:xfrm>
            <a:off x="1219320" y="1447920"/>
            <a:ext cx="5410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39" dur="123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40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41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42" dur="123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4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Slovakia’s 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Slovakia, Slovakia Sports Travel, photo, picture, image"/>
          <p:cNvPicPr/>
          <p:nvPr/>
        </p:nvPicPr>
        <p:blipFill>
          <a:blip r:embed="rId1"/>
          <a:stretch/>
        </p:blipFill>
        <p:spPr>
          <a:xfrm>
            <a:off x="533520" y="1558800"/>
            <a:ext cx="75438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9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p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Aquathermal Senec"/>
          <p:cNvPicPr/>
          <p:nvPr/>
        </p:nvPicPr>
        <p:blipFill>
          <a:blip r:embed="rId1"/>
          <a:stretch/>
        </p:blipFill>
        <p:spPr>
          <a:xfrm>
            <a:off x="457200" y="16002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5:54Z</dcterms:created>
  <dc:creator>lslibrary</dc:creator>
  <dc:description/>
  <dc:language>en-US</dc:language>
  <cp:lastModifiedBy>lslibrary</cp:lastModifiedBy>
  <dcterms:modified xsi:type="dcterms:W3CDTF">2009-05-13T14:48:04Z</dcterms:modified>
  <cp:revision>4</cp:revision>
  <dc:subject/>
  <dc:title>Slovakia</dc:title>
</cp:coreProperties>
</file>