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829B-EB7C-49C2-8CDE-77AD6B026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95B7-8552-4C7D-8F6C-34B54862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D76B-8044-4230-BE31-B0C563B0B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0218-3A65-4639-BDC3-607110A89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74F1-96EC-4B57-892F-706B6BFF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E279-74B8-4C7D-990B-55A19A5A1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83B1-B82E-4502-85B6-F1322F5F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B68A-86AF-4ECB-B889-B70C48C7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259C-C1FC-44DA-9732-174CF69D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3FB3-5BDE-43B0-8778-D5A5A95F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A032-0E72-4824-B1C1-C4B001C5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80CA-884C-40E9-9B52-B6DC7B40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85A1-77D8-4E5E-BEE7-418A273EB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ovak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tisl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8" dur="123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9" dur="123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1" dur="123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9" dur="123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0" dur="123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2" dur="123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Slovakia's 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670572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map of Slovak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Slovakia Map"/>
          <p:cNvPicPr/>
          <p:nvPr/>
        </p:nvPicPr>
        <p:blipFill>
          <a:blip r:embed="rId1"/>
          <a:stretch/>
        </p:blipFill>
        <p:spPr>
          <a:xfrm>
            <a:off x="1219320" y="1447920"/>
            <a:ext cx="5410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9" dur="1230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40" dur="123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4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42" dur="123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4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25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9" dur="25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" dur="25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Slovakia’s 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Slovakia, Slovakia Sports Travel, photo, picture, image"/>
          <p:cNvPicPr/>
          <p:nvPr/>
        </p:nvPicPr>
        <p:blipFill>
          <a:blip r:embed="rId1"/>
          <a:stretch/>
        </p:blipFill>
        <p:spPr>
          <a:xfrm>
            <a:off x="533520" y="1558800"/>
            <a:ext cx="754380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pa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Aquathermal Senec"/>
          <p:cNvPicPr/>
          <p:nvPr/>
        </p:nvPicPr>
        <p:blipFill>
          <a:blip r:embed="rId1"/>
          <a:stretch/>
        </p:blipFill>
        <p:spPr>
          <a:xfrm>
            <a:off x="457200" y="160020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5:54Z</dcterms:created>
  <dc:creator>lslibrary</dc:creator>
  <dc:description/>
  <dc:language>en-US</dc:language>
  <cp:lastModifiedBy>lslibrary</cp:lastModifiedBy>
  <dcterms:modified xsi:type="dcterms:W3CDTF">2009-05-13T14:48:04Z</dcterms:modified>
  <cp:revision>4</cp:revision>
  <dc:subject/>
  <dc:title>Slovakia</dc:title>
</cp:coreProperties>
</file>