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9FB-31E7-435F-B30F-CC5A0210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572-822A-4431-90E9-A033ECA7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CD5-2482-4959-9559-0E915BBC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E4F-D4BD-4A63-8FAC-03494603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2E7-E66D-48D2-A7A9-0898BB16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C2B-E257-4EB8-B3DE-AC8821F0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480-E07A-4412-B2EA-75CA4A2C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0BD-DF3F-471E-ACF0-C72BC51C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6CA-A5FC-4F7E-B374-60CD50F5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ACD-F074-47B8-B00B-A50E81DA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569-F48D-4CC5-8EF5-3E4DAB21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2F9-5EEA-400E-88F5-8A0EA512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0ECA-C758-4234-89DB-50E893D79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va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" dur="123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9" dur="123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0" dur="123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2" dur="123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Slovakia's 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705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Slovak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Slovakia Map"/>
          <p:cNvPicPr/>
          <p:nvPr/>
        </p:nvPicPr>
        <p:blipFill>
          <a:blip r:embed="rId1"/>
          <a:stretch/>
        </p:blipFill>
        <p:spPr>
          <a:xfrm>
            <a:off x="1219320" y="14479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9" dur="123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0" dur="123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2" dur="123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Slovakia’s 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lovakia, Slovakia Sports Travel, photo, picture, image"/>
          <p:cNvPicPr/>
          <p:nvPr/>
        </p:nvPicPr>
        <p:blipFill>
          <a:blip r:embed="rId1"/>
          <a:stretch/>
        </p:blipFill>
        <p:spPr>
          <a:xfrm>
            <a:off x="533520" y="1558800"/>
            <a:ext cx="75438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p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quathermal Senec"/>
          <p:cNvPicPr/>
          <p:nvPr/>
        </p:nvPicPr>
        <p:blipFill>
          <a:blip r:embed="rId1"/>
          <a:stretch/>
        </p:blipFill>
        <p:spPr>
          <a:xfrm>
            <a:off x="457200" y="16002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5:54Z</dcterms:created>
  <dc:creator>lslibrary</dc:creator>
  <dc:description/>
  <dc:language>en-US</dc:language>
  <cp:lastModifiedBy>lslibrary</cp:lastModifiedBy>
  <dcterms:modified xsi:type="dcterms:W3CDTF">2009-05-13T14:48:04Z</dcterms:modified>
  <cp:revision>4</cp:revision>
  <dc:subject/>
  <dc:title>Slovakia</dc:title>
</cp:coreProperties>
</file>