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239-3028-4535-B455-8665090B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05B-F30D-4007-A602-DDF4BC83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87EA-ABBD-4AD5-87DF-51F60C4DF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A7CD-8A2D-42B2-BA66-E3D5858F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4DED-C258-4037-A2FC-73A3BBC0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129F-5F30-4533-B5D7-A02DC477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FA3D-973B-4E29-9444-97BC43DD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FC30-0C41-47FE-AA07-1874A15C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0514-3B7E-496B-BA7C-D4FB0988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E769-9FD1-4B92-9933-8E2C204D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4FDA-092C-476E-A7F2-1DF45880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7542-EEBC-495B-A5D5-29241E82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92F0-80B7-4036-A33A-4B60F7F3A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rmchairgeneralist.typepad.com/.a/6a00d83451b39369e2010536ffbcf2970c-800wi&amp;imgrefurl=http://armchairgeneralist.typepad.com/.a/6a00d83451b39369e2010536ffbcf2970c-popup&amp;usg=__WU_sgqmooLWIXef49RYQr18dKHo=&amp;h=511&amp;w=640&amp;sz=37&amp;hl=en&amp;start=16&amp;um=1&amp;tbnid=st-90XsczCi5OM:&amp;tbnh=109&amp;tbnw=137&amp;prev=/images%3Fq%3Drussia%2527s%2Bflag%26ndsp%3D20%26hl%3Den%26rlz%3D1T4ADBF_enUS310US310%26sa%3DN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ymnastics" TargetMode="External"/><Relationship Id="rId2" Type="http://schemas.openxmlformats.org/officeDocument/2006/relationships/hyperlink" Target="http://en.wikipedia.org/wiki/Boxing" TargetMode="External"/><Relationship Id="rId3" Type="http://schemas.openxmlformats.org/officeDocument/2006/relationships/hyperlink" Target="http://en.wikipedia.org/wiki/Wrestling" TargetMode="External"/><Relationship Id="rId4" Type="http://schemas.openxmlformats.org/officeDocument/2006/relationships/hyperlink" Target="http://en.wikipedia.org/wiki/Martial_arts" TargetMode="External"/><Relationship Id="rId5" Type="http://schemas.openxmlformats.org/officeDocument/2006/relationships/hyperlink" Target="http://en.wikipedia.org/wiki/Volleyball" TargetMode="External"/><Relationship Id="rId6" Type="http://schemas.openxmlformats.org/officeDocument/2006/relationships/hyperlink" Target="http://en.wikipedia.org/wiki/Rugby_union" TargetMode="External"/><Relationship Id="rId7" Type="http://schemas.openxmlformats.org/officeDocument/2006/relationships/hyperlink" Target="http://en.wikipedia.org/wiki/Skiing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ootball_(soccer)" TargetMode="External"/><Relationship Id="rId2" Type="http://schemas.openxmlformats.org/officeDocument/2006/relationships/hyperlink" Target="http://images.google.com/imgres?imgurl=http://www.courier-journal.com/blogs/demling/uploaded_images/football_goal-789124.gif&amp;imgrefurl=http://www.courier-journal.com/blogs/demling/2008_07_01_archive.html&amp;usg=__N3oB7dyKClGztNpu3jonsn-4ZgI=&amp;h=300&amp;w=390&amp;sz=5&amp;hl=en&amp;start=8&amp;um=1&amp;tbnid=_vaNbJkPWlqxzM:&amp;tbnh=95&amp;tbnw=123&amp;prev=/images%3Fq%3Dfootball%26hl%3Den%26rlz%3D1G1GGLQ_ENUS325%26sa%3DN%26um%3D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ce_hockey" TargetMode="External"/><Relationship Id="rId2" Type="http://schemas.openxmlformats.org/officeDocument/2006/relationships/hyperlink" Target="http://images.google.com/imgres?imgurl=http://imagecache.allposters.com/images/pic/FIP/WS-19-C~Ice-Hockey-Player-Posters.jpg&amp;imgrefurl=http://www.allposters.com/-sp/Ice-Hockey-Player-Posters_i816557_.htm&amp;usg=__6-XWxBBWWHPiUx4EsvikWOLFwcA=&amp;h=450&amp;w=312&amp;sz=32&amp;hl=en&amp;start=13&amp;um=1&amp;tbnid=CWJ4ikwHerFGXM:&amp;tbnh=127&amp;tbnw=88&amp;prev=/images%3Fq%3Dice%2Bhockey%26ndsp%3D20%26hl%3Den%26rlz%3D1G1GGLQ_ENUS325%26sa%3DN%26um%3D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Basketbal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capital of Russia is Mosc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ssia’s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3520" y="1596960"/>
            <a:ext cx="815328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715000" y="2133720"/>
            <a:ext cx="2560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280" y="2550960"/>
          <a:ext cx="1513080" cy="2357640"/>
        </p:xfrm>
        <a:graphic>
          <a:graphicData uri="http://schemas.openxmlformats.org/drawingml/2006/table">
            <a:tbl>
              <a:tblPr/>
              <a:tblGrid>
                <a:gridCol w="1513080"/>
              </a:tblGrid>
              <a:tr h="235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1080" y="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52480" y="0"/>
            <a:ext cx="58676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gymnastic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oxin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restlin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martial arts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volleyball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rugby union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and 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skiing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380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oo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752480"/>
            <a:ext cx="79250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ice hoc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95480" y="1371600"/>
            <a:ext cx="32767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asketbal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4529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ightlift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28600" y="1295280"/>
            <a:ext cx="891540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1:24Z</dcterms:created>
  <dc:creator>lslibrary</dc:creator>
  <dc:description/>
  <dc:language>en-US</dc:language>
  <cp:lastModifiedBy>lslibrary</cp:lastModifiedBy>
  <dcterms:modified xsi:type="dcterms:W3CDTF">2009-05-13T14:55:25Z</dcterms:modified>
  <cp:revision>4</cp:revision>
  <dc:subject/>
  <dc:title>Russia</dc:title>
</cp:coreProperties>
</file>