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E0C-EC9E-4A4F-ACC5-AD500D16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802-4D72-4980-8487-A2AD9E4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3FC-F34D-4F4A-AC49-839B7F5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48D-766A-4747-BDB5-6A585850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A21-2619-4501-8D28-E0092E0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CED-C0C3-41CA-BFAD-3AFF02E1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EEF-10D7-4D67-BE0B-63A6B9DD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21B-C460-4775-9A4D-1985B46E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710-FE48-434C-830B-5CB84D2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785-41AA-4D98-9CB0-730D1C26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B7B-CD42-4262-A4B2-EDD435A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92D-272A-4445-BA3F-7C96BD7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E2E-B0C1-4BD8-B20B-23C864CC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rmchairgeneralist.typepad.com/.a/6a00d83451b39369e2010536ffbcf2970c-800wi&amp;imgrefurl=http://armchairgeneralist.typepad.com/.a/6a00d83451b39369e2010536ffbcf2970c-popup&amp;usg=__WU_sgqmooLWIXef49RYQr18dKHo=&amp;h=511&amp;w=640&amp;sz=37&amp;hl=en&amp;start=16&amp;um=1&amp;tbnid=st-90XsczCi5OM:&amp;tbnh=109&amp;tbnw=137&amp;prev=/images%3Fq%3Drussia%2527s%2Bflag%26ndsp%3D20%26hl%3Den%26rlz%3D1T4ADBF_enUS310US31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mnastics" TargetMode="External"/><Relationship Id="rId2" Type="http://schemas.openxmlformats.org/officeDocument/2006/relationships/hyperlink" Target="http://en.wikipedia.org/wiki/Boxing" TargetMode="External"/><Relationship Id="rId3" Type="http://schemas.openxmlformats.org/officeDocument/2006/relationships/hyperlink" Target="http://en.wikipedia.org/wiki/Wrestling" TargetMode="External"/><Relationship Id="rId4" Type="http://schemas.openxmlformats.org/officeDocument/2006/relationships/hyperlink" Target="http://en.wikipedia.org/wiki/Martial_arts" TargetMode="External"/><Relationship Id="rId5" Type="http://schemas.openxmlformats.org/officeDocument/2006/relationships/hyperlink" Target="http://en.wikipedia.org/wiki/Volleyball" TargetMode="External"/><Relationship Id="rId6" Type="http://schemas.openxmlformats.org/officeDocument/2006/relationships/hyperlink" Target="http://en.wikipedia.org/wiki/Rugby_union" TargetMode="External"/><Relationship Id="rId7" Type="http://schemas.openxmlformats.org/officeDocument/2006/relationships/hyperlink" Target="http://en.wikipedia.org/wiki/Skiing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otball_(soccer)" TargetMode="External"/><Relationship Id="rId2" Type="http://schemas.openxmlformats.org/officeDocument/2006/relationships/hyperlink" Target="http://images.google.com/imgres?imgurl=http://www.courier-journal.com/blogs/demling/uploaded_images/football_goal-789124.gif&amp;imgrefurl=http://www.courier-journal.com/blogs/demling/2008_07_01_archive.html&amp;usg=__N3oB7dyKClGztNpu3jonsn-4ZgI=&amp;h=300&amp;w=390&amp;sz=5&amp;hl=en&amp;start=8&amp;um=1&amp;tbnid=_vaNbJkPWlqxzM:&amp;tbnh=95&amp;tbnw=123&amp;prev=/images%3Fq%3Dfootball%26hl%3Den%26rlz%3D1G1GGLQ_ENUS325%26sa%3DN%26um%3D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e_hockey" TargetMode="External"/><Relationship Id="rId2" Type="http://schemas.openxmlformats.org/officeDocument/2006/relationships/hyperlink" Target="http://images.google.com/imgres?imgurl=http://imagecache.allposters.com/images/pic/FIP/WS-19-C~Ice-Hockey-Player-Posters.jpg&amp;imgrefurl=http://www.allposters.com/-sp/Ice-Hockey-Player-Posters_i816557_.htm&amp;usg=__6-XWxBBWWHPiUx4EsvikWOLFwcA=&amp;h=450&amp;w=312&amp;sz=32&amp;hl=en&amp;start=13&amp;um=1&amp;tbnid=CWJ4ikwHerFGXM:&amp;tbnh=127&amp;tbnw=88&amp;prev=/images%3Fq%3Dice%2Bhockey%26ndsp%3D20%26hl%3Den%26rlz%3D1G1GGLQ_ENUS325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5000" y="2133720"/>
            <a:ext cx="256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2550960"/>
          <a:ext cx="1513080" cy="2357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0" y="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ymnastic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x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restl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rtial art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olleybal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gby un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ki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 hoc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32767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sketba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4529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if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4Z</dcterms:created>
  <dc:creator>lslibrary</dc:creator>
  <dc:description/>
  <dc:language>en-US</dc:language>
  <cp:lastModifiedBy>lslibrary</cp:lastModifiedBy>
  <dcterms:modified xsi:type="dcterms:W3CDTF">2009-05-13T14:55:25Z</dcterms:modified>
  <cp:revision>4</cp:revision>
  <dc:subject/>
  <dc:title>Russia</dc:title>
</cp:coreProperties>
</file>