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4B0-196A-4514-8D6E-989246FB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C92-1B9F-48E7-8550-078035F8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92F-0B73-4893-A12E-DBE8D516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E16-559D-4E24-AC7C-A23E3532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C19-CC11-4373-B5BB-F14D5243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E2A-67BB-49B6-A8BE-A5FEEFF8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D5A-E19C-4ECF-A40E-691A9684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A33-2391-4EC4-BF63-EEB04852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A02-3DEA-4C3F-A833-EE8DD818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B4A-DF0B-41F4-974F-C0944302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331-CCB0-46F5-AF49-51A70F6B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844-3A4F-47E2-B20F-621CDDB9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195D-1F6D-4E89-93E1-06438DE78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rmchairgeneralist.typepad.com/.a/6a00d83451b39369e2010536ffbcf2970c-800wi&amp;imgrefurl=http://armchairgeneralist.typepad.com/.a/6a00d83451b39369e2010536ffbcf2970c-popup&amp;usg=__WU_sgqmooLWIXef49RYQr18dKHo=&amp;h=511&amp;w=640&amp;sz=37&amp;hl=en&amp;start=16&amp;um=1&amp;tbnid=st-90XsczCi5OM:&amp;tbnh=109&amp;tbnw=137&amp;prev=/images%3Fq%3Drussia%2527s%2Bflag%26ndsp%3D20%26hl%3Den%26rlz%3D1T4ADBF_enUS310US310%26sa%3D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ymnastics" TargetMode="External"/><Relationship Id="rId2" Type="http://schemas.openxmlformats.org/officeDocument/2006/relationships/hyperlink" Target="http://en.wikipedia.org/wiki/Boxing" TargetMode="External"/><Relationship Id="rId3" Type="http://schemas.openxmlformats.org/officeDocument/2006/relationships/hyperlink" Target="http://en.wikipedia.org/wiki/Wrestling" TargetMode="External"/><Relationship Id="rId4" Type="http://schemas.openxmlformats.org/officeDocument/2006/relationships/hyperlink" Target="http://en.wikipedia.org/wiki/Martial_arts" TargetMode="External"/><Relationship Id="rId5" Type="http://schemas.openxmlformats.org/officeDocument/2006/relationships/hyperlink" Target="http://en.wikipedia.org/wiki/Volleyball" TargetMode="External"/><Relationship Id="rId6" Type="http://schemas.openxmlformats.org/officeDocument/2006/relationships/hyperlink" Target="http://en.wikipedia.org/wiki/Rugby_union" TargetMode="External"/><Relationship Id="rId7" Type="http://schemas.openxmlformats.org/officeDocument/2006/relationships/hyperlink" Target="http://en.wikipedia.org/wiki/Skiing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ootball_(soccer)" TargetMode="External"/><Relationship Id="rId2" Type="http://schemas.openxmlformats.org/officeDocument/2006/relationships/hyperlink" Target="http://images.google.com/imgres?imgurl=http://www.courier-journal.com/blogs/demling/uploaded_images/football_goal-789124.gif&amp;imgrefurl=http://www.courier-journal.com/blogs/demling/2008_07_01_archive.html&amp;usg=__N3oB7dyKClGztNpu3jonsn-4ZgI=&amp;h=300&amp;w=390&amp;sz=5&amp;hl=en&amp;start=8&amp;um=1&amp;tbnid=_vaNbJkPWlqxzM:&amp;tbnh=95&amp;tbnw=123&amp;prev=/images%3Fq%3Dfootball%26hl%3Den%26rlz%3D1G1GGLQ_ENUS325%26sa%3DN%26um%3D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ce_hockey" TargetMode="External"/><Relationship Id="rId2" Type="http://schemas.openxmlformats.org/officeDocument/2006/relationships/hyperlink" Target="http://images.google.com/imgres?imgurl=http://imagecache.allposters.com/images/pic/FIP/WS-19-C~Ice-Hockey-Player-Posters.jpg&amp;imgrefurl=http://www.allposters.com/-sp/Ice-Hockey-Player-Posters_i816557_.htm&amp;usg=__6-XWxBBWWHPiUx4EsvikWOLFwcA=&amp;h=450&amp;w=312&amp;sz=32&amp;hl=en&amp;start=13&amp;um=1&amp;tbnid=CWJ4ikwHerFGXM:&amp;tbnh=127&amp;tbnw=88&amp;prev=/images%3Fq%3Dice%2Bhockey%26ndsp%3D20%26hl%3Den%26rlz%3D1G1GGLQ_ENUS325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asketbal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pital of Russia is Mosc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596960"/>
            <a:ext cx="815328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15000" y="2133720"/>
            <a:ext cx="2560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2550960"/>
          <a:ext cx="1513080" cy="235764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23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080" y="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ymnastic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x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restl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artial art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olleyball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ugby unio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ki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752480"/>
            <a:ext cx="792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ce hoc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1371600"/>
            <a:ext cx="32767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asketbal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4529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lif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1:24Z</dcterms:created>
  <dc:creator>lslibrary</dc:creator>
  <dc:description/>
  <dc:language>en-US</dc:language>
  <cp:lastModifiedBy>lslibrary</cp:lastModifiedBy>
  <dcterms:modified xsi:type="dcterms:W3CDTF">2009-05-13T14:55:25Z</dcterms:modified>
  <cp:revision>4</cp:revision>
  <dc:subject/>
  <dc:title>Russia</dc:title>
</cp:coreProperties>
</file>