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FE68-9C0A-4C3F-9163-8071768DB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3010-C0FE-4711-A8E5-8ED0D68FD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077A-FF9D-4FC2-BDC2-E8D1B8BCA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4720-F14B-460F-B638-8C887F60D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0196-E780-4B87-A389-ED2E2CC3F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74F1-F0B6-43FA-AFAB-36D07C483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6A5B-6337-4BC5-8992-0CC5C06FD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69C2-E576-4B00-A579-2A7D72A9B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2275-8FD1-4497-9F41-39A7BE4BA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6D2C-BE8B-4EFA-86D5-74ECC1D41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04BC-1E17-40F1-A430-8676DB5B5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620A-AB47-42E8-8E26-8D8F63C91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F9CF4-C6D4-401B-A815-A992EB3A3D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cache.boston.com/universal/site_graphics/blogs/bigpicture/wad_10_17/wad27_16628963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s.google.com/imgres?imgurl=http://www.vivid.ro/images/80/con1.jpg&amp;imgrefurl=http://www.vivid.ro/index.php/issue/80/page/conservation/tstamp/1147421171&amp;usg=__U6znm9ya6aaTSnW6GWqOkotNGw8=&amp;h=270&amp;w=270&amp;sz=81&amp;hl=en&amp;start=58&amp;tbnid=LbBY03Ewqrav5M:&amp;tbnh=113&amp;tbnw=113&amp;prev=/images%3Fq%3Drare%2Bromanain%2Banimals%26gbv%3D2%26ndsp%3D20%26hl%3Den%26sa%3DN%26start%3D40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img293.imageshack.us/img293/964/albinodeerki9.jpg" TargetMode="External"/><Relationship Id="rId6" Type="http://schemas.openxmlformats.org/officeDocument/2006/relationships/image" Target="../media/image5.jpeg"/><Relationship Id="rId7" Type="http://schemas.openxmlformats.org/officeDocument/2006/relationships/hyperlink" Target="http://images.google.com/imgres?imgurl=http://por-img.cimcontent.net/api/assets/bin-200904/8acc230b27eda4760d4bce462e6c468d.jpg&amp;imgrefurl=http://www.comcast.net/slideshow/news-animals/14/&amp;usg=__jXQOHpaThAuC25oyE8Rqhtf7Uao=&amp;h=400&amp;w=419&amp;sz=32&amp;hl=en&amp;start=95&amp;tbnid=DFo-HWnmx7ydHM:&amp;tbnh=119&amp;tbnw=125&amp;prev=/images%3Fq%3Drare%2Bromanain%2Banimals%26gbv%3D2%26ndsp%3D20%26hl%3Den%26sa%3DN%26start%3D80" TargetMode="External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image" Target="../media/image8.jpeg"/><Relationship Id="rId11" Type="http://schemas.openxmlformats.org/officeDocument/2006/relationships/image" Target="../media/image9.jpe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e Marker Ink"/>
              </a:rPr>
              <a:t>Romani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e Marker Ink"/>
              </a:rPr>
              <a:t>The capital city is Buchare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14600" y="2057400"/>
            <a:ext cx="4114800" cy="27432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85800" y="99072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e Marker Ink"/>
              </a:rPr>
              <a:t>This is the fl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00200" y="1447920"/>
            <a:ext cx="5796000" cy="4349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62120" y="38088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e Marker Ink"/>
              </a:rPr>
              <a:t>This is the 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22860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e Marker Ink"/>
              </a:rPr>
              <a:t>They have some of the rarest anim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00600"/>
            <a:ext cx="2514600" cy="20574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438280" y="3733920"/>
            <a:ext cx="3810240" cy="3124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See full size imag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2895480"/>
            <a:ext cx="2590920" cy="19814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248520" y="3809880"/>
            <a:ext cx="2895480" cy="3048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See full size image"/>
          <p:cNvPicPr/>
          <p:nvPr/>
        </p:nvPicPr>
        <p:blipFill>
          <a:blip r:embed="rId9"/>
          <a:stretch/>
        </p:blipFill>
        <p:spPr>
          <a:xfrm>
            <a:off x="7391520" y="205740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See full size image"/>
          <p:cNvPicPr/>
          <p:nvPr/>
        </p:nvPicPr>
        <p:blipFill>
          <a:blip r:embed="rId10"/>
          <a:stretch/>
        </p:blipFill>
        <p:spPr>
          <a:xfrm>
            <a:off x="5105520" y="2057400"/>
            <a:ext cx="2209680" cy="17524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See full size image"/>
          <p:cNvPicPr/>
          <p:nvPr/>
        </p:nvPicPr>
        <p:blipFill>
          <a:blip r:embed="rId11"/>
          <a:stretch/>
        </p:blipFill>
        <p:spPr>
          <a:xfrm>
            <a:off x="2590920" y="1219320"/>
            <a:ext cx="2514600" cy="25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6T14:22:59Z</dcterms:created>
  <dc:creator>lslibrary</dc:creator>
  <dc:description/>
  <dc:language>en-US</dc:language>
  <cp:lastModifiedBy>lslibrary</cp:lastModifiedBy>
  <dcterms:modified xsi:type="dcterms:W3CDTF">2009-05-06T14:57:39Z</dcterms:modified>
  <cp:revision>3</cp:revision>
  <dc:subject/>
  <dc:title>Romania </dc:title>
</cp:coreProperties>
</file>