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5BEF-EDDC-410C-8E38-D4B2C8B25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466-2A6C-4942-85EC-130F4791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ED68-1322-44C1-BFD3-4CB3A9DF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9BA-860E-46F3-BF5B-AFE59D70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F1B-2E8F-4F53-B1F2-6F65C8364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BDC1-209E-4369-B001-E3B1FB60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DD18-8B15-4FC4-B9CE-52C3590F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6710-EAC5-4DD1-8745-C666B8B7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78A-9EEE-435F-B816-57D5371A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45D-B99A-44D0-92B4-C94DB49C7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DF93-7253-4891-9143-7FEE5457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E114-FDA5-402D-9CBD-98E64F69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1619-2E24-4EDC-AC67-E114FB66E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ache.boston.com/universal/site_graphics/blogs/bigpicture/wad_10_17/wad27_1662896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vivid.ro/images/80/con1.jpg&amp;imgrefurl=http://www.vivid.ro/index.php/issue/80/page/conservation/tstamp/1147421171&amp;usg=__U6znm9ya6aaTSnW6GWqOkotNGw8=&amp;h=270&amp;w=270&amp;sz=81&amp;hl=en&amp;start=58&amp;tbnid=LbBY03Ewqrav5M:&amp;tbnh=113&amp;tbnw=113&amp;prev=/images%3Fq%3Drare%2Bromanain%2Banimals%26gbv%3D2%26ndsp%3D20%26hl%3Den%26sa%3DN%26start%3D40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293.imageshack.us/img293/964/albinodeerki9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por-img.cimcontent.net/api/assets/bin-200904/8acc230b27eda4760d4bce462e6c468d.jpg&amp;imgrefurl=http://www.comcast.net/slideshow/news-animals/14/&amp;usg=__jXQOHpaThAuC25oyE8Rqhtf7Uao=&amp;h=400&amp;w=419&amp;sz=32&amp;hl=en&amp;start=95&amp;tbnid=DFo-HWnmx7ydHM:&amp;tbnh=119&amp;tbnw=125&amp;prev=/images%3Fq%3Drare%2Bromanain%2Banimals%26gbv%3D2%26ndsp%3D20%26hl%3Den%26sa%3DN%26start%3D80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Roman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 capital city is Bucha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96000" cy="434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y have some of the rarest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00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373392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8954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380988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See full size image"/>
          <p:cNvPicPr/>
          <p:nvPr/>
        </p:nvPicPr>
        <p:blipFill>
          <a:blip r:embed="rId9"/>
          <a:stretch/>
        </p:blipFill>
        <p:spPr>
          <a:xfrm>
            <a:off x="7391520" y="2057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See full size image"/>
          <p:cNvPicPr/>
          <p:nvPr/>
        </p:nvPicPr>
        <p:blipFill>
          <a:blip r:embed="rId10"/>
          <a:stretch/>
        </p:blipFill>
        <p:spPr>
          <a:xfrm>
            <a:off x="5105520" y="205740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See full size image"/>
          <p:cNvPicPr/>
          <p:nvPr/>
        </p:nvPicPr>
        <p:blipFill>
          <a:blip r:embed="rId11"/>
          <a:stretch/>
        </p:blipFill>
        <p:spPr>
          <a:xfrm>
            <a:off x="2590920" y="1219320"/>
            <a:ext cx="2514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2:59Z</dcterms:created>
  <dc:creator>lslibrary</dc:creator>
  <dc:description/>
  <dc:language>en-US</dc:language>
  <cp:lastModifiedBy>lslibrary</cp:lastModifiedBy>
  <dcterms:modified xsi:type="dcterms:W3CDTF">2009-05-06T14:57:39Z</dcterms:modified>
  <cp:revision>3</cp:revision>
  <dc:subject/>
  <dc:title>Romania </dc:title>
</cp:coreProperties>
</file>