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178-A55C-496B-96E7-7CAD888B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FCC-2B45-4A22-B0E6-96E08441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764-C892-4A12-87A1-73623A58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C91-3B5C-4992-AC07-8543140C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3A9-223D-4DD5-97CE-1B6B1ED9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343-6DB7-438A-BDF4-96A6874D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A9A-2CDD-40B2-99CF-DEDEBC49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B6B-E6E6-47A1-900B-2617D7A2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BDB-F7F7-4DA0-BC5F-A7405980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FDD-D28E-42EC-A347-C7BB2AA0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6AE-1FB7-46E1-89E2-5DBC702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DCC-C2E2-4FFC-AB7F-665C10B3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0E22-0DF4-4C25-836F-83F350F81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ache.boston.com/universal/site_graphics/blogs/bigpicture/wad_10_17/wad27_1662896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vivid.ro/images/80/con1.jpg&amp;imgrefurl=http://www.vivid.ro/index.php/issue/80/page/conservation/tstamp/1147421171&amp;usg=__U6znm9ya6aaTSnW6GWqOkotNGw8=&amp;h=270&amp;w=270&amp;sz=81&amp;hl=en&amp;start=58&amp;tbnid=LbBY03Ewqrav5M:&amp;tbnh=113&amp;tbnw=113&amp;prev=/images%3Fq%3Drare%2Bromanain%2Banimals%26gbv%3D2%26ndsp%3D20%26hl%3Den%26sa%3DN%26start%3D40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293.imageshack.us/img293/964/albinodeerki9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por-img.cimcontent.net/api/assets/bin-200904/8acc230b27eda4760d4bce462e6c468d.jpg&amp;imgrefurl=http://www.comcast.net/slideshow/news-animals/14/&amp;usg=__jXQOHpaThAuC25oyE8Rqhtf7Uao=&amp;h=400&amp;w=419&amp;sz=32&amp;hl=en&amp;start=95&amp;tbnid=DFo-HWnmx7ydHM:&amp;tbnh=119&amp;tbnw=125&amp;prev=/images%3Fq%3Drare%2Bromanain%2Banimals%26gbv%3D2%26ndsp%3D20%26hl%3Den%26sa%3DN%26start%3D80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Roman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 capital city is Bucha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6000" cy="43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y have some of the rarest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373392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954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38098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See full size image"/>
          <p:cNvPicPr/>
          <p:nvPr/>
        </p:nvPicPr>
        <p:blipFill>
          <a:blip r:embed="rId9"/>
          <a:stretch/>
        </p:blipFill>
        <p:spPr>
          <a:xfrm>
            <a:off x="7391520" y="2057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See full size image"/>
          <p:cNvPicPr/>
          <p:nvPr/>
        </p:nvPicPr>
        <p:blipFill>
          <a:blip r:embed="rId10"/>
          <a:stretch/>
        </p:blipFill>
        <p:spPr>
          <a:xfrm>
            <a:off x="5105520" y="20574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See full size image"/>
          <p:cNvPicPr/>
          <p:nvPr/>
        </p:nvPicPr>
        <p:blipFill>
          <a:blip r:embed="rId11"/>
          <a:stretch/>
        </p:blipFill>
        <p:spPr>
          <a:xfrm>
            <a:off x="2590920" y="1219320"/>
            <a:ext cx="2514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2:59Z</dcterms:created>
  <dc:creator>lslibrary</dc:creator>
  <dc:description/>
  <dc:language>en-US</dc:language>
  <cp:lastModifiedBy>lslibrary</cp:lastModifiedBy>
  <dcterms:modified xsi:type="dcterms:W3CDTF">2009-05-06T14:57:39Z</dcterms:modified>
  <cp:revision>3</cp:revision>
  <dc:subject/>
  <dc:title>Romania </dc:title>
</cp:coreProperties>
</file>