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ED1-0DF0-41C5-89DD-A51A5533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F39-F81E-49AC-B610-6B305330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1AE-80EE-48F7-AFF6-1BBA365D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278-E651-4D5C-92CC-B83B719B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161-5E24-466F-9829-AC346C41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123-3FD9-412B-AB72-8DBBF7B7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062-C335-4914-8E0B-65FC05C6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9E6-6C29-4754-888B-1A162673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EAF-3B37-42FA-B96F-A507B453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D5D-8F6B-4CA7-A43A-864462E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E8A-99AB-42AE-8345-29102EA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475-B87F-41EC-844C-555122ED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B6EA-58A9-4662-AAD7-F1199D066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ache.boston.com/universal/site_graphics/blogs/bigpicture/wad_10_17/wad27_1662896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vivid.ro/images/80/con1.jpg&amp;imgrefurl=http://www.vivid.ro/index.php/issue/80/page/conservation/tstamp/1147421171&amp;usg=__U6znm9ya6aaTSnW6GWqOkotNGw8=&amp;h=270&amp;w=270&amp;sz=81&amp;hl=en&amp;start=58&amp;tbnid=LbBY03Ewqrav5M:&amp;tbnh=113&amp;tbnw=113&amp;prev=/images%3Fq%3Drare%2Bromanain%2Banimals%26gbv%3D2%26ndsp%3D20%26hl%3Den%26sa%3DN%26start%3D40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293.imageshack.us/img293/964/albinodeerki9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por-img.cimcontent.net/api/assets/bin-200904/8acc230b27eda4760d4bce462e6c468d.jpg&amp;imgrefurl=http://www.comcast.net/slideshow/news-animals/14/&amp;usg=__jXQOHpaThAuC25oyE8Rqhtf7Uao=&amp;h=400&amp;w=419&amp;sz=32&amp;hl=en&amp;start=95&amp;tbnid=DFo-HWnmx7ydHM:&amp;tbnh=119&amp;tbnw=125&amp;prev=/images%3Fq%3Drare%2Bromanain%2Banimals%26gbv%3D2%26ndsp%3D20%26hl%3Den%26sa%3DN%26start%3D80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Roman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 capital city is Bucha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6000" cy="43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y have some of the rarest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373392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954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38098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See full size image"/>
          <p:cNvPicPr/>
          <p:nvPr/>
        </p:nvPicPr>
        <p:blipFill>
          <a:blip r:embed="rId9"/>
          <a:stretch/>
        </p:blipFill>
        <p:spPr>
          <a:xfrm>
            <a:off x="7391520" y="2057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See full size image"/>
          <p:cNvPicPr/>
          <p:nvPr/>
        </p:nvPicPr>
        <p:blipFill>
          <a:blip r:embed="rId10"/>
          <a:stretch/>
        </p:blipFill>
        <p:spPr>
          <a:xfrm>
            <a:off x="5105520" y="20574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See full size image"/>
          <p:cNvPicPr/>
          <p:nvPr/>
        </p:nvPicPr>
        <p:blipFill>
          <a:blip r:embed="rId11"/>
          <a:stretch/>
        </p:blipFill>
        <p:spPr>
          <a:xfrm>
            <a:off x="2590920" y="1219320"/>
            <a:ext cx="2514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2:59Z</dcterms:created>
  <dc:creator>lslibrary</dc:creator>
  <dc:description/>
  <dc:language>en-US</dc:language>
  <cp:lastModifiedBy>lslibrary</cp:lastModifiedBy>
  <dcterms:modified xsi:type="dcterms:W3CDTF">2009-05-06T14:57:39Z</dcterms:modified>
  <cp:revision>3</cp:revision>
  <dc:subject/>
  <dc:title>Romania </dc:title>
</cp:coreProperties>
</file>