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9A1-197C-4F4C-99A9-50663302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AA4-5D2B-4C75-A218-2E0D7B3F0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8EF-E043-4234-8A05-C9AD62CF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6D5-CFBA-46C2-A633-6733E766B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29CD-CCD5-4F42-AB94-13F8E8FB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1F7-7D54-4243-BC77-3FBD0916C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4FD-6692-4D95-9D19-3FFABF4B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14C1-1FD2-4452-8D95-38078DA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030-D1C9-47C9-BF5F-26A80CEF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DBA7-AA1F-4862-88A2-82728F9D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0827-C5C0-413E-A801-049253D4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92EB-3386-4EA5-85B5-5555356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4EDC-6498-4D06-90CA-16A5A5F47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ache.boston.com/universal/site_graphics/blogs/bigpicture/wad_10_17/wad27_16628963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vivid.ro/images/80/con1.jpg&amp;imgrefurl=http://www.vivid.ro/index.php/issue/80/page/conservation/tstamp/1147421171&amp;usg=__U6znm9ya6aaTSnW6GWqOkotNGw8=&amp;h=270&amp;w=270&amp;sz=81&amp;hl=en&amp;start=58&amp;tbnid=LbBY03Ewqrav5M:&amp;tbnh=113&amp;tbnw=113&amp;prev=/images%3Fq%3Drare%2Bromanain%2Banimals%26gbv%3D2%26ndsp%3D20%26hl%3Den%26sa%3DN%26start%3D40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g293.imageshack.us/img293/964/albinodeerki9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m/imgres?imgurl=http://por-img.cimcontent.net/api/assets/bin-200904/8acc230b27eda4760d4bce462e6c468d.jpg&amp;imgrefurl=http://www.comcast.net/slideshow/news-animals/14/&amp;usg=__jXQOHpaThAuC25oyE8Rqhtf7Uao=&amp;h=400&amp;w=419&amp;sz=32&amp;hl=en&amp;start=95&amp;tbnid=DFo-HWnmx7ydHM:&amp;tbnh=119&amp;tbnw=125&amp;prev=/images%3Fq%3Drare%2Bromanain%2Banimals%26gbv%3D2%26ndsp%3D20%26hl%3Den%26sa%3DN%26start%3D80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jpeg"/><Relationship Id="rId11" Type="http://schemas.openxmlformats.org/officeDocument/2006/relationships/image" Target="../media/image9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Romani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 capital city is Bucha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990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796000" cy="4349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380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is is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228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e Marker Ink"/>
              </a:rPr>
              <a:t>They have some of the rarest anim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800600"/>
            <a:ext cx="2514600" cy="2057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38280" y="373392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See full 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28954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48520" y="3809880"/>
            <a:ext cx="2895480" cy="3048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See full size image"/>
          <p:cNvPicPr/>
          <p:nvPr/>
        </p:nvPicPr>
        <p:blipFill>
          <a:blip r:embed="rId9"/>
          <a:stretch/>
        </p:blipFill>
        <p:spPr>
          <a:xfrm>
            <a:off x="7391520" y="2057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See full size image"/>
          <p:cNvPicPr/>
          <p:nvPr/>
        </p:nvPicPr>
        <p:blipFill>
          <a:blip r:embed="rId10"/>
          <a:stretch/>
        </p:blipFill>
        <p:spPr>
          <a:xfrm>
            <a:off x="5105520" y="205740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See full size image"/>
          <p:cNvPicPr/>
          <p:nvPr/>
        </p:nvPicPr>
        <p:blipFill>
          <a:blip r:embed="rId11"/>
          <a:stretch/>
        </p:blipFill>
        <p:spPr>
          <a:xfrm>
            <a:off x="2590920" y="1219320"/>
            <a:ext cx="251460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2:59Z</dcterms:created>
  <dc:creator>lslibrary</dc:creator>
  <dc:description/>
  <dc:language>en-US</dc:language>
  <cp:lastModifiedBy>lslibrary</cp:lastModifiedBy>
  <dcterms:modified xsi:type="dcterms:W3CDTF">2009-05-06T14:57:39Z</dcterms:modified>
  <cp:revision>3</cp:revision>
  <dc:subject/>
  <dc:title>Romania </dc:title>
</cp:coreProperties>
</file>