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318-0139-4B76-8BDA-6D43FBEB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9D7A-E65E-407C-A592-1A7CCAE1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EB4-2BFF-4E2F-8A9C-175B8F35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16D-F353-4CC7-B56B-1117CB3D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BE6-2177-488C-97BF-A276BF92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EB7-17F0-4087-9412-65B96A28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040-AF3D-4C3A-82B4-ABC4EB97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214-FBEF-4B8B-8395-E1F525D3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1D6-A908-4ABB-A1EF-AF965ECC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839-DD53-4C12-B04E-212EDC35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4D1-0CF5-468C-AEB3-A81A26D7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417-6F89-44EF-8913-1652605C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BA9C-BAA9-45FC-BB3B-CCE2EDE2E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pnews.in/files/PolandFlag.jpg&amp;imgrefurl=http://www.topnews.in/two-killed-polish-rescue-helicopter-accident-2126413&amp;h=299&amp;w=344&amp;sz=14&amp;tbnid=U3QmaZ_ySpWheM::&amp;tbnh=104&amp;tbnw=120&amp;prev=/images%3Fq%3Dpoland%2527s%2Bflag&amp;usg=__hXjVMOPsiI5GrBjEKRxaP6v_gPw=&amp;ei=npwBStqdM5PEMoq3reIH&amp;sa=X&amp;oi=image_result&amp;resnum=2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flag for 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ttp://www.topnews.in/two-killed-polish-rescue-helicopter-accident-2126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7652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n interesting map on a European country called Po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ap of Poland"/>
          <p:cNvPicPr/>
          <p:nvPr/>
        </p:nvPicPr>
        <p:blipFill>
          <a:blip r:embed="rId1"/>
          <a:stretch/>
        </p:blipFill>
        <p:spPr>
          <a:xfrm>
            <a:off x="457200" y="2514600"/>
            <a:ext cx="4438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n activity in 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park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File:POL Polkowice, Aquapark.jpg"/>
          <p:cNvPicPr/>
          <p:nvPr/>
        </p:nvPicPr>
        <p:blipFill>
          <a:blip r:embed="rId1"/>
          <a:stretch/>
        </p:blipFill>
        <p:spPr>
          <a:xfrm>
            <a:off x="609480" y="2590920"/>
            <a:ext cx="3810240" cy="361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File:Aqua panorama.jpg"/>
          <p:cNvPicPr/>
          <p:nvPr/>
        </p:nvPicPr>
        <p:blipFill>
          <a:blip r:embed="rId2"/>
          <a:stretch/>
        </p:blipFill>
        <p:spPr>
          <a:xfrm>
            <a:off x="4495680" y="3048120"/>
            <a:ext cx="3886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0:53Z</dcterms:created>
  <dc:creator>lslibrary</dc:creator>
  <dc:description/>
  <dc:language>en-US</dc:language>
  <cp:lastModifiedBy>lslibrary</cp:lastModifiedBy>
  <dcterms:modified xsi:type="dcterms:W3CDTF">2009-05-13T14:57:52Z</dcterms:modified>
  <cp:revision>5</cp:revision>
  <dc:subject/>
  <dc:title>Poland</dc:title>
</cp:coreProperties>
</file>