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CD99-8036-4B1E-A33E-02D35212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FE0-84FA-476B-807C-6ED9E236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7886-A1D9-4DEF-A622-B08043266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16D0-C27D-4651-83F4-77EC282A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17C4-4F3E-423E-8701-D11FC1A1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3361-E05E-45C6-96C6-93F34F13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AEC-05D7-44BE-9E18-78A520DD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D73-64E0-4690-BAAF-47668014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06B1-AD50-4E59-B2CB-747AE0BA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37D0-3BC5-4814-8120-EEAD47CB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FBA-D6A1-4139-99AF-F6755034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ED90-DED2-43DA-939E-E21702F0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A80F-A07F-4A45-8B24-E8DF3FBB5C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www.topnews.in/files/PolandFlag.jpg&amp;imgrefurl=http://www.topnews.in/two-killed-polish-rescue-helicopter-accident-2126413&amp;h=299&amp;w=344&amp;sz=14&amp;tbnid=U3QmaZ_ySpWheM::&amp;tbnh=104&amp;tbnw=120&amp;prev=/images%3Fq%3Dpoland%2527s%2Bflag&amp;usg=__hXjVMOPsiI5GrBjEKRxaP6v_gPw=&amp;ei=npwBStqdM5PEMoq3reIH&amp;sa=X&amp;oi=image_result&amp;resnum=2&amp;ct=imag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flag for 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http://www.topnews.in/two-killed-polish-rescue-helicopter-accident-2126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67652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n interesting map on a European country called Po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Map of Poland"/>
          <p:cNvPicPr/>
          <p:nvPr/>
        </p:nvPicPr>
        <p:blipFill>
          <a:blip r:embed="rId1"/>
          <a:stretch/>
        </p:blipFill>
        <p:spPr>
          <a:xfrm>
            <a:off x="457200" y="2514600"/>
            <a:ext cx="44388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n activity in Po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arks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File:POL Polkowice, Aquapark.jpg"/>
          <p:cNvPicPr/>
          <p:nvPr/>
        </p:nvPicPr>
        <p:blipFill>
          <a:blip r:embed="rId1"/>
          <a:stretch/>
        </p:blipFill>
        <p:spPr>
          <a:xfrm>
            <a:off x="609480" y="2590920"/>
            <a:ext cx="3810240" cy="3614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File:Aqua panorama.jpg"/>
          <p:cNvPicPr/>
          <p:nvPr/>
        </p:nvPicPr>
        <p:blipFill>
          <a:blip r:embed="rId2"/>
          <a:stretch/>
        </p:blipFill>
        <p:spPr>
          <a:xfrm>
            <a:off x="4495680" y="3048120"/>
            <a:ext cx="38862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0:53Z</dcterms:created>
  <dc:creator>lslibrary</dc:creator>
  <dc:description/>
  <dc:language>en-US</dc:language>
  <cp:lastModifiedBy>lslibrary</cp:lastModifiedBy>
  <dcterms:modified xsi:type="dcterms:W3CDTF">2009-05-13T14:57:52Z</dcterms:modified>
  <cp:revision>5</cp:revision>
  <dc:subject/>
  <dc:title>Poland</dc:title>
</cp:coreProperties>
</file>