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377E-5A8C-40FA-8F1E-C0F29EAFE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7B30-A84D-47BE-A06F-BAE5293F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04B0-3EDD-4B63-981F-396E187D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D1CD-55D6-4EF1-AB03-893AA6E5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375-799A-4F4F-83AB-652EE67F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B66-448F-4549-9D78-5034D0EF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051-B473-4431-9F89-F3F5452C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E09-60CF-4612-A722-9592E635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9FEC-5C50-4B45-980E-7D6E26FA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F6A1-6AE7-406A-B773-B4090C44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5B78-19C6-44C7-BEBE-2EFB6A84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3A1-4B2E-4841-9479-EFF68C6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DE3-CF32-47BB-AF49-FBF98C220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files/PolandFlag.jpg&amp;imgrefurl=http://www.topnews.in/two-killed-polish-rescue-helicopter-accident-2126413&amp;h=299&amp;w=344&amp;sz=14&amp;tbnid=U3QmaZ_ySpWheM::&amp;tbnh=104&amp;tbnw=120&amp;prev=/images%3Fq%3Dpoland%2527s%2Bflag&amp;usg=__hXjVMOPsiI5GrBjEKRxaP6v_gPw=&amp;ei=npwBStqdM5PEMoq3reI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for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w.topnews.in/two-killed-polish-rescue-helicopter-accident-212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n interesting map on a European country called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Poland"/>
          <p:cNvPicPr/>
          <p:nvPr/>
        </p:nvPicPr>
        <p:blipFill>
          <a:blip r:embed="rId1"/>
          <a:stretch/>
        </p:blipFill>
        <p:spPr>
          <a:xfrm>
            <a:off x="457200" y="2514600"/>
            <a:ext cx="443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ctivity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POL Polkowice, Aquapark.jpg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36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ile:Aqua panorama.jpg"/>
          <p:cNvPicPr/>
          <p:nvPr/>
        </p:nvPicPr>
        <p:blipFill>
          <a:blip r:embed="rId2"/>
          <a:stretch/>
        </p:blipFill>
        <p:spPr>
          <a:xfrm>
            <a:off x="4495680" y="30481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3Z</dcterms:created>
  <dc:creator>lslibrary</dc:creator>
  <dc:description/>
  <dc:language>en-US</dc:language>
  <cp:lastModifiedBy>lslibrary</cp:lastModifiedBy>
  <dcterms:modified xsi:type="dcterms:W3CDTF">2009-05-13T14:57:52Z</dcterms:modified>
  <cp:revision>5</cp:revision>
  <dc:subject/>
  <dc:title>Poland</dc:title>
</cp:coreProperties>
</file>