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3D76-8884-43F4-8033-185FA860F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31E5-D8ED-49A3-91DD-D2FB850FE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99AA-7382-49C7-9199-7FB7EA03C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9959-CBE8-4B10-8D4B-2CABE8830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8BCF-4CFF-4A64-BCD5-AFD49C632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4063-925D-4252-90F8-F521718DA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4A32-9E8C-466A-ADA9-7B75FA91F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B2B2-C4F4-4FEE-8F9E-0C71DEC83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1383-D57C-4770-9DEA-6D8495706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DF83-B971-4B85-B41E-89FF8FE2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0963-97C7-462E-AC2E-2112926D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B0C6-546F-45C9-8770-D33005E9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34877-9B70-4F54-A3FB-816241265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topnews.in/files/PolandFlag.jpg&amp;imgrefurl=http://www.topnews.in/two-killed-polish-rescue-helicopter-accident-2126413&amp;h=299&amp;w=344&amp;sz=14&amp;tbnid=U3QmaZ_ySpWheM::&amp;tbnh=104&amp;tbnw=120&amp;prev=/images%3Fq%3Dpoland%2527s%2Bflag&amp;usg=__hXjVMOPsiI5GrBjEKRxaP6v_gPw=&amp;ei=npwBStqdM5PEMoq3reIH&amp;sa=X&amp;oi=image_result&amp;resnum=2&amp;ct=image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s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flag for Po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http://www.topnews.in/two-killed-polish-rescue-helicopter-accident-212641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676520"/>
            <a:ext cx="44956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n interesting map on a European country called Po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Map of Poland"/>
          <p:cNvPicPr/>
          <p:nvPr/>
        </p:nvPicPr>
        <p:blipFill>
          <a:blip r:embed="rId1"/>
          <a:stretch/>
        </p:blipFill>
        <p:spPr>
          <a:xfrm>
            <a:off x="457200" y="2514600"/>
            <a:ext cx="44388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n activity in Po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243828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 parks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File:POL Polkowice, Aquapark.jpg"/>
          <p:cNvPicPr/>
          <p:nvPr/>
        </p:nvPicPr>
        <p:blipFill>
          <a:blip r:embed="rId1"/>
          <a:stretch/>
        </p:blipFill>
        <p:spPr>
          <a:xfrm>
            <a:off x="609480" y="2590920"/>
            <a:ext cx="3810240" cy="36147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File:Aqua panorama.jpg"/>
          <p:cNvPicPr/>
          <p:nvPr/>
        </p:nvPicPr>
        <p:blipFill>
          <a:blip r:embed="rId2"/>
          <a:stretch/>
        </p:blipFill>
        <p:spPr>
          <a:xfrm>
            <a:off x="4495680" y="3048120"/>
            <a:ext cx="38862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14:20:53Z</dcterms:created>
  <dc:creator>lslibrary</dc:creator>
  <dc:description/>
  <dc:language>en-US</dc:language>
  <cp:lastModifiedBy>lslibrary</cp:lastModifiedBy>
  <dcterms:modified xsi:type="dcterms:W3CDTF">2009-05-13T14:57:52Z</dcterms:modified>
  <cp:revision>5</cp:revision>
  <dc:subject/>
  <dc:title>Poland</dc:title>
</cp:coreProperties>
</file>