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6DA-FF54-40EE-A1AF-DA25663F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08B-F22E-458E-8234-1419A68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394-3D35-49E9-9431-22ABEDBD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66C-2449-47BE-A38B-B8F5576E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62C-0C43-4497-AB6E-E0E6DAEF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67B-9C00-4C2E-B0DA-3DD01E2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15D-DB4B-4426-8D9B-32AFD72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F0C-BF9C-417A-986E-5043E25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608-03CB-4719-A2B3-735B74E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D17-4C51-45F7-A135-FB49412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BC4-AAA9-4DF6-809C-C4155FD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C45-88B3-4486-9CD2-F0C52B8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D997-2131-4414-80B7-49ACF797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the_Netherland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sourceid=navclient&amp;rlz=1T4ADBF_enUS310US310&amp;q=netherlands+map&amp;um=1&amp;ie=UTF-8&amp;split=0&amp;gl=us&amp;ei=pJ0BSv_eAoaaMvWb3dU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0/Speed_skating_in_the_Netherland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050907-M-7747B-002-Judo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KK-liegend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en/d/dd/Kostevych_Munich_2006_event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upload.wikimedia.org/wikipedia/commons/d/d5/Dara_Torres_2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kaDylan Open"/>
              </a:rPr>
              <a:t>Netherla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Amsterd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Flag of  The Nether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059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Netherland’s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624852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the Netherla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-0.32994 C 0.04462 -0.34104 0.04323 -0.35214 0.03855 -0.36185 C 0.03664 -0.3711 0.03299 -0.37688 0.02882 -0.38497 C 0.02587 -0.39075 0.01927 -0.40185 0.01927 -0.40185 C 0.0165 -0.41295 0.00764 -0.41734 0.00018 -0.42312 C -0.01458 -0.43445 -0.02916 -0.44069 -0.04566 -0.44624 C -0.05208 -0.44832 -0.0585 -0.45063 -0.06475 -0.45272 C -0.06701 -0.45341 -0.06892 -0.4541 -0.07118 -0.4548 C -0.07309 -0.45549 -0.07743 -0.45688 -0.07743 -0.45688 C -0.08489 -0.46173 -0.08993 -0.46335 -0.09826 -0.46543 C -0.10816 -0.47191 -0.11892 -0.47306 -0.12968 -0.47584 C -0.15208 -0.48162 -0.17205 -0.48855 -0.19496 -0.49063 C -0.3158 -0.48647 -0.28003 -0.50589 -0.32986 -0.47792 C -0.33541 -0.47075 -0.3427 -0.46497 -0.34739 -0.45688 C -0.35139 -0.45017 -0.35312 -0.44069 -0.35833 -0.43584 C -0.35989 -0.43445 -0.3618 -0.43329 -0.36319 -0.43144 C -0.37326 -0.41803 -0.36458 -0.42266 -0.37586 -0.41873 C -0.38333 -0.40878 -0.37934 -0.41503 -0.38698 -0.39977 C -0.38958 -0.39468 -0.39444 -0.3926 -0.39826 -0.38913 C -0.40538 -0.38219 -0.41319 -0.37341 -0.42031 -0.36601 C -0.43055 -0.35537 -0.44062 -0.34636 -0.45191 -0.33641 C -0.46406 -0.32555 -0.47205 -0.30959 -0.48229 -0.29618 C -0.48559 -0.29156 -0.4901 -0.28809 -0.49323 -0.28347 C -0.5052 -0.26659 -0.51996 -0.24462 -0.52968 -0.22428 C -0.54843 -0.1852 -0.53402 -0.20439 -0.55364 -0.18196 C -0.5552 -0.1778 -0.55729 -0.17387 -0.55833 -0.16948 C -0.55937 -0.16532 -0.55868 -0.16069 -0.55989 -0.15676 C -0.56805 -0.12786 -0.56545 -0.14428 -0.57257 -0.12509 C -0.57569 -0.11676 -0.57725 -0.10636 -0.57899 -0.09757 C -0.5776 -0.0867 -0.57725 -0.07907 -0.57257 -0.07006 C -0.56788 -0.05063 -0.55816 -0.02751 -0.54722 -0.01295 C -0.54618 -0.00878 -0.54514 -0.00439 -0.54409 -0.00023 C -0.5427 0.00555 -0.53455 0.01249 -0.53455 0.01249 C -0.53194 0.02312 -0.52691 0.02359 -0.52187 0.03353 C -0.52083 0.03561 -0.52014 0.03838 -0.51857 0.04 C -0.51215 0.04717 -0.50208 0.04925 -0.49479 0.0548 C -0.48524 0.06197 -0.47656 0.06636 -0.46632 0.07168 C -0.44305 0.0837 -0.42291 0.09549 -0.39826 0.09919 C -0.38055 0.10682 -0.35764 0.10821 -0.33941 0.1096 C -0.32586 0.11723 -0.31232 0.11861 -0.29809 0.12231 C -0.2809 0.12671 -0.26458 0.13249 -0.24722 0.13503 C -0.18194 0.13411 -0.13333 0.14335 -0.07586 0.12439 C -0.06475 0.11491 -0.07916 0.12578 -0.06145 0.11815 C -0.0559 0.11561 -0.0493 0.1089 -0.04409 0.10544 C -0.03246 0.09757 -0.02066 0.08809 -0.01232 0.07376 C -0.0092 0.06104 0.00018 0.03445 0.00816 0.02728 C 0.0165 0.00833 0.02674 -0.00809 0.03855 -0.02358 C 0.04184 -0.02821 0.04358 -0.03491 0.04618 -0.04046 C 0.05157 -0.05179 0.04705 -0.04162 0.05434 -0.05318 C 0.06216 -0.06589 0.06528 -0.07815 0.075 -0.0911 C 0.07848 -0.10312 0.08039 -0.11561 0.08455 -0.12717 C 0.08716 -0.14474 0.0875 -0.14613 0.08611 -0.16717 C 0.08664 -0.18219 0.08316 -0.22798 0.09566 -0.24555 C 0.09705 -0.25087 0.10139 -0.2548 0.10191 -0.26035 C 0.10278 -0.27029 0.10157 -0.28023 0.10035 -0.28994 C 0.09844 -0.30474 0.08143 -0.30613 0.07344 -0.3089 C 0.06372 -0.31722 0.05556 -0.31607 0.04323 -0.31746 C 0.0441 -0.32162 0.04514 -0.32578 0.04618 -0.32994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peed skating in the Netherlan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124080"/>
            <a:ext cx="487656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685800"/>
            <a:ext cx="2133360" cy="25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Kostevych Munich 2006 ev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1066680"/>
            <a:ext cx="304776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Dara Torres 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3657600"/>
            <a:ext cx="3581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icture of a home for sale in the HomeScout real estate database.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4933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497196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ile:Panthera tigris amoyensis.jpg"/>
          <p:cNvPicPr/>
          <p:nvPr/>
        </p:nvPicPr>
        <p:blipFill>
          <a:blip r:embed="rId3"/>
          <a:stretch/>
        </p:blipFill>
        <p:spPr>
          <a:xfrm>
            <a:off x="5219640" y="2895480"/>
            <a:ext cx="39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0481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5Z</dcterms:created>
  <dc:creator>lslibrary</dc:creator>
  <dc:description/>
  <dc:language>en-US</dc:language>
  <cp:lastModifiedBy>lslibrary</cp:lastModifiedBy>
  <dcterms:modified xsi:type="dcterms:W3CDTF">2009-05-20T14:37:24Z</dcterms:modified>
  <cp:revision>6</cp:revision>
  <dc:subject/>
  <dc:title>Netherlands </dc:title>
</cp:coreProperties>
</file>