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B27-1564-45F5-80CD-D47385D5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8F92-B420-441D-A6AD-2A2CF3BC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3560-B634-49BC-815F-EF339ADD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6D4-7E1E-4FD6-8767-B054DAA0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CEB-A7D3-4CEF-800C-90DD10E2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B91-284B-417F-8102-7F7C3E21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9D9-9E11-428F-9991-8A0BE1C9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324D-7A8F-4764-8599-09B390C6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FDD-2C9A-4D04-B075-A86CE4C98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606B-3A94-4D1B-B083-423276A1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5794-E74B-487E-99B6-77224F99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CA3-180D-48CA-8BC0-F8FBB5A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34EF-BB3F-48B1-AEE0-C977B0CC3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of Malta is Vallet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52480" y="1371600"/>
            <a:ext cx="5791320" cy="5257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Flag of Mal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31828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Map of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8080" y="1638360"/>
            <a:ext cx="7286760" cy="521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the sport that Malta play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09680" y="1638360"/>
            <a:ext cx="4762800" cy="5219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emple in Mal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3:05Z</dcterms:created>
  <dc:creator>lslibrary</dc:creator>
  <dc:description/>
  <dc:language>en-US</dc:language>
  <cp:lastModifiedBy>lslibrary</cp:lastModifiedBy>
  <dcterms:modified xsi:type="dcterms:W3CDTF">2009-05-06T14:34:27Z</dcterms:modified>
  <cp:revision>2</cp:revision>
  <dc:subject/>
  <dc:title>Malta</dc:title>
</cp:coreProperties>
</file>