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4E82-EEBE-409C-8F6A-922921F60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A291-FFD4-43D1-9F2A-7D53962E9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0622-107F-4712-8EB3-45A96FEF7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37F4-017D-4659-B4D7-18B6F28BC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84E9-3BCF-4482-B261-E4A6292BC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28F2-2290-4C56-A01B-CBF8775C2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F633-8AA5-4BDC-9744-27B44B198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ABD1-DD59-4222-8BA4-AD2C8DD15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F2F0-564B-40CD-84D7-92C221B3D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F0CA-F412-49DF-973C-12A65E5A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B1BC-EE8E-4941-868C-DBD7280A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108D-2696-4AB8-A2F6-4599A0EC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BD260-CD16-46E4-8C23-0C68336DC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Mal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pital of Malta is Vallet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52480" y="1371600"/>
            <a:ext cx="5791320" cy="52578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Flag of Mal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318280" cy="5638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Map of Malt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8080" y="1638360"/>
            <a:ext cx="7286760" cy="521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the sport that Malta play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09680" y="1638360"/>
            <a:ext cx="4762800" cy="5219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emple in Malt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14:23:05Z</dcterms:created>
  <dc:creator>lslibrary</dc:creator>
  <dc:description/>
  <dc:language>en-US</dc:language>
  <cp:lastModifiedBy>lslibrary</cp:lastModifiedBy>
  <dcterms:modified xsi:type="dcterms:W3CDTF">2009-05-06T14:34:27Z</dcterms:modified>
  <cp:revision>2</cp:revision>
  <dc:subject/>
  <dc:title>Malta</dc:title>
</cp:coreProperties>
</file>