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3B3-4D0B-44FC-BC1D-24321F45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830-1E3F-4DDF-852E-0F093FA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53C-5C51-4C73-949D-E2E9E422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4D0-C7EB-4042-ACD5-F155B63E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06E-F506-458E-9B8B-30A08E16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1E0-0D4C-4A24-BB83-1572FBC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183-E513-4C85-A874-7DC6F42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0BC-077F-459F-9B41-36D9A2FA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A23-59E8-40A4-BF54-88748D31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BC9-2763-4693-B92D-9E00DB14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109-C7AF-4D3B-964D-8AE5908D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C8A-9044-45C2-826C-D63A8657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CE2E-FE87-43F1-99BB-35C0E16C2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Malta is Vall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of 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18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728676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sport that Malta pl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638360"/>
            <a:ext cx="476280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emple in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3:05Z</dcterms:created>
  <dc:creator>lslibrary</dc:creator>
  <dc:description/>
  <dc:language>en-US</dc:language>
  <cp:lastModifiedBy>lslibrary</cp:lastModifiedBy>
  <dcterms:modified xsi:type="dcterms:W3CDTF">2009-05-06T14:34:27Z</dcterms:modified>
  <cp:revision>2</cp:revision>
  <dc:subject/>
  <dc:title>Malta</dc:title>
</cp:coreProperties>
</file>